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FBF-14E4-44E8-AF92-EA0CFDC9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129-B6B3-42C3-9892-5BFA17F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A87-108B-4370-AC04-9170F547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ED2-41D9-4B36-898E-837F6FF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727B-40B5-487D-99CF-72CB0FE6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595D-CAB6-4710-AD6E-7490DD6F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8DD-063C-443A-BD93-4B3AC26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EAAE-29C6-46A2-AE8B-50ECF946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8E85-E3CA-4452-8F5C-53ED4D4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AD81-CC21-409F-8383-14B2346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4A6C-2F83-47B1-B18D-07575EF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3CC-D88C-4205-9FD2-1BA501DA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3E25-181C-4559-B5E3-36239C8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6E83-79AC-49B6-AF55-C11C97CE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D8FB-519E-4293-BA5C-1BDDBF8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F4C8-96FB-4208-A0FB-5FFB3EBD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03C-620D-409C-8A2D-C3CE4720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D00-07E6-487C-A590-BF269D2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5D7-3B86-4899-8B19-624D04E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94D-0EA6-43FC-A5F9-672C10D0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413-6ED9-446E-BFC3-A245903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B28-EE54-42EB-BB51-00B73A6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971-6DF5-471D-B438-4F4C7C7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902-8406-4678-A437-18FD50F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866-B5C8-4FCB-9D6C-7628F604B89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EBC-35AD-4F41-AFC6-B1851A5CF1A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彩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21120" y="2666880"/>
            <a:ext cx="61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      q       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06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声  母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eav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母鸡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358164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9880" y="99072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0200" y="454968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母 鸡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背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01000" y="3048120"/>
            <a:ext cx="15228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419720"/>
            <a:ext cx="15228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4120" y="4419720"/>
            <a:ext cx="1218960" cy="24382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1143000"/>
            <a:ext cx="5257800" cy="5715000"/>
            <a:chOff x="3124080" y="1143000"/>
            <a:chExt cx="5257800" cy="5715000"/>
          </a:xfrm>
        </p:grpSpPr>
        <p:sp>
          <p:nvSpPr>
            <p:cNvPr id="104" name=""/>
            <p:cNvSpPr/>
            <p:nvPr/>
          </p:nvSpPr>
          <p:spPr>
            <a:xfrm>
              <a:off x="6781680" y="1143000"/>
              <a:ext cx="1600200" cy="213372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7320" y="3124080"/>
              <a:ext cx="0" cy="34290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3352680"/>
              <a:ext cx="1143000" cy="1067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2514600"/>
              <a:ext cx="1295280" cy="1905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257440" y="4419720"/>
              <a:ext cx="304920" cy="2057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1523880"/>
              <a:ext cx="1524240" cy="2514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3962520"/>
              <a:ext cx="990360" cy="2895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46000" y="424980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</a:rPr>
              <a:t>气  球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8480" y="9907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水中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343400" y="3124080"/>
            <a:ext cx="4437000" cy="3416400"/>
            <a:chOff x="4343400" y="3124080"/>
            <a:chExt cx="4437000" cy="3416400"/>
          </a:xfrm>
        </p:grpSpPr>
        <p:pic>
          <p:nvPicPr>
            <p:cNvPr id="115" name="xigua510" descr=""/>
            <p:cNvPicPr/>
            <p:nvPr/>
          </p:nvPicPr>
          <p:blipFill>
            <a:blip r:embed="rId2"/>
            <a:stretch/>
          </p:blipFill>
          <p:spPr>
            <a:xfrm>
              <a:off x="5867280" y="3124080"/>
              <a:ext cx="2913120" cy="34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西瓜2" descr=""/>
            <p:cNvPicPr/>
            <p:nvPr/>
          </p:nvPicPr>
          <p:blipFill>
            <a:blip r:embed="rId3"/>
            <a:stretch/>
          </p:blipFill>
          <p:spPr>
            <a:xfrm>
              <a:off x="4343400" y="4191120"/>
              <a:ext cx="157464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822600" y="472428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Times New Roman"/>
              </a:rPr>
              <a:t>西  瓜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4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48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2971800"/>
            <a:ext cx="4952880" cy="3124080"/>
          </a:xfrm>
          <a:prstGeom prst="cloudCallout">
            <a:avLst>
              <a:gd name="adj1" fmla="val 63013"/>
              <a:gd name="adj2" fmla="val -47050"/>
            </a:avLst>
          </a:prstGeom>
          <a:solidFill>
            <a:srgbClr val="ffff9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38680" y="36576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考考你！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00400" y="1523880"/>
            <a:ext cx="373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 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2:36:08Z</dcterms:created>
  <dc:creator>Administrator</dc:creator>
  <dc:description/>
  <dc:language>en-US</dc:language>
  <cp:lastModifiedBy>Administrator</cp:lastModifiedBy>
  <dcterms:modified xsi:type="dcterms:W3CDTF">2003-09-14T14:08:32Z</dcterms:modified>
  <cp:revision>9</cp:revision>
  <dc:subject/>
  <dc:title>PowerPoint 演示文稿</dc:title>
</cp:coreProperties>
</file>