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5604-F9DD-43C5-B984-1DD1A116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B708-322B-47CA-BB7E-D4DDAB34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FA1-2217-49A5-81BF-2926E935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899-6BED-4057-B1AB-B0D34E62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FE3-4934-4473-838C-1D823920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D75-4D9F-4CDE-890B-FB9E935C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57F-06A5-40E0-ACB0-CFCF72C0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6E7-3E76-4A9B-9220-E659DFA1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663D-1635-4F61-9762-3DF6DC7A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4318-1334-46BE-AB5E-7DD4D291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9D2-49F2-4291-A92E-EE6426BC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49B-B2E1-4E60-8832-A5756121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CBB9-01FA-4582-A634-7C2A82FEF9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R_0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2514600"/>
            <a:ext cx="6657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上中下大小</a:t>
            </a:r>
            <a:endParaRPr b="1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G_008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6400800" y="533520"/>
            <a:ext cx="1981080" cy="1160280"/>
            <a:chOff x="6400800" y="533520"/>
            <a:chExt cx="1981080" cy="1160280"/>
          </a:xfrm>
        </p:grpSpPr>
        <p:sp>
          <p:nvSpPr>
            <p:cNvPr id="45" name=""/>
            <p:cNvSpPr/>
            <p:nvPr/>
          </p:nvSpPr>
          <p:spPr>
            <a:xfrm>
              <a:off x="6934320" y="533520"/>
              <a:ext cx="144756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6699"/>
                  </a:solidFill>
                  <a:latin typeface="Times New Roman"/>
                  <a:ea typeface="楷体_GB2312"/>
                </a:rPr>
                <a:t>上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400800" y="1066680"/>
              <a:ext cx="533520" cy="228600"/>
            </a:xfrm>
            <a:prstGeom prst="rightArrow">
              <a:avLst>
                <a:gd name="adj1" fmla="val 50000"/>
                <a:gd name="adj2" fmla="val 5834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5791320" y="3200400"/>
            <a:ext cx="2057400" cy="1160280"/>
            <a:chOff x="5791320" y="3200400"/>
            <a:chExt cx="2057400" cy="1160280"/>
          </a:xfrm>
        </p:grpSpPr>
        <p:sp>
          <p:nvSpPr>
            <p:cNvPr id="48" name=""/>
            <p:cNvSpPr/>
            <p:nvPr/>
          </p:nvSpPr>
          <p:spPr>
            <a:xfrm>
              <a:off x="6477120" y="3200400"/>
              <a:ext cx="1371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1ae680"/>
                  </a:solidFill>
                  <a:latin typeface="Times New Roman"/>
                  <a:ea typeface="楷体_GB2312"/>
                </a:rPr>
                <a:t>中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791320" y="365760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553080" y="5699160"/>
            <a:ext cx="1752840" cy="1160280"/>
            <a:chOff x="6553080" y="5699160"/>
            <a:chExt cx="1752840" cy="1160280"/>
          </a:xfrm>
        </p:grpSpPr>
        <p:sp>
          <p:nvSpPr>
            <p:cNvPr id="51" name=""/>
            <p:cNvSpPr/>
            <p:nvPr/>
          </p:nvSpPr>
          <p:spPr>
            <a:xfrm>
              <a:off x="6553080" y="5699160"/>
              <a:ext cx="9907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下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1000" y="6095880"/>
              <a:ext cx="304920" cy="533520"/>
            </a:xfrm>
            <a:custGeom>
              <a:avLst/>
              <a:gdLst>
                <a:gd name="textAreaLeft" fmla="*/ 40680 w 304920"/>
                <a:gd name="textAreaRight" fmla="*/ 264240 w 304920"/>
                <a:gd name="textAreaTop" fmla="*/ 93240 h 533520"/>
                <a:gd name="textAreaBottom" fmla="*/ 38700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304920" y="533520"/>
            <a:ext cx="8610480" cy="4114800"/>
            <a:chOff x="304920" y="533520"/>
            <a:chExt cx="8610480" cy="4114800"/>
          </a:xfrm>
        </p:grpSpPr>
        <p:pic>
          <p:nvPicPr>
            <p:cNvPr id="54" name="RM_0398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RM_0548" descr=""/>
            <p:cNvPicPr/>
            <p:nvPr/>
          </p:nvPicPr>
          <p:blipFill>
            <a:blip r:embed="rId2"/>
            <a:stretch/>
          </p:blipFill>
          <p:spPr>
            <a:xfrm>
              <a:off x="4952880" y="533520"/>
              <a:ext cx="3962520" cy="403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"/>
          <p:cNvSpPr txBox="1"/>
          <p:nvPr/>
        </p:nvSpPr>
        <p:spPr>
          <a:xfrm>
            <a:off x="1676520" y="4876920"/>
            <a:ext cx="1600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小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5880" y="4876920"/>
            <a:ext cx="1600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楷体_GB2312"/>
              </a:rPr>
              <a:t>大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M_0606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5486400"/>
            <a:ext cx="13716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小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4343400"/>
            <a:ext cx="16002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5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大</a:t>
            </a:r>
            <a:endParaRPr b="0" lang="en-US" sz="10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086600" y="457200"/>
            <a:ext cx="2057400" cy="1828800"/>
            <a:chOff x="7086600" y="457200"/>
            <a:chExt cx="2057400" cy="1828800"/>
          </a:xfrm>
        </p:grpSpPr>
        <p:sp>
          <p:nvSpPr>
            <p:cNvPr id="62" name=""/>
            <p:cNvSpPr/>
            <p:nvPr/>
          </p:nvSpPr>
          <p:spPr>
            <a:xfrm>
              <a:off x="7086600" y="457200"/>
              <a:ext cx="205740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56520" y="11430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爸爸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0" y="228600"/>
            <a:ext cx="1981080" cy="1676520"/>
            <a:chOff x="0" y="228600"/>
            <a:chExt cx="1981080" cy="1676520"/>
          </a:xfrm>
        </p:grpSpPr>
        <p:sp>
          <p:nvSpPr>
            <p:cNvPr id="65" name=""/>
            <p:cNvSpPr/>
            <p:nvPr/>
          </p:nvSpPr>
          <p:spPr>
            <a:xfrm>
              <a:off x="0" y="228600"/>
              <a:ext cx="1981080" cy="1676520"/>
            </a:xfrm>
            <a:prstGeom prst="wedgeEllipseCallout">
              <a:avLst>
                <a:gd name="adj1" fmla="val 46712"/>
                <a:gd name="adj2" fmla="val 6893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3960" y="76212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我是儿子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4:26:54Z</dcterms:created>
  <dc:creator>左敏</dc:creator>
  <dc:description/>
  <dc:language>en-US</dc:language>
  <cp:lastModifiedBy>左敏</cp:lastModifiedBy>
  <dcterms:modified xsi:type="dcterms:W3CDTF">2001-10-25T15:00:33Z</dcterms:modified>
  <cp:revision>13</cp:revision>
  <dc:subject/>
  <dc:title>PowerPoint 演示文稿</dc:title>
</cp:coreProperties>
</file>