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EDC-C681-4AC7-A4E7-B6BDF1D6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B0C-775A-4D31-81A5-1811FF01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48E-3B24-431B-8FB8-3B3A9369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B2C-374E-4D3F-A91C-E71DA263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E83-1F39-422E-97E4-7941A497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318-A94A-4233-B5E6-E1D4225A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DF8-6446-4DF1-93D7-897FF5D9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C68-D96F-4FE8-B090-6DA97B07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5C9-5401-4878-A316-E03E7430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193-BA10-4F11-A4FD-53D12D1D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3B8-6604-4180-9E8A-A58E5DD2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5CC-1DEE-4C5D-9534-AC2E620F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5219-9453-42D0-B552-1FB9509A29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R_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2514600"/>
            <a:ext cx="6657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上中下大小</a:t>
            </a:r>
            <a:endParaRPr b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G_008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400800" y="533520"/>
            <a:ext cx="1981080" cy="1160280"/>
            <a:chOff x="6400800" y="533520"/>
            <a:chExt cx="1981080" cy="1160280"/>
          </a:xfrm>
        </p:grpSpPr>
        <p:sp>
          <p:nvSpPr>
            <p:cNvPr id="45" name=""/>
            <p:cNvSpPr/>
            <p:nvPr/>
          </p:nvSpPr>
          <p:spPr>
            <a:xfrm>
              <a:off x="6934320" y="533520"/>
              <a:ext cx="1447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6699"/>
                  </a:solidFill>
                  <a:latin typeface="Times New Roman"/>
                  <a:ea typeface="楷体_GB2312"/>
                </a:rPr>
                <a:t>上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00800" y="106668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791320" y="3200400"/>
            <a:ext cx="2057400" cy="1160280"/>
            <a:chOff x="5791320" y="3200400"/>
            <a:chExt cx="2057400" cy="1160280"/>
          </a:xfrm>
        </p:grpSpPr>
        <p:sp>
          <p:nvSpPr>
            <p:cNvPr id="48" name=""/>
            <p:cNvSpPr/>
            <p:nvPr/>
          </p:nvSpPr>
          <p:spPr>
            <a:xfrm>
              <a:off x="6477120" y="3200400"/>
              <a:ext cx="1371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1ae680"/>
                  </a:solidFill>
                  <a:latin typeface="Times New Roman"/>
                  <a:ea typeface="楷体_GB2312"/>
                </a:rPr>
                <a:t>中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91320" y="365760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553080" y="5699160"/>
            <a:ext cx="1752840" cy="1160280"/>
            <a:chOff x="6553080" y="5699160"/>
            <a:chExt cx="1752840" cy="1160280"/>
          </a:xfrm>
        </p:grpSpPr>
        <p:sp>
          <p:nvSpPr>
            <p:cNvPr id="51" name=""/>
            <p:cNvSpPr/>
            <p:nvPr/>
          </p:nvSpPr>
          <p:spPr>
            <a:xfrm>
              <a:off x="6553080" y="5699160"/>
              <a:ext cx="990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下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1000" y="6095880"/>
              <a:ext cx="304920" cy="5335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04920" y="533520"/>
            <a:ext cx="8610480" cy="4114800"/>
            <a:chOff x="304920" y="533520"/>
            <a:chExt cx="8610480" cy="4114800"/>
          </a:xfrm>
        </p:grpSpPr>
        <p:pic>
          <p:nvPicPr>
            <p:cNvPr id="54" name="RM_0398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RM_0548" descr=""/>
            <p:cNvPicPr/>
            <p:nvPr/>
          </p:nvPicPr>
          <p:blipFill>
            <a:blip r:embed="rId2"/>
            <a:stretch/>
          </p:blipFill>
          <p:spPr>
            <a:xfrm>
              <a:off x="4952880" y="533520"/>
              <a:ext cx="396252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 txBox="1"/>
          <p:nvPr/>
        </p:nvSpPr>
        <p:spPr>
          <a:xfrm>
            <a:off x="1676520" y="4876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5880" y="4876920"/>
            <a:ext cx="1600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大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M_0606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5486400"/>
            <a:ext cx="1371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小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343400"/>
            <a:ext cx="1600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大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086600" y="457200"/>
            <a:ext cx="2057400" cy="1828800"/>
            <a:chOff x="7086600" y="457200"/>
            <a:chExt cx="2057400" cy="1828800"/>
          </a:xfrm>
        </p:grpSpPr>
        <p:sp>
          <p:nvSpPr>
            <p:cNvPr id="62" name=""/>
            <p:cNvSpPr/>
            <p:nvPr/>
          </p:nvSpPr>
          <p:spPr>
            <a:xfrm>
              <a:off x="7086600" y="457200"/>
              <a:ext cx="205740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56520" y="1143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爸爸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228600"/>
            <a:ext cx="1981080" cy="1676520"/>
            <a:chOff x="0" y="228600"/>
            <a:chExt cx="1981080" cy="1676520"/>
          </a:xfrm>
        </p:grpSpPr>
        <p:sp>
          <p:nvSpPr>
            <p:cNvPr id="65" name=""/>
            <p:cNvSpPr/>
            <p:nvPr/>
          </p:nvSpPr>
          <p:spPr>
            <a:xfrm>
              <a:off x="0" y="228600"/>
              <a:ext cx="1981080" cy="1676520"/>
            </a:xfrm>
            <a:prstGeom prst="wedgeEllipseCallout">
              <a:avLst>
                <a:gd name="adj1" fmla="val 46712"/>
                <a:gd name="adj2" fmla="val 6893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3960" y="7621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儿子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4:26:54Z</dcterms:created>
  <dc:creator>左敏</dc:creator>
  <dc:description/>
  <dc:language>en-US</dc:language>
  <cp:lastModifiedBy>左敏</cp:lastModifiedBy>
  <dcterms:modified xsi:type="dcterms:W3CDTF">2001-10-25T15:00:33Z</dcterms:modified>
  <cp:revision>13</cp:revision>
  <dc:subject/>
  <dc:title>PowerPoint 演示文稿</dc:title>
</cp:coreProperties>
</file>