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C39-82F6-4463-8EA5-80B49AE5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1EA-C63F-44C1-8DAC-246E9DC9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763-113E-4BF8-A0F2-CCB9B4A0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0AB-E611-4433-AA94-A0696B39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4013-7A22-4136-A506-986CAA9F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C369-8438-4E23-A993-8E256E77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1DE2-0B80-463D-8D70-B3B5E757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7FC5-5594-46B8-AFAC-02A83F68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2212-5890-4723-B131-86FD2DF9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4682-12AD-490A-BAE9-20644C75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F7BB-8D42-4286-927E-503DCA76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C76-9946-40E0-BB65-81DBA668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449F-D428-4D11-A625-FEA6D9E5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4660-E089-43AA-B073-F76EFE63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B187-9A81-4A24-AA33-C49ED2CD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B028-8E61-4CB5-8517-BA380E2D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FD17-E34A-45E4-A471-B7E5D168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500-9D27-4B33-B04C-31814D82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5FA-64E1-413E-8E62-4667EBCB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A472-EE60-4557-B52A-513ECAFE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AE9-702A-4491-9401-94EDBC87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605-6BB6-461B-ABD3-DB64831E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5B3-8FBD-4E01-8810-CAFAA22E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28D-4EB3-4CDD-B834-4CC6532D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4D86-CE23-4325-BE19-4C36FEB87444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F877-4BE8-4979-BFC2-0A50A9B73E4F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彩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21120" y="2666880"/>
            <a:ext cx="614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      q       x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06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声  母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leav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母鸡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3581640" cy="3200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39880" y="990720"/>
            <a:ext cx="49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0200" y="454968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黑体"/>
              </a:rPr>
              <a:t>母 鸡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背景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001000" y="3048120"/>
            <a:ext cx="152280" cy="7596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4419720"/>
            <a:ext cx="15228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4120" y="4419720"/>
            <a:ext cx="1218960" cy="243828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3434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9625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124080" y="1143000"/>
            <a:ext cx="5257800" cy="5715000"/>
            <a:chOff x="3124080" y="1143000"/>
            <a:chExt cx="5257800" cy="5715000"/>
          </a:xfrm>
        </p:grpSpPr>
        <p:sp>
          <p:nvSpPr>
            <p:cNvPr id="104" name=""/>
            <p:cNvSpPr/>
            <p:nvPr/>
          </p:nvSpPr>
          <p:spPr>
            <a:xfrm>
              <a:off x="6781680" y="1143000"/>
              <a:ext cx="1600200" cy="2133720"/>
            </a:xfrm>
            <a:prstGeom prst="ellipse">
              <a:avLst/>
            </a:prstGeom>
            <a:solidFill>
              <a:srgbClr val="c9ddf1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77320" y="3124080"/>
              <a:ext cx="0" cy="34290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43600" y="3352680"/>
              <a:ext cx="1143000" cy="106704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8320" y="2514600"/>
              <a:ext cx="1295280" cy="1905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257440" y="4419720"/>
              <a:ext cx="304920" cy="2057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24080" y="1523880"/>
              <a:ext cx="1524240" cy="2514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91120" y="3962520"/>
              <a:ext cx="990360" cy="289548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846000" y="4249800"/>
            <a:ext cx="162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99"/>
                </a:solidFill>
                <a:latin typeface="Times New Roman"/>
              </a:rPr>
              <a:t>气  球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8480" y="99072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水中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343400" y="3124080"/>
            <a:ext cx="4437000" cy="3416400"/>
            <a:chOff x="4343400" y="3124080"/>
            <a:chExt cx="4437000" cy="3416400"/>
          </a:xfrm>
        </p:grpSpPr>
        <p:pic>
          <p:nvPicPr>
            <p:cNvPr id="115" name="xigua510" descr=""/>
            <p:cNvPicPr/>
            <p:nvPr/>
          </p:nvPicPr>
          <p:blipFill>
            <a:blip r:embed="rId2"/>
            <a:stretch/>
          </p:blipFill>
          <p:spPr>
            <a:xfrm>
              <a:off x="5867280" y="3124080"/>
              <a:ext cx="2913120" cy="341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西瓜2" descr=""/>
            <p:cNvPicPr/>
            <p:nvPr/>
          </p:nvPicPr>
          <p:blipFill>
            <a:blip r:embed="rId3"/>
            <a:stretch/>
          </p:blipFill>
          <p:spPr>
            <a:xfrm>
              <a:off x="4343400" y="4191120"/>
              <a:ext cx="1574640" cy="20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822600" y="4724280"/>
            <a:ext cx="21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00"/>
                </a:solidFill>
                <a:latin typeface="Times New Roman"/>
              </a:rPr>
              <a:t>西  瓜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563400"/>
            <a:ext cx="121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148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2971800"/>
            <a:ext cx="4952880" cy="3124080"/>
          </a:xfrm>
          <a:prstGeom prst="cloudCallout">
            <a:avLst>
              <a:gd name="adj1" fmla="val 63013"/>
              <a:gd name="adj2" fmla="val -47050"/>
            </a:avLst>
          </a:prstGeom>
          <a:solidFill>
            <a:srgbClr val="ffff99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38680" y="36576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考考你！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00400" y="1523880"/>
            <a:ext cx="3733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j 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———  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ji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———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qi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———</a:t>
            </a: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xi</a:t>
            </a:r>
            <a:endParaRPr b="0" lang="en-US" sz="8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02:36:08Z</dcterms:created>
  <dc:creator>Administrator</dc:creator>
  <dc:description/>
  <dc:language>en-US</dc:language>
  <cp:lastModifiedBy>Administrator</cp:lastModifiedBy>
  <dcterms:modified xsi:type="dcterms:W3CDTF">2003-09-14T14:08:32Z</dcterms:modified>
  <cp:revision>9</cp:revision>
  <dc:subject/>
  <dc:title>PowerPoint 演示文稿</dc:title>
</cp:coreProperties>
</file>