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4FF5-7538-4F61-A661-8C0D31FF9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4A3F-17FE-4002-A4EB-9C4A62E39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AC74-48AD-41F0-A0DF-96A5664B3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9636-6413-42AF-8BDE-523ED4E73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AF6A-D639-4520-B2B7-D58BE8461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E70A-12E7-43CC-B248-E2F608145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3E64-336D-4E58-B29C-403847658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C018-097F-44C4-AA43-FE7AC945D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553D-903B-4D14-96F5-7EB8C9E73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46AF-F835-4F59-8432-D2618EA35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6AE3-401B-46EC-984F-E4F50F943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446C-8C36-475E-A096-D464D7E5D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21A02-0518-49C7-8891-598F9F28097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743200" y="2209680"/>
            <a:ext cx="4014720" cy="17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宋体"/>
              </a:rPr>
              <a:t>葡萄沟</a:t>
            </a:r>
            <a:endParaRPr b="1" lang="en-US" sz="66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2" name=""/>
          <p:cNvSpPr/>
          <p:nvPr/>
        </p:nvSpPr>
        <p:spPr>
          <a:xfrm>
            <a:off x="7010640" y="5670720"/>
            <a:ext cx="164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现代教育技术中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成都市盐道街小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152280" y="533520"/>
            <a:ext cx="2743200" cy="2958840"/>
            <a:chOff x="152280" y="533520"/>
            <a:chExt cx="2743200" cy="2958840"/>
          </a:xfrm>
        </p:grpSpPr>
        <p:pic>
          <p:nvPicPr>
            <p:cNvPr id="44" name="05" descr=""/>
            <p:cNvPicPr/>
            <p:nvPr/>
          </p:nvPicPr>
          <p:blipFill>
            <a:blip r:embed="rId1"/>
            <a:stretch/>
          </p:blipFill>
          <p:spPr>
            <a:xfrm>
              <a:off x="152280" y="533520"/>
              <a:ext cx="2743200" cy="235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609480" y="2971800"/>
              <a:ext cx="1828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红  的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3124080" y="533520"/>
            <a:ext cx="2819520" cy="2958840"/>
            <a:chOff x="3124080" y="533520"/>
            <a:chExt cx="2819520" cy="2958840"/>
          </a:xfrm>
        </p:grpSpPr>
        <p:pic>
          <p:nvPicPr>
            <p:cNvPr id="47" name="06" descr=""/>
            <p:cNvPicPr/>
            <p:nvPr/>
          </p:nvPicPr>
          <p:blipFill>
            <a:blip r:embed="rId2"/>
            <a:stretch/>
          </p:blipFill>
          <p:spPr>
            <a:xfrm>
              <a:off x="3124080" y="533520"/>
              <a:ext cx="2819520" cy="23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3581280" y="2971800"/>
              <a:ext cx="1828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白  的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6184800" y="533520"/>
            <a:ext cx="2806920" cy="2958840"/>
            <a:chOff x="6184800" y="533520"/>
            <a:chExt cx="2806920" cy="2958840"/>
          </a:xfrm>
        </p:grpSpPr>
        <p:pic>
          <p:nvPicPr>
            <p:cNvPr id="50" name="07" descr=""/>
            <p:cNvPicPr/>
            <p:nvPr/>
          </p:nvPicPr>
          <p:blipFill>
            <a:blip r:embed="rId3"/>
            <a:stretch/>
          </p:blipFill>
          <p:spPr>
            <a:xfrm>
              <a:off x="6184800" y="533520"/>
              <a:ext cx="2806920" cy="23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6629400" y="2971800"/>
              <a:ext cx="1828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紫  的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914400" y="3506760"/>
            <a:ext cx="3048120" cy="3124080"/>
            <a:chOff x="914400" y="3506760"/>
            <a:chExt cx="3048120" cy="3124080"/>
          </a:xfrm>
        </p:grpSpPr>
        <p:pic>
          <p:nvPicPr>
            <p:cNvPr id="53" name="08" descr=""/>
            <p:cNvPicPr/>
            <p:nvPr/>
          </p:nvPicPr>
          <p:blipFill>
            <a:blip r:embed="rId4"/>
            <a:stretch/>
          </p:blipFill>
          <p:spPr>
            <a:xfrm>
              <a:off x="914400" y="3506760"/>
              <a:ext cx="3048120" cy="25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1523880" y="6110280"/>
              <a:ext cx="1828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暗  红  的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5029200" y="3505320"/>
            <a:ext cx="3200400" cy="3125520"/>
            <a:chOff x="5029200" y="3505320"/>
            <a:chExt cx="3200400" cy="3125520"/>
          </a:xfrm>
        </p:grpSpPr>
        <p:pic>
          <p:nvPicPr>
            <p:cNvPr id="56" name="09" descr=""/>
            <p:cNvPicPr/>
            <p:nvPr/>
          </p:nvPicPr>
          <p:blipFill>
            <a:blip r:embed="rId5"/>
            <a:stretch/>
          </p:blipFill>
          <p:spPr>
            <a:xfrm>
              <a:off x="5029200" y="3505320"/>
              <a:ext cx="3200400" cy="255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5638680" y="6110280"/>
              <a:ext cx="1828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淡  绿  的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03" descr=""/>
          <p:cNvPicPr/>
          <p:nvPr/>
        </p:nvPicPr>
        <p:blipFill>
          <a:blip r:embed="rId1"/>
          <a:stretch/>
        </p:blipFill>
        <p:spPr>
          <a:xfrm>
            <a:off x="914400" y="533520"/>
            <a:ext cx="6324480" cy="5638680"/>
          </a:xfrm>
          <a:prstGeom prst="rect">
            <a:avLst/>
          </a:prstGeom>
          <a:ln w="76320">
            <a:solidFill>
              <a:srgbClr val="666699"/>
            </a:solidFill>
            <a:miter/>
          </a:ln>
        </p:spPr>
      </p:pic>
      <p:sp>
        <p:nvSpPr>
          <p:cNvPr id="59" name=""/>
          <p:cNvSpPr/>
          <p:nvPr/>
        </p:nvSpPr>
        <p:spPr>
          <a:xfrm>
            <a:off x="6677640" y="914400"/>
            <a:ext cx="200916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五 光 十 色</a:t>
            </a:r>
            <a:r>
              <a:rPr b="0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739280" y="219384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66"/>
                </a:solidFill>
                <a:latin typeface="Times New Roman"/>
                <a:ea typeface="楷体_GB2312"/>
              </a:rPr>
              <a:t>光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20T13:15:59Z</dcterms:created>
  <dc:creator>Ying Ying</dc:creator>
  <dc:description/>
  <dc:language>en-US</dc:language>
  <cp:lastModifiedBy>hdk</cp:lastModifiedBy>
  <dcterms:modified xsi:type="dcterms:W3CDTF">1998-09-02T02:59:15Z</dcterms:modified>
  <cp:revision>7</cp:revision>
  <dc:subject/>
  <dc:title>没有幻灯片标题</dc:title>
</cp:coreProperties>
</file>