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17.png" ContentType="image/png"/>
  <Override PartName="/ppt/media/image8.gif" ContentType="image/gif"/>
  <Override PartName="/ppt/media/image16.png" ContentType="image/png"/>
  <Override PartName="/ppt/media/image7.gif" ContentType="image/gif"/>
  <Override PartName="/ppt/media/image15.png" ContentType="image/png"/>
  <Override PartName="/ppt/media/image14.jpeg" ContentType="image/jpeg"/>
  <Override PartName="/ppt/media/image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13.jpeg" ContentType="image/jpe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497-FBB6-4E23-BE7A-39E255F6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9F7-A72C-41CA-AE07-DB8D08F6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AB3-C4BE-4ED0-922D-B57C2DAF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E1E-F33B-4FB4-B8F7-717D6C0E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158-C899-4757-99A3-55B71096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62A-A9DE-44A8-AC18-64E455CE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DCF0-F3BE-45A1-A714-E500BCD6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022-71A7-46D8-A24E-52F1B0C8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EDB-D0A4-4417-9341-F0F44A8D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F9C-60AC-41AE-88B0-0B429C63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43A-4673-4AD9-BABC-57CB1E0F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281-1243-4F6F-BAAB-9CA8356F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F54E-94C5-4573-A50E-BFD547FD7D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2.gi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8.gif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3573360"/>
            <a:ext cx="7056720" cy="1451160"/>
          </a:xfrm>
          <a:custGeom>
            <a:avLst/>
            <a:gdLst/>
            <a:ahLst/>
            <a:rect l="l" t="t" r="r" b="b"/>
            <a:pathLst>
              <a:path w="3396" h="2294">
                <a:moveTo>
                  <a:pt x="0" y="2210"/>
                </a:moveTo>
                <a:cubicBezTo>
                  <a:pt x="186" y="1862"/>
                  <a:pt x="794" y="268"/>
                  <a:pt x="1116" y="134"/>
                </a:cubicBezTo>
                <a:cubicBezTo>
                  <a:pt x="1438" y="0"/>
                  <a:pt x="1662" y="1316"/>
                  <a:pt x="1932" y="1406"/>
                </a:cubicBezTo>
                <a:cubicBezTo>
                  <a:pt x="2202" y="1496"/>
                  <a:pt x="2492" y="526"/>
                  <a:pt x="2736" y="674"/>
                </a:cubicBezTo>
                <a:cubicBezTo>
                  <a:pt x="2980" y="822"/>
                  <a:pt x="3259" y="1957"/>
                  <a:pt x="3396" y="2294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6360" y="4869000"/>
            <a:ext cx="9270720" cy="1800000"/>
          </a:xfrm>
          <a:custGeom>
            <a:avLst/>
            <a:gdLst/>
            <a:ahLst/>
            <a:rect l="l" t="t" r="r" b="b"/>
            <a:pathLst>
              <a:path w="5840" h="1134">
                <a:moveTo>
                  <a:pt x="0" y="1102"/>
                </a:moveTo>
                <a:cubicBezTo>
                  <a:pt x="61" y="981"/>
                  <a:pt x="5" y="869"/>
                  <a:pt x="95" y="785"/>
                </a:cubicBezTo>
                <a:cubicBezTo>
                  <a:pt x="169" y="715"/>
                  <a:pt x="253" y="611"/>
                  <a:pt x="335" y="557"/>
                </a:cubicBezTo>
                <a:cubicBezTo>
                  <a:pt x="687" y="324"/>
                  <a:pt x="465" y="604"/>
                  <a:pt x="847" y="415"/>
                </a:cubicBezTo>
                <a:cubicBezTo>
                  <a:pt x="904" y="387"/>
                  <a:pt x="956" y="342"/>
                  <a:pt x="1016" y="319"/>
                </a:cubicBezTo>
                <a:cubicBezTo>
                  <a:pt x="1098" y="289"/>
                  <a:pt x="1299" y="278"/>
                  <a:pt x="1379" y="272"/>
                </a:cubicBezTo>
                <a:cubicBezTo>
                  <a:pt x="1720" y="245"/>
                  <a:pt x="2051" y="218"/>
                  <a:pt x="2394" y="208"/>
                </a:cubicBezTo>
                <a:cubicBezTo>
                  <a:pt x="2515" y="196"/>
                  <a:pt x="2637" y="196"/>
                  <a:pt x="2757" y="176"/>
                </a:cubicBezTo>
                <a:cubicBezTo>
                  <a:pt x="2950" y="144"/>
                  <a:pt x="3143" y="89"/>
                  <a:pt x="3338" y="64"/>
                </a:cubicBezTo>
                <a:cubicBezTo>
                  <a:pt x="3611" y="28"/>
                  <a:pt x="3886" y="25"/>
                  <a:pt x="4160" y="0"/>
                </a:cubicBezTo>
                <a:cubicBezTo>
                  <a:pt x="4402" y="5"/>
                  <a:pt x="4644" y="8"/>
                  <a:pt x="4886" y="16"/>
                </a:cubicBezTo>
                <a:cubicBezTo>
                  <a:pt x="5104" y="24"/>
                  <a:pt x="5321" y="77"/>
                  <a:pt x="5539" y="96"/>
                </a:cubicBezTo>
                <a:cubicBezTo>
                  <a:pt x="5543" y="97"/>
                  <a:pt x="5622" y="114"/>
                  <a:pt x="5635" y="128"/>
                </a:cubicBezTo>
                <a:cubicBezTo>
                  <a:pt x="5690" y="184"/>
                  <a:pt x="5724" y="254"/>
                  <a:pt x="5781" y="303"/>
                </a:cubicBezTo>
                <a:cubicBezTo>
                  <a:pt x="5840" y="615"/>
                  <a:pt x="5793" y="346"/>
                  <a:pt x="5793" y="1134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00720" y="2637000"/>
            <a:ext cx="1932120" cy="249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27080" y="5972040"/>
            <a:ext cx="9274320" cy="962280"/>
          </a:xfrm>
          <a:custGeom>
            <a:avLst/>
            <a:gdLst/>
            <a:ahLst/>
            <a:rect l="l" t="t" r="r" b="b"/>
            <a:pathLst>
              <a:path w="5842" h="606">
                <a:moveTo>
                  <a:pt x="68" y="594"/>
                </a:moveTo>
                <a:cubicBezTo>
                  <a:pt x="122" y="544"/>
                  <a:pt x="0" y="226"/>
                  <a:pt x="140" y="138"/>
                </a:cubicBezTo>
                <a:cubicBezTo>
                  <a:pt x="280" y="50"/>
                  <a:pt x="768" y="80"/>
                  <a:pt x="908" y="66"/>
                </a:cubicBezTo>
                <a:cubicBezTo>
                  <a:pt x="932" y="62"/>
                  <a:pt x="957" y="62"/>
                  <a:pt x="980" y="54"/>
                </a:cubicBezTo>
                <a:cubicBezTo>
                  <a:pt x="994" y="49"/>
                  <a:pt x="1002" y="35"/>
                  <a:pt x="1016" y="30"/>
                </a:cubicBezTo>
                <a:cubicBezTo>
                  <a:pt x="1056" y="17"/>
                  <a:pt x="1221" y="7"/>
                  <a:pt x="1232" y="6"/>
                </a:cubicBezTo>
                <a:cubicBezTo>
                  <a:pt x="1500" y="16"/>
                  <a:pt x="1731" y="28"/>
                  <a:pt x="2000" y="18"/>
                </a:cubicBezTo>
                <a:cubicBezTo>
                  <a:pt x="2142" y="0"/>
                  <a:pt x="2270" y="38"/>
                  <a:pt x="2408" y="42"/>
                </a:cubicBezTo>
                <a:cubicBezTo>
                  <a:pt x="2816" y="53"/>
                  <a:pt x="3224" y="50"/>
                  <a:pt x="3632" y="54"/>
                </a:cubicBezTo>
                <a:cubicBezTo>
                  <a:pt x="3864" y="83"/>
                  <a:pt x="3761" y="65"/>
                  <a:pt x="3944" y="102"/>
                </a:cubicBezTo>
                <a:cubicBezTo>
                  <a:pt x="4522" y="95"/>
                  <a:pt x="5106" y="102"/>
                  <a:pt x="5684" y="66"/>
                </a:cubicBezTo>
                <a:cubicBezTo>
                  <a:pt x="5739" y="52"/>
                  <a:pt x="5774" y="60"/>
                  <a:pt x="5828" y="78"/>
                </a:cubicBezTo>
                <a:cubicBezTo>
                  <a:pt x="5842" y="134"/>
                  <a:pt x="5828" y="566"/>
                  <a:pt x="5828" y="606"/>
                </a:cubicBezTo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0720" y="333360"/>
            <a:ext cx="2158920" cy="3959280"/>
          </a:xfrm>
          <a:custGeom>
            <a:avLst/>
            <a:gdLst/>
            <a:ahLst/>
            <a:rect l="l" t="t" r="r" b="b"/>
            <a:pathLst>
              <a:path w="1360" h="2494">
                <a:moveTo>
                  <a:pt x="1360" y="2494"/>
                </a:moveTo>
                <a:cubicBezTo>
                  <a:pt x="1247" y="1999"/>
                  <a:pt x="1134" y="1504"/>
                  <a:pt x="907" y="1088"/>
                </a:cubicBezTo>
                <a:cubicBezTo>
                  <a:pt x="680" y="672"/>
                  <a:pt x="151" y="181"/>
                  <a:pt x="0" y="0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62000" y="4457880"/>
            <a:ext cx="379440" cy="552240"/>
            <a:chOff x="1962000" y="4457880"/>
            <a:chExt cx="379440" cy="552240"/>
          </a:xfrm>
        </p:grpSpPr>
        <p:sp>
          <p:nvSpPr>
            <p:cNvPr id="47" name=""/>
            <p:cNvSpPr/>
            <p:nvPr/>
          </p:nvSpPr>
          <p:spPr>
            <a:xfrm>
              <a:off x="2071800" y="4457880"/>
              <a:ext cx="269640" cy="419040"/>
            </a:xfrm>
            <a:custGeom>
              <a:avLst/>
              <a:gdLst/>
              <a:ahLst/>
              <a:rect l="l" t="t" r="r" b="b"/>
              <a:pathLst>
                <a:path w="170" h="264">
                  <a:moveTo>
                    <a:pt x="147" y="0"/>
                  </a:moveTo>
                  <a:cubicBezTo>
                    <a:pt x="135" y="8"/>
                    <a:pt x="124" y="18"/>
                    <a:pt x="111" y="24"/>
                  </a:cubicBezTo>
                  <a:cubicBezTo>
                    <a:pt x="100" y="30"/>
                    <a:pt x="84" y="27"/>
                    <a:pt x="75" y="36"/>
                  </a:cubicBezTo>
                  <a:cubicBezTo>
                    <a:pt x="55" y="56"/>
                    <a:pt x="27" y="108"/>
                    <a:pt x="27" y="108"/>
                  </a:cubicBezTo>
                  <a:cubicBezTo>
                    <a:pt x="13" y="166"/>
                    <a:pt x="0" y="205"/>
                    <a:pt x="15" y="264"/>
                  </a:cubicBezTo>
                  <a:cubicBezTo>
                    <a:pt x="91" y="239"/>
                    <a:pt x="90" y="222"/>
                    <a:pt x="123" y="156"/>
                  </a:cubicBezTo>
                  <a:cubicBezTo>
                    <a:pt x="170" y="63"/>
                    <a:pt x="129" y="174"/>
                    <a:pt x="159" y="84"/>
                  </a:cubicBezTo>
                  <a:cubicBezTo>
                    <a:pt x="145" y="16"/>
                    <a:pt x="147" y="44"/>
                    <a:pt x="14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62000" y="4819680"/>
              <a:ext cx="19080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84" y="0"/>
                  </a:moveTo>
                  <a:cubicBezTo>
                    <a:pt x="80" y="12"/>
                    <a:pt x="81" y="27"/>
                    <a:pt x="72" y="36"/>
                  </a:cubicBezTo>
                  <a:cubicBezTo>
                    <a:pt x="52" y="56"/>
                    <a:pt x="0" y="84"/>
                    <a:pt x="0" y="84"/>
                  </a:cubicBezTo>
                  <a:cubicBezTo>
                    <a:pt x="16" y="88"/>
                    <a:pt x="33" y="90"/>
                    <a:pt x="48" y="96"/>
                  </a:cubicBezTo>
                  <a:cubicBezTo>
                    <a:pt x="61" y="102"/>
                    <a:pt x="70" y="120"/>
                    <a:pt x="84" y="120"/>
                  </a:cubicBezTo>
                  <a:cubicBezTo>
                    <a:pt x="98" y="120"/>
                    <a:pt x="120" y="110"/>
                    <a:pt x="120" y="96"/>
                  </a:cubicBezTo>
                  <a:cubicBezTo>
                    <a:pt x="120" y="62"/>
                    <a:pt x="96" y="32"/>
                    <a:pt x="84" y="0"/>
                  </a:cubicBez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71880" y="4552920"/>
              <a:ext cx="95040" cy="114480"/>
            </a:xfrm>
            <a:custGeom>
              <a:avLst/>
              <a:gdLst/>
              <a:ahLst/>
              <a:rect l="l" t="t" r="r" b="b"/>
              <a:pathLst>
                <a:path w="60" h="72">
                  <a:moveTo>
                    <a:pt x="0" y="0"/>
                  </a:moveTo>
                  <a:cubicBezTo>
                    <a:pt x="13" y="38"/>
                    <a:pt x="13" y="72"/>
                    <a:pt x="60" y="72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14720" y="4527720"/>
              <a:ext cx="7272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68360" y="333360"/>
            <a:ext cx="3152880" cy="1258920"/>
          </a:xfrm>
          <a:custGeom>
            <a:avLst/>
            <a:gdLst/>
            <a:ahLst/>
            <a:rect l="l" t="t" r="r" b="b"/>
            <a:pathLst>
              <a:path w="1986" h="793">
                <a:moveTo>
                  <a:pt x="485" y="117"/>
                </a:moveTo>
                <a:cubicBezTo>
                  <a:pt x="541" y="85"/>
                  <a:pt x="590" y="37"/>
                  <a:pt x="653" y="21"/>
                </a:cubicBezTo>
                <a:cubicBezTo>
                  <a:pt x="738" y="0"/>
                  <a:pt x="829" y="9"/>
                  <a:pt x="917" y="9"/>
                </a:cubicBezTo>
                <a:cubicBezTo>
                  <a:pt x="1133" y="9"/>
                  <a:pt x="1349" y="17"/>
                  <a:pt x="1565" y="21"/>
                </a:cubicBezTo>
                <a:cubicBezTo>
                  <a:pt x="1677" y="88"/>
                  <a:pt x="1736" y="86"/>
                  <a:pt x="1673" y="213"/>
                </a:cubicBezTo>
                <a:cubicBezTo>
                  <a:pt x="1713" y="233"/>
                  <a:pt x="1750" y="262"/>
                  <a:pt x="1793" y="273"/>
                </a:cubicBezTo>
                <a:cubicBezTo>
                  <a:pt x="1986" y="321"/>
                  <a:pt x="1945" y="220"/>
                  <a:pt x="1973" y="333"/>
                </a:cubicBezTo>
                <a:cubicBezTo>
                  <a:pt x="1957" y="346"/>
                  <a:pt x="1803" y="462"/>
                  <a:pt x="1781" y="501"/>
                </a:cubicBezTo>
                <a:cubicBezTo>
                  <a:pt x="1775" y="512"/>
                  <a:pt x="1789" y="525"/>
                  <a:pt x="1793" y="537"/>
                </a:cubicBezTo>
                <a:cubicBezTo>
                  <a:pt x="1777" y="565"/>
                  <a:pt x="1776" y="613"/>
                  <a:pt x="1745" y="621"/>
                </a:cubicBezTo>
                <a:cubicBezTo>
                  <a:pt x="1629" y="652"/>
                  <a:pt x="1504" y="631"/>
                  <a:pt x="1385" y="645"/>
                </a:cubicBezTo>
                <a:cubicBezTo>
                  <a:pt x="1240" y="663"/>
                  <a:pt x="1097" y="693"/>
                  <a:pt x="953" y="717"/>
                </a:cubicBezTo>
                <a:cubicBezTo>
                  <a:pt x="1025" y="729"/>
                  <a:pt x="1097" y="744"/>
                  <a:pt x="1169" y="753"/>
                </a:cubicBezTo>
                <a:cubicBezTo>
                  <a:pt x="1358" y="777"/>
                  <a:pt x="1477" y="751"/>
                  <a:pt x="1097" y="789"/>
                </a:cubicBezTo>
                <a:cubicBezTo>
                  <a:pt x="701" y="777"/>
                  <a:pt x="541" y="793"/>
                  <a:pt x="233" y="537"/>
                </a:cubicBezTo>
                <a:cubicBezTo>
                  <a:pt x="241" y="497"/>
                  <a:pt x="223" y="440"/>
                  <a:pt x="257" y="417"/>
                </a:cubicBezTo>
                <a:cubicBezTo>
                  <a:pt x="303" y="385"/>
                  <a:pt x="369" y="405"/>
                  <a:pt x="425" y="405"/>
                </a:cubicBezTo>
                <a:cubicBezTo>
                  <a:pt x="489" y="405"/>
                  <a:pt x="681" y="417"/>
                  <a:pt x="617" y="417"/>
                </a:cubicBezTo>
                <a:cubicBezTo>
                  <a:pt x="421" y="417"/>
                  <a:pt x="225" y="409"/>
                  <a:pt x="29" y="405"/>
                </a:cubicBezTo>
                <a:cubicBezTo>
                  <a:pt x="61" y="373"/>
                  <a:pt x="84" y="328"/>
                  <a:pt x="125" y="309"/>
                </a:cubicBezTo>
                <a:cubicBezTo>
                  <a:pt x="176" y="286"/>
                  <a:pt x="345" y="307"/>
                  <a:pt x="293" y="285"/>
                </a:cubicBezTo>
                <a:cubicBezTo>
                  <a:pt x="216" y="252"/>
                  <a:pt x="125" y="277"/>
                  <a:pt x="41" y="273"/>
                </a:cubicBezTo>
                <a:cubicBezTo>
                  <a:pt x="33" y="257"/>
                  <a:pt x="0" y="230"/>
                  <a:pt x="17" y="225"/>
                </a:cubicBezTo>
                <a:cubicBezTo>
                  <a:pt x="105" y="197"/>
                  <a:pt x="332" y="219"/>
                  <a:pt x="425" y="225"/>
                </a:cubicBezTo>
                <a:cubicBezTo>
                  <a:pt x="464" y="167"/>
                  <a:pt x="443" y="202"/>
                  <a:pt x="485" y="117"/>
                </a:cubicBezTo>
                <a:close/>
              </a:path>
            </a:pathLst>
          </a:custGeom>
          <a:gradFill rotWithShape="0">
            <a:gsLst>
              <a:gs pos="0">
                <a:srgbClr val="0066ff">
                  <a:alpha val="15294"/>
                </a:srgbClr>
              </a:gs>
              <a:gs pos="100000">
                <a:srgbClr val="66cc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1125360"/>
            <a:ext cx="2232000" cy="609840"/>
          </a:xfrm>
          <a:custGeom>
            <a:avLst/>
            <a:gdLst/>
            <a:ahLst/>
            <a:rect l="l" t="t" r="r" b="b"/>
            <a:pathLst>
              <a:path w="1986" h="793">
                <a:moveTo>
                  <a:pt x="485" y="117"/>
                </a:moveTo>
                <a:cubicBezTo>
                  <a:pt x="541" y="85"/>
                  <a:pt x="590" y="37"/>
                  <a:pt x="653" y="21"/>
                </a:cubicBezTo>
                <a:cubicBezTo>
                  <a:pt x="738" y="0"/>
                  <a:pt x="829" y="9"/>
                  <a:pt x="917" y="9"/>
                </a:cubicBezTo>
                <a:cubicBezTo>
                  <a:pt x="1133" y="9"/>
                  <a:pt x="1349" y="17"/>
                  <a:pt x="1565" y="21"/>
                </a:cubicBezTo>
                <a:cubicBezTo>
                  <a:pt x="1677" y="88"/>
                  <a:pt x="1736" y="86"/>
                  <a:pt x="1673" y="213"/>
                </a:cubicBezTo>
                <a:cubicBezTo>
                  <a:pt x="1713" y="233"/>
                  <a:pt x="1750" y="262"/>
                  <a:pt x="1793" y="273"/>
                </a:cubicBezTo>
                <a:cubicBezTo>
                  <a:pt x="1986" y="321"/>
                  <a:pt x="1945" y="220"/>
                  <a:pt x="1973" y="333"/>
                </a:cubicBezTo>
                <a:cubicBezTo>
                  <a:pt x="1957" y="346"/>
                  <a:pt x="1803" y="462"/>
                  <a:pt x="1781" y="501"/>
                </a:cubicBezTo>
                <a:cubicBezTo>
                  <a:pt x="1775" y="512"/>
                  <a:pt x="1789" y="525"/>
                  <a:pt x="1793" y="537"/>
                </a:cubicBezTo>
                <a:cubicBezTo>
                  <a:pt x="1777" y="565"/>
                  <a:pt x="1776" y="613"/>
                  <a:pt x="1745" y="621"/>
                </a:cubicBezTo>
                <a:cubicBezTo>
                  <a:pt x="1629" y="652"/>
                  <a:pt x="1504" y="631"/>
                  <a:pt x="1385" y="645"/>
                </a:cubicBezTo>
                <a:cubicBezTo>
                  <a:pt x="1240" y="663"/>
                  <a:pt x="1097" y="693"/>
                  <a:pt x="953" y="717"/>
                </a:cubicBezTo>
                <a:cubicBezTo>
                  <a:pt x="1025" y="729"/>
                  <a:pt x="1097" y="744"/>
                  <a:pt x="1169" y="753"/>
                </a:cubicBezTo>
                <a:cubicBezTo>
                  <a:pt x="1358" y="777"/>
                  <a:pt x="1477" y="751"/>
                  <a:pt x="1097" y="789"/>
                </a:cubicBezTo>
                <a:cubicBezTo>
                  <a:pt x="701" y="777"/>
                  <a:pt x="541" y="793"/>
                  <a:pt x="233" y="537"/>
                </a:cubicBezTo>
                <a:cubicBezTo>
                  <a:pt x="241" y="497"/>
                  <a:pt x="223" y="440"/>
                  <a:pt x="257" y="417"/>
                </a:cubicBezTo>
                <a:cubicBezTo>
                  <a:pt x="303" y="385"/>
                  <a:pt x="369" y="405"/>
                  <a:pt x="425" y="405"/>
                </a:cubicBezTo>
                <a:cubicBezTo>
                  <a:pt x="489" y="405"/>
                  <a:pt x="681" y="417"/>
                  <a:pt x="617" y="417"/>
                </a:cubicBezTo>
                <a:cubicBezTo>
                  <a:pt x="421" y="417"/>
                  <a:pt x="225" y="409"/>
                  <a:pt x="29" y="405"/>
                </a:cubicBezTo>
                <a:cubicBezTo>
                  <a:pt x="61" y="373"/>
                  <a:pt x="84" y="328"/>
                  <a:pt x="125" y="309"/>
                </a:cubicBezTo>
                <a:cubicBezTo>
                  <a:pt x="176" y="286"/>
                  <a:pt x="345" y="307"/>
                  <a:pt x="293" y="285"/>
                </a:cubicBezTo>
                <a:cubicBezTo>
                  <a:pt x="216" y="252"/>
                  <a:pt x="125" y="277"/>
                  <a:pt x="41" y="273"/>
                </a:cubicBezTo>
                <a:cubicBezTo>
                  <a:pt x="33" y="257"/>
                  <a:pt x="0" y="230"/>
                  <a:pt x="17" y="225"/>
                </a:cubicBezTo>
                <a:cubicBezTo>
                  <a:pt x="105" y="197"/>
                  <a:pt x="332" y="219"/>
                  <a:pt x="425" y="225"/>
                </a:cubicBezTo>
                <a:cubicBezTo>
                  <a:pt x="464" y="167"/>
                  <a:pt x="443" y="202"/>
                  <a:pt x="485" y="117"/>
                </a:cubicBezTo>
                <a:close/>
              </a:path>
            </a:pathLst>
          </a:custGeom>
          <a:gradFill rotWithShape="0">
            <a:gsLst>
              <a:gs pos="0">
                <a:srgbClr val="0066ff">
                  <a:alpha val="15294"/>
                </a:srgbClr>
              </a:gs>
              <a:gs pos="100000">
                <a:srgbClr val="66cc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1052640"/>
            <a:ext cx="2521080" cy="1041120"/>
          </a:xfrm>
          <a:custGeom>
            <a:avLst/>
            <a:gdLst/>
            <a:ahLst/>
            <a:rect l="l" t="t" r="r" b="b"/>
            <a:pathLst>
              <a:path w="1986" h="793">
                <a:moveTo>
                  <a:pt x="485" y="117"/>
                </a:moveTo>
                <a:cubicBezTo>
                  <a:pt x="541" y="85"/>
                  <a:pt x="590" y="37"/>
                  <a:pt x="653" y="21"/>
                </a:cubicBezTo>
                <a:cubicBezTo>
                  <a:pt x="738" y="0"/>
                  <a:pt x="829" y="9"/>
                  <a:pt x="917" y="9"/>
                </a:cubicBezTo>
                <a:cubicBezTo>
                  <a:pt x="1133" y="9"/>
                  <a:pt x="1349" y="17"/>
                  <a:pt x="1565" y="21"/>
                </a:cubicBezTo>
                <a:cubicBezTo>
                  <a:pt x="1677" y="88"/>
                  <a:pt x="1736" y="86"/>
                  <a:pt x="1673" y="213"/>
                </a:cubicBezTo>
                <a:cubicBezTo>
                  <a:pt x="1713" y="233"/>
                  <a:pt x="1750" y="262"/>
                  <a:pt x="1793" y="273"/>
                </a:cubicBezTo>
                <a:cubicBezTo>
                  <a:pt x="1986" y="321"/>
                  <a:pt x="1945" y="220"/>
                  <a:pt x="1973" y="333"/>
                </a:cubicBezTo>
                <a:cubicBezTo>
                  <a:pt x="1957" y="346"/>
                  <a:pt x="1803" y="462"/>
                  <a:pt x="1781" y="501"/>
                </a:cubicBezTo>
                <a:cubicBezTo>
                  <a:pt x="1775" y="512"/>
                  <a:pt x="1789" y="525"/>
                  <a:pt x="1793" y="537"/>
                </a:cubicBezTo>
                <a:cubicBezTo>
                  <a:pt x="1777" y="565"/>
                  <a:pt x="1776" y="613"/>
                  <a:pt x="1745" y="621"/>
                </a:cubicBezTo>
                <a:cubicBezTo>
                  <a:pt x="1629" y="652"/>
                  <a:pt x="1504" y="631"/>
                  <a:pt x="1385" y="645"/>
                </a:cubicBezTo>
                <a:cubicBezTo>
                  <a:pt x="1240" y="663"/>
                  <a:pt x="1097" y="693"/>
                  <a:pt x="953" y="717"/>
                </a:cubicBezTo>
                <a:cubicBezTo>
                  <a:pt x="1025" y="729"/>
                  <a:pt x="1097" y="744"/>
                  <a:pt x="1169" y="753"/>
                </a:cubicBezTo>
                <a:cubicBezTo>
                  <a:pt x="1358" y="777"/>
                  <a:pt x="1477" y="751"/>
                  <a:pt x="1097" y="789"/>
                </a:cubicBezTo>
                <a:cubicBezTo>
                  <a:pt x="701" y="777"/>
                  <a:pt x="541" y="793"/>
                  <a:pt x="233" y="537"/>
                </a:cubicBezTo>
                <a:cubicBezTo>
                  <a:pt x="241" y="497"/>
                  <a:pt x="223" y="440"/>
                  <a:pt x="257" y="417"/>
                </a:cubicBezTo>
                <a:cubicBezTo>
                  <a:pt x="303" y="385"/>
                  <a:pt x="369" y="405"/>
                  <a:pt x="425" y="405"/>
                </a:cubicBezTo>
                <a:cubicBezTo>
                  <a:pt x="489" y="405"/>
                  <a:pt x="681" y="417"/>
                  <a:pt x="617" y="417"/>
                </a:cubicBezTo>
                <a:cubicBezTo>
                  <a:pt x="421" y="417"/>
                  <a:pt x="225" y="409"/>
                  <a:pt x="29" y="405"/>
                </a:cubicBezTo>
                <a:cubicBezTo>
                  <a:pt x="61" y="373"/>
                  <a:pt x="84" y="328"/>
                  <a:pt x="125" y="309"/>
                </a:cubicBezTo>
                <a:cubicBezTo>
                  <a:pt x="176" y="286"/>
                  <a:pt x="345" y="307"/>
                  <a:pt x="293" y="285"/>
                </a:cubicBezTo>
                <a:cubicBezTo>
                  <a:pt x="216" y="252"/>
                  <a:pt x="125" y="277"/>
                  <a:pt x="41" y="273"/>
                </a:cubicBezTo>
                <a:cubicBezTo>
                  <a:pt x="33" y="257"/>
                  <a:pt x="0" y="230"/>
                  <a:pt x="17" y="225"/>
                </a:cubicBezTo>
                <a:cubicBezTo>
                  <a:pt x="105" y="197"/>
                  <a:pt x="332" y="219"/>
                  <a:pt x="425" y="225"/>
                </a:cubicBezTo>
                <a:cubicBezTo>
                  <a:pt x="464" y="167"/>
                  <a:pt x="443" y="202"/>
                  <a:pt x="485" y="117"/>
                </a:cubicBezTo>
                <a:close/>
              </a:path>
            </a:pathLst>
          </a:custGeom>
          <a:gradFill rotWithShape="0">
            <a:gsLst>
              <a:gs pos="0">
                <a:srgbClr val="0066ff">
                  <a:alpha val="15294"/>
                </a:srgbClr>
              </a:gs>
              <a:gs pos="100000">
                <a:srgbClr val="66cc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781800">
            <a:off x="755280" y="981000"/>
            <a:ext cx="5400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1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cc3300"/>
                </a:solidFill>
                <a:latin typeface="华文彩云"/>
              </a:rPr>
              <a:t>两步应用题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cc3300"/>
              </a:solidFill>
              <a:latin typeface="华文彩云"/>
              <a:ea typeface="华文彩云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141120"/>
            <a:ext cx="4643640" cy="4367520"/>
          </a:xfrm>
          <a:custGeom>
            <a:avLst/>
            <a:gdLst/>
            <a:ahLst/>
            <a:rect l="l" t="t" r="r" b="b"/>
            <a:pathLst>
              <a:path w="2925" h="2751">
                <a:moveTo>
                  <a:pt x="1406" y="121"/>
                </a:moveTo>
                <a:cubicBezTo>
                  <a:pt x="1939" y="60"/>
                  <a:pt x="2472" y="0"/>
                  <a:pt x="2676" y="166"/>
                </a:cubicBezTo>
                <a:cubicBezTo>
                  <a:pt x="2880" y="332"/>
                  <a:pt x="2925" y="929"/>
                  <a:pt x="2630" y="1118"/>
                </a:cubicBezTo>
                <a:cubicBezTo>
                  <a:pt x="2335" y="1307"/>
                  <a:pt x="1345" y="1028"/>
                  <a:pt x="907" y="1300"/>
                </a:cubicBezTo>
                <a:cubicBezTo>
                  <a:pt x="469" y="1572"/>
                  <a:pt x="234" y="2161"/>
                  <a:pt x="0" y="2751"/>
                </a:cubicBez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53960" y="6138720"/>
            <a:ext cx="2360880" cy="22392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6453360"/>
            <a:ext cx="2360520" cy="7920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6669000"/>
            <a:ext cx="2360520" cy="15084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381720"/>
            <a:ext cx="2360880" cy="150840"/>
          </a:xfrm>
          <a:custGeom>
            <a:avLst/>
            <a:gdLst/>
            <a:ahLst/>
            <a:rect l="l" t="t" r="r" b="b"/>
            <a:pathLst>
              <a:path w="1487" h="141">
                <a:moveTo>
                  <a:pt x="59" y="81"/>
                </a:moveTo>
                <a:cubicBezTo>
                  <a:pt x="505" y="0"/>
                  <a:pt x="1048" y="62"/>
                  <a:pt x="1487" y="69"/>
                </a:cubicBezTo>
                <a:cubicBezTo>
                  <a:pt x="1303" y="79"/>
                  <a:pt x="1122" y="83"/>
                  <a:pt x="947" y="141"/>
                </a:cubicBezTo>
                <a:cubicBezTo>
                  <a:pt x="706" y="61"/>
                  <a:pt x="588" y="100"/>
                  <a:pt x="251" y="93"/>
                </a:cubicBezTo>
                <a:cubicBezTo>
                  <a:pt x="219" y="89"/>
                  <a:pt x="187" y="85"/>
                  <a:pt x="155" y="81"/>
                </a:cubicBezTo>
                <a:cubicBezTo>
                  <a:pt x="22" y="66"/>
                  <a:pt x="0" y="51"/>
                  <a:pt x="59" y="81"/>
                </a:cubicBezTo>
                <a:close/>
              </a:path>
            </a:pathLst>
          </a:cu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85080" y="4508640"/>
            <a:ext cx="863640" cy="78084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4797360"/>
            <a:ext cx="432000" cy="70956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4508640"/>
            <a:ext cx="1077840" cy="78084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36360" y="5589720"/>
            <a:ext cx="792000" cy="636480"/>
          </a:xfrm>
          <a:custGeom>
            <a:avLst/>
            <a:gdLst/>
            <a:ahLst/>
            <a:rect l="l" t="t" r="r" b="b"/>
            <a:pathLst>
              <a:path w="588" h="492">
                <a:moveTo>
                  <a:pt x="0" y="492"/>
                </a:moveTo>
                <a:cubicBezTo>
                  <a:pt x="71" y="421"/>
                  <a:pt x="80" y="312"/>
                  <a:pt x="96" y="216"/>
                </a:cubicBezTo>
                <a:cubicBezTo>
                  <a:pt x="92" y="192"/>
                  <a:pt x="84" y="168"/>
                  <a:pt x="84" y="144"/>
                </a:cubicBezTo>
                <a:cubicBezTo>
                  <a:pt x="84" y="128"/>
                  <a:pt x="91" y="176"/>
                  <a:pt x="96" y="192"/>
                </a:cubicBezTo>
                <a:cubicBezTo>
                  <a:pt x="142" y="340"/>
                  <a:pt x="118" y="297"/>
                  <a:pt x="168" y="372"/>
                </a:cubicBezTo>
                <a:cubicBezTo>
                  <a:pt x="194" y="240"/>
                  <a:pt x="168" y="377"/>
                  <a:pt x="204" y="144"/>
                </a:cubicBezTo>
                <a:cubicBezTo>
                  <a:pt x="211" y="96"/>
                  <a:pt x="228" y="0"/>
                  <a:pt x="228" y="0"/>
                </a:cubicBezTo>
                <a:cubicBezTo>
                  <a:pt x="246" y="64"/>
                  <a:pt x="259" y="128"/>
                  <a:pt x="276" y="192"/>
                </a:cubicBezTo>
                <a:cubicBezTo>
                  <a:pt x="285" y="224"/>
                  <a:pt x="300" y="288"/>
                  <a:pt x="300" y="288"/>
                </a:cubicBezTo>
                <a:cubicBezTo>
                  <a:pt x="322" y="212"/>
                  <a:pt x="317" y="151"/>
                  <a:pt x="372" y="96"/>
                </a:cubicBezTo>
                <a:cubicBezTo>
                  <a:pt x="376" y="120"/>
                  <a:pt x="382" y="144"/>
                  <a:pt x="384" y="168"/>
                </a:cubicBezTo>
                <a:cubicBezTo>
                  <a:pt x="390" y="224"/>
                  <a:pt x="341" y="327"/>
                  <a:pt x="396" y="336"/>
                </a:cubicBezTo>
                <a:cubicBezTo>
                  <a:pt x="463" y="346"/>
                  <a:pt x="492" y="240"/>
                  <a:pt x="540" y="192"/>
                </a:cubicBezTo>
                <a:cubicBezTo>
                  <a:pt x="556" y="176"/>
                  <a:pt x="588" y="144"/>
                  <a:pt x="588" y="144"/>
                </a:cubicBezTo>
                <a:cubicBezTo>
                  <a:pt x="556" y="271"/>
                  <a:pt x="568" y="207"/>
                  <a:pt x="552" y="336"/>
                </a:cubicBezTo>
                <a:cubicBezTo>
                  <a:pt x="565" y="417"/>
                  <a:pt x="553" y="386"/>
                  <a:pt x="576" y="432"/>
                </a:cubicBez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6095880"/>
            <a:ext cx="3429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楷体_GB2312"/>
              </a:rPr>
              <a:t>深圳市布心小学    邓伟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763640" y="3062160"/>
            <a:ext cx="2737080" cy="596880"/>
            <a:chOff x="1763640" y="3062160"/>
            <a:chExt cx="2737080" cy="596880"/>
          </a:xfrm>
        </p:grpSpPr>
        <p:sp>
          <p:nvSpPr>
            <p:cNvPr id="242" name=""/>
            <p:cNvSpPr/>
            <p:nvPr/>
          </p:nvSpPr>
          <p:spPr>
            <a:xfrm>
              <a:off x="1763640" y="306216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3057840" y="234360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909800" y="3711240"/>
            <a:ext cx="2517480" cy="143280"/>
            <a:chOff x="1909800" y="3711240"/>
            <a:chExt cx="2517480" cy="143280"/>
          </a:xfrm>
        </p:grpSpPr>
        <p:sp>
          <p:nvSpPr>
            <p:cNvPr id="245" name=""/>
            <p:cNvSpPr/>
            <p:nvPr/>
          </p:nvSpPr>
          <p:spPr>
            <a:xfrm>
              <a:off x="1909800" y="38545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909800" y="3711240"/>
              <a:ext cx="2517120" cy="142920"/>
              <a:chOff x="1909800" y="3711240"/>
              <a:chExt cx="2517120" cy="142920"/>
            </a:xfrm>
          </p:grpSpPr>
          <p:sp>
            <p:nvSpPr>
              <p:cNvPr id="247" name=""/>
              <p:cNvSpPr/>
              <p:nvPr/>
            </p:nvSpPr>
            <p:spPr>
              <a:xfrm flipV="1">
                <a:off x="1909800" y="37112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4426920" y="37112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"/>
          <p:cNvSpPr/>
          <p:nvPr/>
        </p:nvSpPr>
        <p:spPr>
          <a:xfrm>
            <a:off x="2134080" y="20098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63640" y="3068640"/>
            <a:ext cx="2737080" cy="791640"/>
            <a:chOff x="1763640" y="3068640"/>
            <a:chExt cx="2737080" cy="791640"/>
          </a:xfrm>
        </p:grpSpPr>
        <p:grpSp>
          <p:nvGrpSpPr>
            <p:cNvPr id="251" name=""/>
            <p:cNvGrpSpPr/>
            <p:nvPr/>
          </p:nvGrpSpPr>
          <p:grpSpPr>
            <a:xfrm>
              <a:off x="1763640" y="3068640"/>
              <a:ext cx="2737080" cy="596160"/>
              <a:chOff x="1763640" y="3068640"/>
              <a:chExt cx="2737080" cy="596160"/>
            </a:xfrm>
          </p:grpSpPr>
          <p:sp>
            <p:nvSpPr>
              <p:cNvPr id="252" name=""/>
              <p:cNvSpPr/>
              <p:nvPr/>
            </p:nvSpPr>
            <p:spPr>
              <a:xfrm>
                <a:off x="1763640" y="3068640"/>
                <a:ext cx="273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黄猫抓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400000">
                <a:off x="3058200" y="2349360"/>
                <a:ext cx="164520" cy="2465640"/>
              </a:xfrm>
              <a:custGeom>
                <a:avLst/>
                <a:gdLst>
                  <a:gd name="textAreaLeft" fmla="*/ 105120 w 164520"/>
                  <a:gd name="textAreaRight" fmla="*/ 164880 w 164520"/>
                  <a:gd name="textAreaTop" fmla="*/ 64080 h 2465640"/>
                  <a:gd name="textAreaBottom" fmla="*/ 2401560 h 246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8986"/>
                    </a:lnTo>
                    <a:cubicBezTo>
                      <a:pt x="10800" y="9886"/>
                      <a:pt x="5400" y="10786"/>
                      <a:pt x="0" y="10786"/>
                    </a:cubicBezTo>
                    <a:cubicBezTo>
                      <a:pt x="5400" y="10786"/>
                      <a:pt x="10800" y="11686"/>
                      <a:pt x="10800" y="1258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908000" y="3717720"/>
              <a:ext cx="2519280" cy="142560"/>
              <a:chOff x="1908000" y="3717720"/>
              <a:chExt cx="2519280" cy="142560"/>
            </a:xfrm>
          </p:grpSpPr>
          <p:sp>
            <p:nvSpPr>
              <p:cNvPr id="255" name=""/>
              <p:cNvSpPr/>
              <p:nvPr/>
            </p:nvSpPr>
            <p:spPr>
              <a:xfrm>
                <a:off x="1908000" y="3860280"/>
                <a:ext cx="251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908000" y="3717720"/>
                <a:ext cx="2518920" cy="142560"/>
                <a:chOff x="1908000" y="3717720"/>
                <a:chExt cx="2518920" cy="142560"/>
              </a:xfrm>
            </p:grpSpPr>
            <p:sp>
              <p:nvSpPr>
                <p:cNvPr id="257" name=""/>
                <p:cNvSpPr/>
                <p:nvPr/>
              </p:nvSpPr>
              <p:spPr>
                <a:xfrm flipV="1">
                  <a:off x="1908000" y="37177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4426920" y="37177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908000" y="4365720"/>
            <a:ext cx="2737080" cy="596880"/>
            <a:chOff x="1908000" y="4365720"/>
            <a:chExt cx="2737080" cy="596880"/>
          </a:xfrm>
        </p:grpSpPr>
        <p:sp>
          <p:nvSpPr>
            <p:cNvPr id="260" name=""/>
            <p:cNvSpPr/>
            <p:nvPr/>
          </p:nvSpPr>
          <p:spPr>
            <a:xfrm>
              <a:off x="1908000" y="4365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3202200" y="3647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054160" y="5014440"/>
            <a:ext cx="2517480" cy="143280"/>
            <a:chOff x="2054160" y="5014440"/>
            <a:chExt cx="2517480" cy="143280"/>
          </a:xfrm>
        </p:grpSpPr>
        <p:sp>
          <p:nvSpPr>
            <p:cNvPr id="263" name=""/>
            <p:cNvSpPr/>
            <p:nvPr/>
          </p:nvSpPr>
          <p:spPr>
            <a:xfrm>
              <a:off x="2054160" y="5157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5014440"/>
              <a:ext cx="2517120" cy="142920"/>
              <a:chOff x="2054160" y="5014440"/>
              <a:chExt cx="2517120" cy="14292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2054160" y="5014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4571280" y="5014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4213080" y="4446720"/>
            <a:ext cx="2305080" cy="718560"/>
            <a:chOff x="4213080" y="4446720"/>
            <a:chExt cx="2305080" cy="718560"/>
          </a:xfrm>
        </p:grpSpPr>
        <p:grpSp>
          <p:nvGrpSpPr>
            <p:cNvPr id="268" name=""/>
            <p:cNvGrpSpPr/>
            <p:nvPr/>
          </p:nvGrpSpPr>
          <p:grpSpPr>
            <a:xfrm>
              <a:off x="4573440" y="5022720"/>
              <a:ext cx="1577520" cy="142560"/>
              <a:chOff x="4573440" y="5022720"/>
              <a:chExt cx="1577520" cy="14256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573440" y="5022720"/>
                <a:ext cx="1577160" cy="142560"/>
                <a:chOff x="4573440" y="5022720"/>
                <a:chExt cx="1577160" cy="142560"/>
              </a:xfrm>
            </p:grpSpPr>
            <p:sp>
              <p:nvSpPr>
                <p:cNvPr id="270" name=""/>
                <p:cNvSpPr/>
                <p:nvPr/>
              </p:nvSpPr>
              <p:spPr>
                <a:xfrm flipV="1">
                  <a:off x="457344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615060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4573440" y="5165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13080" y="4446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5400000">
              <a:off x="5325480" y="4125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4573440" y="5022720"/>
              <a:ext cx="1577520" cy="142560"/>
              <a:chOff x="4573440" y="5022720"/>
              <a:chExt cx="1577520" cy="14256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4573440" y="5022720"/>
                <a:ext cx="1577160" cy="142560"/>
                <a:chOff x="4573440" y="5022720"/>
                <a:chExt cx="1577160" cy="142560"/>
              </a:xfrm>
            </p:grpSpPr>
            <p:sp>
              <p:nvSpPr>
                <p:cNvPr id="277" name=""/>
                <p:cNvSpPr/>
                <p:nvPr/>
              </p:nvSpPr>
              <p:spPr>
                <a:xfrm flipV="1">
                  <a:off x="457344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6150600" y="5022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>
                <a:off x="4573440" y="5165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rot="5400000">
              <a:off x="5325480" y="4125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392920" y="765000"/>
            <a:ext cx="439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猫抓的鱼比黄猫和黑猫抓的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，白猫抓了多少条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283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909800" y="2707920"/>
            <a:ext cx="2517480" cy="143280"/>
            <a:chOff x="1909800" y="2707920"/>
            <a:chExt cx="2517480" cy="143280"/>
          </a:xfrm>
        </p:grpSpPr>
        <p:sp>
          <p:nvSpPr>
            <p:cNvPr id="286" name=""/>
            <p:cNvSpPr/>
            <p:nvPr/>
          </p:nvSpPr>
          <p:spPr>
            <a:xfrm>
              <a:off x="1909800" y="285120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909800" y="2707920"/>
              <a:ext cx="2517120" cy="142920"/>
              <a:chOff x="1909800" y="2707920"/>
              <a:chExt cx="2517120" cy="142920"/>
            </a:xfrm>
          </p:grpSpPr>
          <p:sp>
            <p:nvSpPr>
              <p:cNvPr id="288" name=""/>
              <p:cNvSpPr/>
              <p:nvPr/>
            </p:nvSpPr>
            <p:spPr>
              <a:xfrm flipV="1">
                <a:off x="190980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42692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291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293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00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09800" y="2852640"/>
            <a:ext cx="41022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07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909800" y="2707920"/>
            <a:ext cx="2517480" cy="143280"/>
            <a:chOff x="1909800" y="2707920"/>
            <a:chExt cx="2517480" cy="143280"/>
          </a:xfrm>
        </p:grpSpPr>
        <p:sp>
          <p:nvSpPr>
            <p:cNvPr id="310" name=""/>
            <p:cNvSpPr/>
            <p:nvPr/>
          </p:nvSpPr>
          <p:spPr>
            <a:xfrm>
              <a:off x="1909800" y="285120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1909800" y="2707920"/>
              <a:ext cx="2517120" cy="142920"/>
              <a:chOff x="1909800" y="2707920"/>
              <a:chExt cx="2517120" cy="142920"/>
            </a:xfrm>
          </p:grpSpPr>
          <p:sp>
            <p:nvSpPr>
              <p:cNvPr id="312" name=""/>
              <p:cNvSpPr/>
              <p:nvPr/>
            </p:nvSpPr>
            <p:spPr>
              <a:xfrm flipV="1">
                <a:off x="190980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442692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315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17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24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329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的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11032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80000" y="29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09800" y="2852640"/>
            <a:ext cx="41022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5758920" y="2816640"/>
            <a:ext cx="145800" cy="360360"/>
          </a:xfrm>
          <a:custGeom>
            <a:avLst/>
            <a:gdLst>
              <a:gd name="textAreaLeft" fmla="*/ 93240 w 145800"/>
              <a:gd name="textAreaRight" fmla="*/ 146160 w 1458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37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909800" y="2707920"/>
            <a:ext cx="2517480" cy="143280"/>
            <a:chOff x="1909800" y="2707920"/>
            <a:chExt cx="2517480" cy="143280"/>
          </a:xfrm>
        </p:grpSpPr>
        <p:sp>
          <p:nvSpPr>
            <p:cNvPr id="340" name=""/>
            <p:cNvSpPr/>
            <p:nvPr/>
          </p:nvSpPr>
          <p:spPr>
            <a:xfrm>
              <a:off x="1909800" y="285120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909800" y="2707920"/>
              <a:ext cx="2517120" cy="142920"/>
              <a:chOff x="1909800" y="2707920"/>
              <a:chExt cx="2517120" cy="1429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190980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4426920" y="270792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345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47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54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359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80000" y="29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9800" y="2852640"/>
            <a:ext cx="41022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5758920" y="2816640"/>
            <a:ext cx="145800" cy="360360"/>
          </a:xfrm>
          <a:custGeom>
            <a:avLst/>
            <a:gdLst>
              <a:gd name="textAreaLeft" fmla="*/ 93240 w 145800"/>
              <a:gd name="textAreaRight" fmla="*/ 146160 w 1458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67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909800" y="2701440"/>
            <a:ext cx="2517480" cy="143280"/>
            <a:chOff x="1909800" y="2701440"/>
            <a:chExt cx="2517480" cy="143280"/>
          </a:xfrm>
        </p:grpSpPr>
        <p:sp>
          <p:nvSpPr>
            <p:cNvPr id="370" name=""/>
            <p:cNvSpPr/>
            <p:nvPr/>
          </p:nvSpPr>
          <p:spPr>
            <a:xfrm>
              <a:off x="1909800" y="2844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1909800" y="2701440"/>
              <a:ext cx="2517120" cy="142920"/>
              <a:chOff x="1909800" y="2701440"/>
              <a:chExt cx="2517120" cy="142920"/>
            </a:xfrm>
          </p:grpSpPr>
          <p:sp>
            <p:nvSpPr>
              <p:cNvPr id="372" name=""/>
              <p:cNvSpPr/>
              <p:nvPr/>
            </p:nvSpPr>
            <p:spPr>
              <a:xfrm flipV="1">
                <a:off x="190980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42692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375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77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384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389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16000" y="4005360"/>
            <a:ext cx="590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先求黄猫和黑猫一共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8000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396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909800" y="2701440"/>
            <a:ext cx="2517480" cy="143280"/>
            <a:chOff x="1909800" y="2701440"/>
            <a:chExt cx="2517480" cy="143280"/>
          </a:xfrm>
        </p:grpSpPr>
        <p:sp>
          <p:nvSpPr>
            <p:cNvPr id="399" name=""/>
            <p:cNvSpPr/>
            <p:nvPr/>
          </p:nvSpPr>
          <p:spPr>
            <a:xfrm>
              <a:off x="1909800" y="2844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1909800" y="2701440"/>
              <a:ext cx="2517120" cy="142920"/>
              <a:chOff x="1909800" y="2701440"/>
              <a:chExt cx="2517120" cy="142920"/>
            </a:xfrm>
          </p:grpSpPr>
          <p:sp>
            <p:nvSpPr>
              <p:cNvPr id="401" name=""/>
              <p:cNvSpPr/>
              <p:nvPr/>
            </p:nvSpPr>
            <p:spPr>
              <a:xfrm flipV="1">
                <a:off x="190980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442692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404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06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13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418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11032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16000" y="4005360"/>
            <a:ext cx="5905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先求黄猫和黑猫一共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再求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1763640" y="2052720"/>
            <a:ext cx="2737080" cy="596880"/>
            <a:chOff x="1763640" y="2052720"/>
            <a:chExt cx="2737080" cy="596880"/>
          </a:xfrm>
        </p:grpSpPr>
        <p:sp>
          <p:nvSpPr>
            <p:cNvPr id="425" name=""/>
            <p:cNvSpPr/>
            <p:nvPr/>
          </p:nvSpPr>
          <p:spPr>
            <a:xfrm>
              <a:off x="1763640" y="2052720"/>
              <a:ext cx="273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黄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3057840" y="1334160"/>
              <a:ext cx="164880" cy="246564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64080 h 2465640"/>
                <a:gd name="textAreaBottom" fmla="*/ 2401560 h 24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909800" y="2701440"/>
            <a:ext cx="2517480" cy="143280"/>
            <a:chOff x="1909800" y="2701440"/>
            <a:chExt cx="2517480" cy="143280"/>
          </a:xfrm>
        </p:grpSpPr>
        <p:sp>
          <p:nvSpPr>
            <p:cNvPr id="428" name=""/>
            <p:cNvSpPr/>
            <p:nvPr/>
          </p:nvSpPr>
          <p:spPr>
            <a:xfrm>
              <a:off x="1909800" y="2844720"/>
              <a:ext cx="25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1909800" y="2701440"/>
              <a:ext cx="2517120" cy="142920"/>
              <a:chOff x="1909800" y="2701440"/>
              <a:chExt cx="2517120" cy="14292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190980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426920" y="270144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4068720" y="2133720"/>
            <a:ext cx="2305080" cy="718560"/>
            <a:chOff x="4068720" y="2133720"/>
            <a:chExt cx="2305080" cy="718560"/>
          </a:xfrm>
        </p:grpSpPr>
        <p:grpSp>
          <p:nvGrpSpPr>
            <p:cNvPr id="433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35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068720" y="2133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黑猫抓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4429080" y="2709720"/>
              <a:ext cx="1577520" cy="142560"/>
              <a:chOff x="4429080" y="2709720"/>
              <a:chExt cx="1577520" cy="14256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4429080" y="2709720"/>
                <a:ext cx="1577160" cy="142560"/>
                <a:chOff x="4429080" y="2709720"/>
                <a:chExt cx="1577160" cy="142560"/>
              </a:xfrm>
            </p:grpSpPr>
            <p:sp>
              <p:nvSpPr>
                <p:cNvPr id="442" name=""/>
                <p:cNvSpPr/>
                <p:nvPr/>
              </p:nvSpPr>
              <p:spPr>
                <a:xfrm flipV="1">
                  <a:off x="442908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V="1">
                  <a:off x="6006240" y="27097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4429080" y="2852280"/>
                <a:ext cx="157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 rot="5400000">
              <a:off x="5181120" y="1812240"/>
              <a:ext cx="72720" cy="157788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909800" y="2708280"/>
            <a:ext cx="3741840" cy="873000"/>
            <a:chOff x="1909800" y="2708280"/>
            <a:chExt cx="3741840" cy="873000"/>
          </a:xfrm>
        </p:grpSpPr>
        <p:sp>
          <p:nvSpPr>
            <p:cNvPr id="447" name=""/>
            <p:cNvSpPr/>
            <p:nvPr/>
          </p:nvSpPr>
          <p:spPr>
            <a:xfrm rot="16200000">
              <a:off x="3582720" y="1250640"/>
              <a:ext cx="324000" cy="3670200"/>
            </a:xfrm>
            <a:custGeom>
              <a:avLst/>
              <a:gdLst>
                <a:gd name="textAreaLeft" fmla="*/ 207000 w 324000"/>
                <a:gd name="textAreaRight" fmla="*/ 324360 w 324000"/>
                <a:gd name="textAreaTop" fmla="*/ 95400 h 3670200"/>
                <a:gd name="textAreaBottom" fmla="*/ 3574800 h 36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51640" y="2708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57440" y="321300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13408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116000" y="4005360"/>
            <a:ext cx="5905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先求黄猫和黑猫一共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再求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58000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rId1" action="ppaction://hlinksldjump"/>
          </p:cNvPr>
          <p:cNvSpPr/>
          <p:nvPr/>
        </p:nvSpPr>
        <p:spPr>
          <a:xfrm rot="20475000">
            <a:off x="7308720" y="5444640"/>
            <a:ext cx="627120" cy="792360"/>
          </a:xfrm>
          <a:custGeom>
            <a:avLst/>
            <a:gdLst/>
            <a:ahLst/>
            <a:rect l="l" t="t" r="r" b="b"/>
            <a:pathLst>
              <a:path w="364" h="577">
                <a:moveTo>
                  <a:pt x="0" y="159"/>
                </a:moveTo>
                <a:cubicBezTo>
                  <a:pt x="79" y="131"/>
                  <a:pt x="81" y="239"/>
                  <a:pt x="100" y="292"/>
                </a:cubicBezTo>
                <a:cubicBezTo>
                  <a:pt x="103" y="314"/>
                  <a:pt x="106" y="337"/>
                  <a:pt x="108" y="359"/>
                </a:cubicBezTo>
                <a:cubicBezTo>
                  <a:pt x="127" y="572"/>
                  <a:pt x="106" y="541"/>
                  <a:pt x="125" y="159"/>
                </a:cubicBezTo>
                <a:cubicBezTo>
                  <a:pt x="127" y="117"/>
                  <a:pt x="148" y="72"/>
                  <a:pt x="167" y="34"/>
                </a:cubicBezTo>
                <a:cubicBezTo>
                  <a:pt x="170" y="23"/>
                  <a:pt x="163" y="0"/>
                  <a:pt x="175" y="0"/>
                </a:cubicBezTo>
                <a:cubicBezTo>
                  <a:pt x="189" y="0"/>
                  <a:pt x="198" y="20"/>
                  <a:pt x="200" y="34"/>
                </a:cubicBezTo>
                <a:cubicBezTo>
                  <a:pt x="209" y="92"/>
                  <a:pt x="205" y="151"/>
                  <a:pt x="208" y="209"/>
                </a:cubicBezTo>
                <a:cubicBezTo>
                  <a:pt x="214" y="198"/>
                  <a:pt x="218" y="185"/>
                  <a:pt x="225" y="175"/>
                </a:cubicBezTo>
                <a:cubicBezTo>
                  <a:pt x="232" y="165"/>
                  <a:pt x="244" y="160"/>
                  <a:pt x="250" y="150"/>
                </a:cubicBezTo>
                <a:cubicBezTo>
                  <a:pt x="317" y="44"/>
                  <a:pt x="252" y="115"/>
                  <a:pt x="308" y="59"/>
                </a:cubicBezTo>
                <a:cubicBezTo>
                  <a:pt x="311" y="51"/>
                  <a:pt x="308" y="34"/>
                  <a:pt x="317" y="34"/>
                </a:cubicBezTo>
                <a:cubicBezTo>
                  <a:pt x="326" y="34"/>
                  <a:pt x="327" y="50"/>
                  <a:pt x="325" y="59"/>
                </a:cubicBezTo>
                <a:cubicBezTo>
                  <a:pt x="323" y="69"/>
                  <a:pt x="314" y="76"/>
                  <a:pt x="308" y="84"/>
                </a:cubicBezTo>
                <a:cubicBezTo>
                  <a:pt x="294" y="155"/>
                  <a:pt x="264" y="216"/>
                  <a:pt x="242" y="284"/>
                </a:cubicBezTo>
                <a:cubicBezTo>
                  <a:pt x="233" y="312"/>
                  <a:pt x="225" y="339"/>
                  <a:pt x="217" y="367"/>
                </a:cubicBezTo>
                <a:cubicBezTo>
                  <a:pt x="214" y="376"/>
                  <a:pt x="199" y="393"/>
                  <a:pt x="208" y="393"/>
                </a:cubicBezTo>
                <a:cubicBezTo>
                  <a:pt x="218" y="393"/>
                  <a:pt x="219" y="376"/>
                  <a:pt x="225" y="367"/>
                </a:cubicBezTo>
                <a:cubicBezTo>
                  <a:pt x="239" y="324"/>
                  <a:pt x="276" y="265"/>
                  <a:pt x="308" y="234"/>
                </a:cubicBezTo>
                <a:cubicBezTo>
                  <a:pt x="325" y="217"/>
                  <a:pt x="359" y="184"/>
                  <a:pt x="359" y="184"/>
                </a:cubicBezTo>
                <a:cubicBezTo>
                  <a:pt x="349" y="247"/>
                  <a:pt x="326" y="298"/>
                  <a:pt x="292" y="351"/>
                </a:cubicBezTo>
                <a:cubicBezTo>
                  <a:pt x="364" y="397"/>
                  <a:pt x="297" y="457"/>
                  <a:pt x="250" y="493"/>
                </a:cubicBezTo>
                <a:cubicBezTo>
                  <a:pt x="240" y="524"/>
                  <a:pt x="225" y="544"/>
                  <a:pt x="217" y="576"/>
                </a:cubicBezTo>
                <a:cubicBezTo>
                  <a:pt x="189" y="573"/>
                  <a:pt x="161" y="571"/>
                  <a:pt x="133" y="568"/>
                </a:cubicBezTo>
                <a:cubicBezTo>
                  <a:pt x="108" y="565"/>
                  <a:pt x="76" y="577"/>
                  <a:pt x="58" y="559"/>
                </a:cubicBezTo>
                <a:cubicBezTo>
                  <a:pt x="38" y="539"/>
                  <a:pt x="41" y="476"/>
                  <a:pt x="41" y="476"/>
                </a:cubicBezTo>
                <a:cubicBezTo>
                  <a:pt x="38" y="425"/>
                  <a:pt x="36" y="327"/>
                  <a:pt x="25" y="267"/>
                </a:cubicBezTo>
                <a:cubicBezTo>
                  <a:pt x="21" y="242"/>
                  <a:pt x="14" y="217"/>
                  <a:pt x="8" y="192"/>
                </a:cubicBezTo>
                <a:cubicBezTo>
                  <a:pt x="5" y="181"/>
                  <a:pt x="0" y="159"/>
                  <a:pt x="0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110320" y="10000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白猫抓的鱼比黄猫和黑猫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4005360"/>
            <a:ext cx="590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4685 E">
                                      <p:cBhvr>
                                        <p:cTn id="48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09800" y="898560"/>
            <a:ext cx="8280360" cy="1673280"/>
          </a:xfrm>
          <a:custGeom>
            <a:avLst/>
            <a:gdLst/>
            <a:ahLst/>
            <a:rect l="l" t="t" r="r" b="b"/>
            <a:pathLst>
              <a:path w="5216" h="1054">
                <a:moveTo>
                  <a:pt x="0" y="610"/>
                </a:moveTo>
                <a:cubicBezTo>
                  <a:pt x="534" y="514"/>
                  <a:pt x="2388" y="68"/>
                  <a:pt x="3204" y="34"/>
                </a:cubicBezTo>
                <a:cubicBezTo>
                  <a:pt x="4020" y="0"/>
                  <a:pt x="4576" y="332"/>
                  <a:pt x="4896" y="406"/>
                </a:cubicBezTo>
                <a:cubicBezTo>
                  <a:pt x="5216" y="480"/>
                  <a:pt x="5082" y="462"/>
                  <a:pt x="5124" y="478"/>
                </a:cubicBezTo>
                <a:cubicBezTo>
                  <a:pt x="5166" y="494"/>
                  <a:pt x="5143" y="471"/>
                  <a:pt x="5147" y="505"/>
                </a:cubicBezTo>
                <a:cubicBezTo>
                  <a:pt x="5151" y="539"/>
                  <a:pt x="5148" y="591"/>
                  <a:pt x="5148" y="682"/>
                </a:cubicBezTo>
                <a:cubicBezTo>
                  <a:pt x="5148" y="773"/>
                  <a:pt x="5148" y="977"/>
                  <a:pt x="5148" y="1054"/>
                </a:cubicBezTo>
              </a:path>
            </a:pathLst>
          </a:custGeom>
          <a:gradFill rotWithShape="0">
            <a:gsLst>
              <a:gs pos="0">
                <a:srgbClr val="2aaa2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360" y="1219320"/>
            <a:ext cx="1660680" cy="438120"/>
          </a:xfrm>
          <a:custGeom>
            <a:avLst/>
            <a:gdLst/>
            <a:ahLst/>
            <a:rect l="l" t="t" r="r" b="b"/>
            <a:pathLst>
              <a:path w="1046" h="276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08" y="260"/>
                  <a:pt x="992" y="276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1557360"/>
            <a:ext cx="2451240" cy="447480"/>
          </a:xfrm>
          <a:custGeom>
            <a:avLst/>
            <a:gdLst/>
            <a:ahLst/>
            <a:rect l="l" t="t" r="r" b="b"/>
            <a:pathLst>
              <a:path w="1090" h="373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90" y="357"/>
                  <a:pt x="1074" y="373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99200">
            <a:off x="7020000" y="1773000"/>
            <a:ext cx="1751040" cy="493560"/>
          </a:xfrm>
          <a:custGeom>
            <a:avLst/>
            <a:gdLst/>
            <a:ahLst/>
            <a:rect l="l" t="t" r="r" b="b"/>
            <a:pathLst>
              <a:path w="1103" h="402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103" y="386"/>
                  <a:pt x="1087" y="402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2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95400" y="1490760"/>
            <a:ext cx="9267840" cy="5405400"/>
          </a:xfrm>
          <a:custGeom>
            <a:avLst/>
            <a:gdLst/>
            <a:ahLst/>
            <a:rect l="l" t="t" r="r" b="b"/>
            <a:pathLst>
              <a:path w="5838" h="3405">
                <a:moveTo>
                  <a:pt x="24" y="3393"/>
                </a:moveTo>
                <a:cubicBezTo>
                  <a:pt x="72" y="3381"/>
                  <a:pt x="0" y="33"/>
                  <a:pt x="48" y="21"/>
                </a:cubicBezTo>
                <a:cubicBezTo>
                  <a:pt x="133" y="0"/>
                  <a:pt x="372" y="73"/>
                  <a:pt x="456" y="45"/>
                </a:cubicBezTo>
                <a:cubicBezTo>
                  <a:pt x="490" y="46"/>
                  <a:pt x="844" y="57"/>
                  <a:pt x="936" y="69"/>
                </a:cubicBezTo>
                <a:cubicBezTo>
                  <a:pt x="969" y="73"/>
                  <a:pt x="999" y="88"/>
                  <a:pt x="1032" y="93"/>
                </a:cubicBezTo>
                <a:cubicBezTo>
                  <a:pt x="1072" y="100"/>
                  <a:pt x="1112" y="101"/>
                  <a:pt x="1152" y="105"/>
                </a:cubicBezTo>
                <a:cubicBezTo>
                  <a:pt x="1801" y="321"/>
                  <a:pt x="2520" y="160"/>
                  <a:pt x="3204" y="165"/>
                </a:cubicBezTo>
                <a:cubicBezTo>
                  <a:pt x="3614" y="194"/>
                  <a:pt x="4017" y="268"/>
                  <a:pt x="4428" y="285"/>
                </a:cubicBezTo>
                <a:cubicBezTo>
                  <a:pt x="4600" y="242"/>
                  <a:pt x="4685" y="325"/>
                  <a:pt x="4836" y="357"/>
                </a:cubicBezTo>
                <a:cubicBezTo>
                  <a:pt x="4924" y="376"/>
                  <a:pt x="5016" y="385"/>
                  <a:pt x="5100" y="417"/>
                </a:cubicBezTo>
                <a:cubicBezTo>
                  <a:pt x="5132" y="429"/>
                  <a:pt x="5163" y="445"/>
                  <a:pt x="5196" y="453"/>
                </a:cubicBezTo>
                <a:cubicBezTo>
                  <a:pt x="5295" y="478"/>
                  <a:pt x="5406" y="488"/>
                  <a:pt x="5508" y="501"/>
                </a:cubicBezTo>
                <a:cubicBezTo>
                  <a:pt x="5596" y="530"/>
                  <a:pt x="5728" y="526"/>
                  <a:pt x="5820" y="549"/>
                </a:cubicBezTo>
                <a:cubicBezTo>
                  <a:pt x="5838" y="576"/>
                  <a:pt x="5832" y="3371"/>
                  <a:pt x="5832" y="3405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95400" y="2695680"/>
            <a:ext cx="9315720" cy="4314600"/>
          </a:xfrm>
          <a:custGeom>
            <a:avLst/>
            <a:gdLst/>
            <a:ahLst/>
            <a:rect l="l" t="t" r="r" b="b"/>
            <a:pathLst>
              <a:path w="5868" h="2718">
                <a:moveTo>
                  <a:pt x="24" y="30"/>
                </a:moveTo>
                <a:cubicBezTo>
                  <a:pt x="250" y="0"/>
                  <a:pt x="956" y="178"/>
                  <a:pt x="1392" y="294"/>
                </a:cubicBezTo>
                <a:cubicBezTo>
                  <a:pt x="1826" y="436"/>
                  <a:pt x="2499" y="575"/>
                  <a:pt x="2640" y="726"/>
                </a:cubicBezTo>
                <a:cubicBezTo>
                  <a:pt x="2781" y="877"/>
                  <a:pt x="2380" y="982"/>
                  <a:pt x="2436" y="1086"/>
                </a:cubicBezTo>
                <a:cubicBezTo>
                  <a:pt x="2492" y="1190"/>
                  <a:pt x="2748" y="1280"/>
                  <a:pt x="2976" y="1350"/>
                </a:cubicBezTo>
                <a:cubicBezTo>
                  <a:pt x="3228" y="1418"/>
                  <a:pt x="3560" y="1412"/>
                  <a:pt x="3804" y="1506"/>
                </a:cubicBezTo>
                <a:cubicBezTo>
                  <a:pt x="4048" y="1600"/>
                  <a:pt x="5524" y="1772"/>
                  <a:pt x="5868" y="1962"/>
                </a:cubicBezTo>
                <a:lnTo>
                  <a:pt x="5868" y="2646"/>
                </a:lnTo>
                <a:cubicBezTo>
                  <a:pt x="5868" y="2646"/>
                  <a:pt x="2724" y="2718"/>
                  <a:pt x="2196" y="2610"/>
                </a:cubicBezTo>
                <a:cubicBezTo>
                  <a:pt x="1908" y="2286"/>
                  <a:pt x="1906" y="2312"/>
                  <a:pt x="1764" y="2166"/>
                </a:cubicBezTo>
                <a:cubicBezTo>
                  <a:pt x="1692" y="2082"/>
                  <a:pt x="1188" y="1696"/>
                  <a:pt x="1044" y="1530"/>
                </a:cubicBezTo>
                <a:cubicBezTo>
                  <a:pt x="900" y="1364"/>
                  <a:pt x="844" y="1278"/>
                  <a:pt x="900" y="1170"/>
                </a:cubicBezTo>
                <a:cubicBezTo>
                  <a:pt x="938" y="1044"/>
                  <a:pt x="1422" y="976"/>
                  <a:pt x="1380" y="882"/>
                </a:cubicBezTo>
                <a:cubicBezTo>
                  <a:pt x="1338" y="788"/>
                  <a:pt x="872" y="674"/>
                  <a:pt x="648" y="606"/>
                </a:cubicBezTo>
                <a:cubicBezTo>
                  <a:pt x="436" y="526"/>
                  <a:pt x="158" y="504"/>
                  <a:pt x="36" y="474"/>
                </a:cubicBezTo>
                <a:cubicBezTo>
                  <a:pt x="0" y="474"/>
                  <a:pt x="26" y="122"/>
                  <a:pt x="24" y="30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451640" y="1197000"/>
            <a:ext cx="655560" cy="1225440"/>
            <a:chOff x="7451640" y="1197000"/>
            <a:chExt cx="655560" cy="1225440"/>
          </a:xfrm>
        </p:grpSpPr>
        <p:sp>
          <p:nvSpPr>
            <p:cNvPr id="73" name=""/>
            <p:cNvSpPr/>
            <p:nvPr/>
          </p:nvSpPr>
          <p:spPr>
            <a:xfrm>
              <a:off x="7451640" y="1197000"/>
              <a:ext cx="655560" cy="9320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58280" y="1492920"/>
              <a:ext cx="244800" cy="9295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101080" y="1557360"/>
            <a:ext cx="934560" cy="1441440"/>
            <a:chOff x="8101080" y="1557360"/>
            <a:chExt cx="934560" cy="1441440"/>
          </a:xfrm>
        </p:grpSpPr>
        <p:sp>
          <p:nvSpPr>
            <p:cNvPr id="76" name=""/>
            <p:cNvSpPr/>
            <p:nvPr/>
          </p:nvSpPr>
          <p:spPr>
            <a:xfrm>
              <a:off x="8101080" y="1557360"/>
              <a:ext cx="934560" cy="10962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95560" y="1905480"/>
              <a:ext cx="349200" cy="10933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635280" y="907920"/>
            <a:ext cx="654120" cy="1008000"/>
            <a:chOff x="3635280" y="907920"/>
            <a:chExt cx="654120" cy="1008000"/>
          </a:xfrm>
        </p:grpSpPr>
        <p:sp>
          <p:nvSpPr>
            <p:cNvPr id="79" name=""/>
            <p:cNvSpPr/>
            <p:nvPr/>
          </p:nvSpPr>
          <p:spPr>
            <a:xfrm>
              <a:off x="3635280" y="907920"/>
              <a:ext cx="654120" cy="7668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41200" y="1151280"/>
              <a:ext cx="244080" cy="764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443640" y="1628640"/>
            <a:ext cx="432000" cy="792000"/>
            <a:chOff x="6443640" y="1628640"/>
            <a:chExt cx="432000" cy="792000"/>
          </a:xfrm>
        </p:grpSpPr>
        <p:sp>
          <p:nvSpPr>
            <p:cNvPr id="82" name=""/>
            <p:cNvSpPr/>
            <p:nvPr/>
          </p:nvSpPr>
          <p:spPr>
            <a:xfrm>
              <a:off x="6443640" y="1628640"/>
              <a:ext cx="432000" cy="6026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79720" y="1819800"/>
              <a:ext cx="161280" cy="6008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95280" y="907920"/>
            <a:ext cx="706320" cy="1295280"/>
            <a:chOff x="395280" y="907920"/>
            <a:chExt cx="706320" cy="1295280"/>
          </a:xfrm>
        </p:grpSpPr>
        <p:sp>
          <p:nvSpPr>
            <p:cNvPr id="85" name=""/>
            <p:cNvSpPr/>
            <p:nvPr/>
          </p:nvSpPr>
          <p:spPr>
            <a:xfrm>
              <a:off x="395280" y="907920"/>
              <a:ext cx="706320" cy="9853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7760" y="1220760"/>
              <a:ext cx="263880" cy="9824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835280" y="1268280"/>
            <a:ext cx="504720" cy="502920"/>
            <a:chOff x="1835280" y="1268280"/>
            <a:chExt cx="504720" cy="502920"/>
          </a:xfrm>
        </p:grpSpPr>
        <p:sp>
          <p:nvSpPr>
            <p:cNvPr id="88" name=""/>
            <p:cNvSpPr/>
            <p:nvPr/>
          </p:nvSpPr>
          <p:spPr>
            <a:xfrm>
              <a:off x="1835280" y="1268280"/>
              <a:ext cx="504720" cy="382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94400" y="1389600"/>
              <a:ext cx="188280" cy="381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rot="1987800">
            <a:off x="2268360" y="4941360"/>
            <a:ext cx="2881440" cy="333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 rot="680400">
            <a:off x="2842920" y="5373360"/>
            <a:ext cx="5486400" cy="685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 rot="844200">
            <a:off x="6011640" y="4005000"/>
            <a:ext cx="1025280" cy="1185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260280"/>
            <a:ext cx="1501560" cy="4478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549360"/>
            <a:ext cx="1069920" cy="4316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12000" y="189000"/>
            <a:ext cx="1366920" cy="57456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58920" y="1628640"/>
            <a:ext cx="785880" cy="1079280"/>
            <a:chOff x="1258920" y="1628640"/>
            <a:chExt cx="785880" cy="1079280"/>
          </a:xfrm>
        </p:grpSpPr>
        <p:sp>
          <p:nvSpPr>
            <p:cNvPr id="97" name=""/>
            <p:cNvSpPr/>
            <p:nvPr/>
          </p:nvSpPr>
          <p:spPr>
            <a:xfrm>
              <a:off x="1258920" y="1628640"/>
              <a:ext cx="785880" cy="82116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06600" y="1889280"/>
              <a:ext cx="293400" cy="818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340000" y="1484280"/>
            <a:ext cx="792000" cy="1366920"/>
            <a:chOff x="2340000" y="1484280"/>
            <a:chExt cx="792000" cy="1366920"/>
          </a:xfrm>
        </p:grpSpPr>
        <p:sp>
          <p:nvSpPr>
            <p:cNvPr id="100" name=""/>
            <p:cNvSpPr/>
            <p:nvPr/>
          </p:nvSpPr>
          <p:spPr>
            <a:xfrm>
              <a:off x="2340000" y="1484280"/>
              <a:ext cx="792000" cy="1039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89480" y="1814400"/>
              <a:ext cx="295920" cy="10368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740720" y="2492280"/>
            <a:ext cx="863640" cy="1582920"/>
            <a:chOff x="7740720" y="2492280"/>
            <a:chExt cx="863640" cy="1582920"/>
          </a:xfrm>
        </p:grpSpPr>
        <p:sp>
          <p:nvSpPr>
            <p:cNvPr id="103" name=""/>
            <p:cNvSpPr/>
            <p:nvPr/>
          </p:nvSpPr>
          <p:spPr>
            <a:xfrm>
              <a:off x="7740720" y="2492280"/>
              <a:ext cx="863640" cy="12038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12880" y="2874600"/>
              <a:ext cx="322560" cy="1200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028000" y="3284640"/>
            <a:ext cx="1223640" cy="1798200"/>
            <a:chOff x="8028000" y="3284640"/>
            <a:chExt cx="1223640" cy="1798200"/>
          </a:xfrm>
        </p:grpSpPr>
        <p:sp>
          <p:nvSpPr>
            <p:cNvPr id="106" name=""/>
            <p:cNvSpPr/>
            <p:nvPr/>
          </p:nvSpPr>
          <p:spPr>
            <a:xfrm>
              <a:off x="8028000" y="3284640"/>
              <a:ext cx="1223640" cy="13680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13560" y="3718800"/>
              <a:ext cx="457200" cy="13640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4360" y="4581360"/>
            <a:ext cx="2159640" cy="2374560"/>
            <a:chOff x="684360" y="4581360"/>
            <a:chExt cx="2159640" cy="2374560"/>
          </a:xfrm>
        </p:grpSpPr>
        <p:sp>
          <p:nvSpPr>
            <p:cNvPr id="109" name=""/>
            <p:cNvSpPr/>
            <p:nvPr/>
          </p:nvSpPr>
          <p:spPr>
            <a:xfrm>
              <a:off x="684360" y="4581360"/>
              <a:ext cx="2159640" cy="18061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65120" y="5154840"/>
              <a:ext cx="806760" cy="180108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1297200">
            <a:off x="684360" y="3284640"/>
            <a:ext cx="2160360" cy="249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11280" y="3068640"/>
            <a:ext cx="1033200" cy="1144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267080" y="3500280"/>
            <a:ext cx="78588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794240" y="987480"/>
            <a:ext cx="55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少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1280" y="1176480"/>
            <a:ext cx="590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11280" y="27687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794240" y="987480"/>
            <a:ext cx="55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少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11280" y="1176480"/>
            <a:ext cx="5904000" cy="13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1280" y="2349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3+3=4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68360" y="271440"/>
            <a:ext cx="608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黄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黑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的鱼比黄猫和黑猫抓的总数少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+18=4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3-3=4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白猫抓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条鱼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68360" y="24415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黄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黑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的鱼比黄猫和黑猫抓的总数多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8360" y="46134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黄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，黑猫抓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白猫抓的鱼是黄猫和黑猫抓的总数的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30080" y="3533760"/>
            <a:ext cx="53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+18=4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3+3=4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白猫抓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4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条鱼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17200" y="5734080"/>
            <a:ext cx="487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5+18=4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3×3=129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白猫抓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29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条鱼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551640" y="2997360"/>
            <a:ext cx="2592360" cy="3860640"/>
            <a:chOff x="6551640" y="2997360"/>
            <a:chExt cx="2592360" cy="3860640"/>
          </a:xfrm>
        </p:grpSpPr>
        <p:sp>
          <p:nvSpPr>
            <p:cNvPr id="468" name=""/>
            <p:cNvSpPr/>
            <p:nvPr/>
          </p:nvSpPr>
          <p:spPr>
            <a:xfrm>
              <a:off x="7667640" y="4292640"/>
              <a:ext cx="289080" cy="2565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51640" y="2997360"/>
              <a:ext cx="2592360" cy="1296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黑体"/>
                </a:rPr>
                <a:t>这三道题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黑体"/>
                </a:rPr>
                <a:t>什么共同特点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11280" y="1197000"/>
            <a:ext cx="5904000" cy="13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11280" y="2349360"/>
            <a:ext cx="7921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3+3=4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\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白猫抓的鱼是黄猫和黑猫抓的总数的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×3=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11280" y="1197000"/>
            <a:ext cx="7921440" cy="4812480"/>
            <a:chOff x="611280" y="1197000"/>
            <a:chExt cx="7921440" cy="4812480"/>
          </a:xfrm>
        </p:grpSpPr>
        <p:sp>
          <p:nvSpPr>
            <p:cNvPr id="473" name=""/>
            <p:cNvSpPr/>
            <p:nvPr/>
          </p:nvSpPr>
          <p:spPr>
            <a:xfrm>
              <a:off x="611280" y="1197000"/>
              <a:ext cx="5904000" cy="13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5+18=4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条）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43-3=4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条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答：白猫抓了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1280" y="2349360"/>
              <a:ext cx="792144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\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黄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黑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白猫抓的鱼比黄猫和黑猫抓的总数多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条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5+18=4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条）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3+3=4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条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答：白猫抓了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46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3\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黄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25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，黑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18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，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</a:rPr>
                <a:t>白猫抓的鱼是黄猫和黑猫抓的总数的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</a:rPr>
                <a:t>3</a:t>
              </a:r>
              <a:r>
                <a:rPr b="0" lang="zh-CN" sz="1800" spc="-1" strike="noStrike">
                  <a:solidFill>
                    <a:srgbClr val="0000ff"/>
                  </a:solidFill>
                  <a:latin typeface="宋体"/>
                </a:rPr>
                <a:t>倍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25+18=43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（条）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43×3=129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（条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答：白猫抓了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129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条鱼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11280" y="987480"/>
            <a:ext cx="7921440" cy="5022000"/>
            <a:chOff x="611280" y="987480"/>
            <a:chExt cx="7921440" cy="5022000"/>
          </a:xfrm>
        </p:grpSpPr>
        <p:sp>
          <p:nvSpPr>
            <p:cNvPr id="476" name=""/>
            <p:cNvSpPr/>
            <p:nvPr/>
          </p:nvSpPr>
          <p:spPr>
            <a:xfrm>
              <a:off x="1794240" y="987480"/>
              <a:ext cx="550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\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黄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黑猫抓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条，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白猫抓的鱼比黄猫和黑猫抓的总数少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条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白猫抓了多少条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11280" y="1197000"/>
              <a:ext cx="7921440" cy="4812480"/>
              <a:chOff x="611280" y="1197000"/>
              <a:chExt cx="7921440" cy="4812480"/>
            </a:xfrm>
          </p:grpSpPr>
          <p:sp>
            <p:nvSpPr>
              <p:cNvPr id="478" name=""/>
              <p:cNvSpPr/>
              <p:nvPr/>
            </p:nvSpPr>
            <p:spPr>
              <a:xfrm>
                <a:off x="611280" y="1197000"/>
                <a:ext cx="5904000" cy="13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5+18=4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条）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43-3=40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条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答：白猫抓了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条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1280" y="2349360"/>
                <a:ext cx="792144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\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黄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条，黑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条，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Arial"/>
                  </a:rPr>
                  <a:t>白猫抓的鱼比黄猫和黑猫抓的总数多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Arial"/>
                  </a:rPr>
                  <a:t>条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白猫抓了多少条鱼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5+18=4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条）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3+3=46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条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答：白猫抓了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46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3\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黄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25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，黑猫抓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18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，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</a:rPr>
                  <a:t>白猫抓的鱼是黄猫和黑猫抓的总数的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</a:rPr>
                  <a:t>3</a:t>
                </a:r>
                <a:r>
                  <a:rPr b="0" lang="zh-CN" sz="1800" spc="-1" strike="noStrike">
                    <a:solidFill>
                      <a:srgbClr val="0000ff"/>
                    </a:solidFill>
                    <a:latin typeface="宋体"/>
                  </a:rPr>
                  <a:t>倍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白猫抓了多少条鱼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25+18=4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（条）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43×3=129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（条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答：白猫抓了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129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条鱼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794240" y="404640"/>
            <a:ext cx="55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白猫抓的鱼比黄猫和黑猫抓的总数少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657360"/>
            <a:ext cx="813744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-3=4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\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白猫抓的鱼比黄猫和黑猫抓的总数多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+3=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\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黄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黑猫抓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，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白猫抓的鱼是黄猫和黑猫抓的总数的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白猫抓了多少条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5+18=4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3×3=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答：白猫抓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2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条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1638360" cy="24480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2773440" y="4292640"/>
            <a:ext cx="491472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66cc"/>
                    </a:gs>
                  </a:gsLst>
                  <a:lin ang="13500000"/>
                </a:gradFill>
                <a:latin typeface="宋体"/>
              </a:rPr>
              <a:t>这三道题是用几步计算的？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cc"/>
                  </a:gs>
                </a:gsLst>
                <a:lin ang="135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cc"/>
                  </a:gs>
                </a:gsLst>
                <a:lin ang="135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cc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059280" y="5229360"/>
            <a:ext cx="457200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为什么要用两步计算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268360" y="476280"/>
            <a:ext cx="1828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方正舒体"/>
              </a:rPr>
              <a:t>课堂练习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86" name=""/>
          <p:cNvSpPr/>
          <p:nvPr/>
        </p:nvSpPr>
        <p:spPr>
          <a:xfrm>
            <a:off x="1042920" y="1553040"/>
            <a:ext cx="63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\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小朋友玩射击汽球游戏。小山打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，小玲打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，小依打中的个数是小山和小玲总个数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倍。小依打中多少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\ 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小朋友抓泥鳅，小山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，小玲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，小依抓的泥鳅比小山和小铃抓的总数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，小山和小玲一共抓了多少条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rcRect l="20520" t="2474" r="0" b="12789"/>
          <a:stretch/>
        </p:blipFill>
        <p:spPr>
          <a:xfrm>
            <a:off x="5692680" y="0"/>
            <a:ext cx="3451320" cy="544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8" name="" descr=""/>
          <p:cNvPicPr/>
          <p:nvPr/>
        </p:nvPicPr>
        <p:blipFill>
          <a:blip r:embed="rId2"/>
          <a:srcRect l="34549" t="0" r="25465" b="0"/>
          <a:stretch/>
        </p:blipFill>
        <p:spPr>
          <a:xfrm>
            <a:off x="2700360" y="981000"/>
            <a:ext cx="3436920" cy="587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9" name="" descr=""/>
          <p:cNvPicPr/>
          <p:nvPr/>
        </p:nvPicPr>
        <p:blipFill>
          <a:blip r:embed="rId3"/>
          <a:srcRect l="51024" t="0" r="0" b="14305"/>
          <a:stretch/>
        </p:blipFill>
        <p:spPr>
          <a:xfrm>
            <a:off x="0" y="0"/>
            <a:ext cx="3105000" cy="40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0" name=""/>
          <p:cNvSpPr/>
          <p:nvPr/>
        </p:nvSpPr>
        <p:spPr>
          <a:xfrm flipH="1">
            <a:off x="2626920" y="549360"/>
            <a:ext cx="289080" cy="21589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406200">
            <a:off x="1941480" y="1628640"/>
            <a:ext cx="775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236000" y="1052640"/>
            <a:ext cx="0" cy="35985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334200" y="2349360"/>
            <a:ext cx="944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40360" y="1341360"/>
            <a:ext cx="144360" cy="5516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43880" y="4581360"/>
            <a:ext cx="1931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国贸与学校综合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高度的和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2092320" cy="25909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4084560" cy="49244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5435640" y="5877000"/>
            <a:ext cx="1800360" cy="576360"/>
          </a:xfrm>
          <a:prstGeom prst="wedgeRoundRectCallout">
            <a:avLst>
              <a:gd name="adj1" fmla="val -48939"/>
              <a:gd name="adj2" fmla="val -130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659640" y="333360"/>
            <a:ext cx="2233440" cy="574560"/>
          </a:xfrm>
          <a:prstGeom prst="wedgeRoundRectCallout">
            <a:avLst>
              <a:gd name="adj1" fmla="val -34152"/>
              <a:gd name="adj2" fmla="val 1779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小明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780000" y="476280"/>
            <a:ext cx="2303280" cy="511200"/>
          </a:xfrm>
          <a:prstGeom prst="wedgeRoundRectCallout">
            <a:avLst>
              <a:gd name="adj1" fmla="val -6097"/>
              <a:gd name="adj2" fmla="val 166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小明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8360" y="5013360"/>
            <a:ext cx="2735280" cy="1008000"/>
          </a:xfrm>
          <a:prstGeom prst="wedgeRoundRectCallout">
            <a:avLst>
              <a:gd name="adj1" fmla="val 13726"/>
              <a:gd name="adj2" fmla="val -212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年龄是小明与爸爸年龄的和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9325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217383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09800" y="898560"/>
            <a:ext cx="8280360" cy="1673280"/>
          </a:xfrm>
          <a:custGeom>
            <a:avLst/>
            <a:gdLst/>
            <a:ahLst/>
            <a:rect l="l" t="t" r="r" b="b"/>
            <a:pathLst>
              <a:path w="5216" h="1054">
                <a:moveTo>
                  <a:pt x="0" y="610"/>
                </a:moveTo>
                <a:cubicBezTo>
                  <a:pt x="534" y="514"/>
                  <a:pt x="2388" y="68"/>
                  <a:pt x="3204" y="34"/>
                </a:cubicBezTo>
                <a:cubicBezTo>
                  <a:pt x="4020" y="0"/>
                  <a:pt x="4576" y="332"/>
                  <a:pt x="4896" y="406"/>
                </a:cubicBezTo>
                <a:cubicBezTo>
                  <a:pt x="5216" y="480"/>
                  <a:pt x="5082" y="462"/>
                  <a:pt x="5124" y="478"/>
                </a:cubicBezTo>
                <a:cubicBezTo>
                  <a:pt x="5166" y="494"/>
                  <a:pt x="5143" y="471"/>
                  <a:pt x="5147" y="505"/>
                </a:cubicBezTo>
                <a:cubicBezTo>
                  <a:pt x="5151" y="539"/>
                  <a:pt x="5148" y="591"/>
                  <a:pt x="5148" y="682"/>
                </a:cubicBezTo>
                <a:cubicBezTo>
                  <a:pt x="5148" y="773"/>
                  <a:pt x="5148" y="977"/>
                  <a:pt x="5148" y="1054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005be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360" y="1219320"/>
            <a:ext cx="1660680" cy="438120"/>
          </a:xfrm>
          <a:custGeom>
            <a:avLst/>
            <a:gdLst/>
            <a:ahLst/>
            <a:rect l="l" t="t" r="r" b="b"/>
            <a:pathLst>
              <a:path w="1046" h="276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08" y="260"/>
                  <a:pt x="992" y="276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1557360"/>
            <a:ext cx="2451240" cy="447480"/>
          </a:xfrm>
          <a:custGeom>
            <a:avLst/>
            <a:gdLst/>
            <a:ahLst/>
            <a:rect l="l" t="t" r="r" b="b"/>
            <a:pathLst>
              <a:path w="1090" h="373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090" y="357"/>
                  <a:pt x="1074" y="373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99200">
            <a:off x="7020000" y="1773000"/>
            <a:ext cx="1751040" cy="493560"/>
          </a:xfrm>
          <a:custGeom>
            <a:avLst/>
            <a:gdLst/>
            <a:ahLst/>
            <a:rect l="l" t="t" r="r" b="b"/>
            <a:pathLst>
              <a:path w="1103" h="402">
                <a:moveTo>
                  <a:pt x="80" y="264"/>
                </a:moveTo>
                <a:cubicBezTo>
                  <a:pt x="26" y="246"/>
                  <a:pt x="25" y="232"/>
                  <a:pt x="8" y="180"/>
                </a:cubicBezTo>
                <a:cubicBezTo>
                  <a:pt x="20" y="172"/>
                  <a:pt x="39" y="170"/>
                  <a:pt x="44" y="156"/>
                </a:cubicBezTo>
                <a:cubicBezTo>
                  <a:pt x="49" y="140"/>
                  <a:pt x="32" y="124"/>
                  <a:pt x="32" y="108"/>
                </a:cubicBezTo>
                <a:cubicBezTo>
                  <a:pt x="32" y="92"/>
                  <a:pt x="40" y="76"/>
                  <a:pt x="44" y="60"/>
                </a:cubicBezTo>
                <a:cubicBezTo>
                  <a:pt x="164" y="140"/>
                  <a:pt x="0" y="48"/>
                  <a:pt x="104" y="48"/>
                </a:cubicBezTo>
                <a:cubicBezTo>
                  <a:pt x="118" y="48"/>
                  <a:pt x="117" y="75"/>
                  <a:pt x="128" y="84"/>
                </a:cubicBezTo>
                <a:cubicBezTo>
                  <a:pt x="138" y="92"/>
                  <a:pt x="152" y="92"/>
                  <a:pt x="164" y="96"/>
                </a:cubicBezTo>
                <a:cubicBezTo>
                  <a:pt x="220" y="12"/>
                  <a:pt x="188" y="40"/>
                  <a:pt x="248" y="0"/>
                </a:cubicBezTo>
                <a:cubicBezTo>
                  <a:pt x="274" y="79"/>
                  <a:pt x="238" y="1"/>
                  <a:pt x="296" y="48"/>
                </a:cubicBezTo>
                <a:cubicBezTo>
                  <a:pt x="373" y="109"/>
                  <a:pt x="248" y="70"/>
                  <a:pt x="380" y="96"/>
                </a:cubicBezTo>
                <a:cubicBezTo>
                  <a:pt x="384" y="112"/>
                  <a:pt x="377" y="137"/>
                  <a:pt x="392" y="144"/>
                </a:cubicBezTo>
                <a:cubicBezTo>
                  <a:pt x="429" y="162"/>
                  <a:pt x="439" y="75"/>
                  <a:pt x="440" y="72"/>
                </a:cubicBezTo>
                <a:cubicBezTo>
                  <a:pt x="448" y="84"/>
                  <a:pt x="450" y="108"/>
                  <a:pt x="464" y="108"/>
                </a:cubicBezTo>
                <a:cubicBezTo>
                  <a:pt x="524" y="108"/>
                  <a:pt x="483" y="22"/>
                  <a:pt x="512" y="108"/>
                </a:cubicBezTo>
                <a:cubicBezTo>
                  <a:pt x="516" y="88"/>
                  <a:pt x="507" y="59"/>
                  <a:pt x="524" y="48"/>
                </a:cubicBezTo>
                <a:cubicBezTo>
                  <a:pt x="536" y="40"/>
                  <a:pt x="534" y="86"/>
                  <a:pt x="548" y="84"/>
                </a:cubicBezTo>
                <a:cubicBezTo>
                  <a:pt x="570" y="80"/>
                  <a:pt x="580" y="52"/>
                  <a:pt x="596" y="36"/>
                </a:cubicBezTo>
                <a:cubicBezTo>
                  <a:pt x="612" y="60"/>
                  <a:pt x="635" y="81"/>
                  <a:pt x="644" y="108"/>
                </a:cubicBezTo>
                <a:cubicBezTo>
                  <a:pt x="648" y="120"/>
                  <a:pt x="650" y="133"/>
                  <a:pt x="656" y="144"/>
                </a:cubicBezTo>
                <a:cubicBezTo>
                  <a:pt x="662" y="157"/>
                  <a:pt x="686" y="167"/>
                  <a:pt x="680" y="180"/>
                </a:cubicBezTo>
                <a:cubicBezTo>
                  <a:pt x="674" y="191"/>
                  <a:pt x="656" y="172"/>
                  <a:pt x="644" y="168"/>
                </a:cubicBezTo>
                <a:cubicBezTo>
                  <a:pt x="700" y="112"/>
                  <a:pt x="730" y="112"/>
                  <a:pt x="776" y="180"/>
                </a:cubicBezTo>
                <a:cubicBezTo>
                  <a:pt x="797" y="76"/>
                  <a:pt x="765" y="134"/>
                  <a:pt x="836" y="144"/>
                </a:cubicBezTo>
                <a:cubicBezTo>
                  <a:pt x="849" y="146"/>
                  <a:pt x="860" y="136"/>
                  <a:pt x="872" y="132"/>
                </a:cubicBezTo>
                <a:cubicBezTo>
                  <a:pt x="927" y="215"/>
                  <a:pt x="929" y="177"/>
                  <a:pt x="908" y="240"/>
                </a:cubicBezTo>
                <a:cubicBezTo>
                  <a:pt x="904" y="228"/>
                  <a:pt x="891" y="216"/>
                  <a:pt x="896" y="204"/>
                </a:cubicBezTo>
                <a:cubicBezTo>
                  <a:pt x="912" y="163"/>
                  <a:pt x="945" y="184"/>
                  <a:pt x="968" y="192"/>
                </a:cubicBezTo>
                <a:cubicBezTo>
                  <a:pt x="964" y="204"/>
                  <a:pt x="947" y="219"/>
                  <a:pt x="956" y="228"/>
                </a:cubicBezTo>
                <a:cubicBezTo>
                  <a:pt x="965" y="237"/>
                  <a:pt x="980" y="211"/>
                  <a:pt x="992" y="216"/>
                </a:cubicBezTo>
                <a:cubicBezTo>
                  <a:pt x="1046" y="238"/>
                  <a:pt x="1103" y="386"/>
                  <a:pt x="1087" y="402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8000"/>
              </a:gs>
            </a:gsLst>
            <a:lin ang="52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95400" y="1490760"/>
            <a:ext cx="9267840" cy="5405400"/>
          </a:xfrm>
          <a:custGeom>
            <a:avLst/>
            <a:gdLst/>
            <a:ahLst/>
            <a:rect l="l" t="t" r="r" b="b"/>
            <a:pathLst>
              <a:path w="5838" h="3405">
                <a:moveTo>
                  <a:pt x="24" y="3393"/>
                </a:moveTo>
                <a:cubicBezTo>
                  <a:pt x="72" y="3381"/>
                  <a:pt x="0" y="33"/>
                  <a:pt x="48" y="21"/>
                </a:cubicBezTo>
                <a:cubicBezTo>
                  <a:pt x="133" y="0"/>
                  <a:pt x="372" y="73"/>
                  <a:pt x="456" y="45"/>
                </a:cubicBezTo>
                <a:cubicBezTo>
                  <a:pt x="490" y="46"/>
                  <a:pt x="844" y="57"/>
                  <a:pt x="936" y="69"/>
                </a:cubicBezTo>
                <a:cubicBezTo>
                  <a:pt x="969" y="73"/>
                  <a:pt x="999" y="88"/>
                  <a:pt x="1032" y="93"/>
                </a:cubicBezTo>
                <a:cubicBezTo>
                  <a:pt x="1072" y="100"/>
                  <a:pt x="1112" y="101"/>
                  <a:pt x="1152" y="105"/>
                </a:cubicBezTo>
                <a:cubicBezTo>
                  <a:pt x="1801" y="321"/>
                  <a:pt x="2520" y="160"/>
                  <a:pt x="3204" y="165"/>
                </a:cubicBezTo>
                <a:cubicBezTo>
                  <a:pt x="3614" y="194"/>
                  <a:pt x="4017" y="268"/>
                  <a:pt x="4428" y="285"/>
                </a:cubicBezTo>
                <a:cubicBezTo>
                  <a:pt x="4600" y="242"/>
                  <a:pt x="4685" y="325"/>
                  <a:pt x="4836" y="357"/>
                </a:cubicBezTo>
                <a:cubicBezTo>
                  <a:pt x="4924" y="376"/>
                  <a:pt x="5016" y="385"/>
                  <a:pt x="5100" y="417"/>
                </a:cubicBezTo>
                <a:cubicBezTo>
                  <a:pt x="5132" y="429"/>
                  <a:pt x="5163" y="445"/>
                  <a:pt x="5196" y="453"/>
                </a:cubicBezTo>
                <a:cubicBezTo>
                  <a:pt x="5295" y="478"/>
                  <a:pt x="5406" y="488"/>
                  <a:pt x="5508" y="501"/>
                </a:cubicBezTo>
                <a:cubicBezTo>
                  <a:pt x="5596" y="530"/>
                  <a:pt x="5728" y="526"/>
                  <a:pt x="5820" y="549"/>
                </a:cubicBezTo>
                <a:cubicBezTo>
                  <a:pt x="5838" y="576"/>
                  <a:pt x="5832" y="3371"/>
                  <a:pt x="5832" y="3405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95400" y="2695680"/>
            <a:ext cx="9315720" cy="4314600"/>
          </a:xfrm>
          <a:custGeom>
            <a:avLst/>
            <a:gdLst/>
            <a:ahLst/>
            <a:rect l="l" t="t" r="r" b="b"/>
            <a:pathLst>
              <a:path w="5868" h="2718">
                <a:moveTo>
                  <a:pt x="24" y="30"/>
                </a:moveTo>
                <a:cubicBezTo>
                  <a:pt x="250" y="0"/>
                  <a:pt x="956" y="178"/>
                  <a:pt x="1392" y="294"/>
                </a:cubicBezTo>
                <a:cubicBezTo>
                  <a:pt x="1826" y="436"/>
                  <a:pt x="2499" y="575"/>
                  <a:pt x="2640" y="726"/>
                </a:cubicBezTo>
                <a:cubicBezTo>
                  <a:pt x="2781" y="877"/>
                  <a:pt x="2380" y="982"/>
                  <a:pt x="2436" y="1086"/>
                </a:cubicBezTo>
                <a:cubicBezTo>
                  <a:pt x="2492" y="1190"/>
                  <a:pt x="2748" y="1280"/>
                  <a:pt x="2976" y="1350"/>
                </a:cubicBezTo>
                <a:cubicBezTo>
                  <a:pt x="3228" y="1418"/>
                  <a:pt x="3560" y="1412"/>
                  <a:pt x="3804" y="1506"/>
                </a:cubicBezTo>
                <a:cubicBezTo>
                  <a:pt x="4048" y="1600"/>
                  <a:pt x="5524" y="1772"/>
                  <a:pt x="5868" y="1962"/>
                </a:cubicBezTo>
                <a:lnTo>
                  <a:pt x="5868" y="2646"/>
                </a:lnTo>
                <a:cubicBezTo>
                  <a:pt x="5868" y="2646"/>
                  <a:pt x="2724" y="2718"/>
                  <a:pt x="2196" y="2610"/>
                </a:cubicBezTo>
                <a:cubicBezTo>
                  <a:pt x="1908" y="2286"/>
                  <a:pt x="1906" y="2312"/>
                  <a:pt x="1764" y="2166"/>
                </a:cubicBezTo>
                <a:cubicBezTo>
                  <a:pt x="1692" y="2082"/>
                  <a:pt x="1188" y="1696"/>
                  <a:pt x="1044" y="1530"/>
                </a:cubicBezTo>
                <a:cubicBezTo>
                  <a:pt x="900" y="1364"/>
                  <a:pt x="844" y="1278"/>
                  <a:pt x="900" y="1170"/>
                </a:cubicBezTo>
                <a:cubicBezTo>
                  <a:pt x="938" y="1044"/>
                  <a:pt x="1422" y="976"/>
                  <a:pt x="1380" y="882"/>
                </a:cubicBezTo>
                <a:cubicBezTo>
                  <a:pt x="1338" y="788"/>
                  <a:pt x="872" y="674"/>
                  <a:pt x="648" y="606"/>
                </a:cubicBezTo>
                <a:cubicBezTo>
                  <a:pt x="436" y="526"/>
                  <a:pt x="158" y="504"/>
                  <a:pt x="36" y="474"/>
                </a:cubicBezTo>
                <a:cubicBezTo>
                  <a:pt x="0" y="474"/>
                  <a:pt x="26" y="122"/>
                  <a:pt x="24" y="30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451640" y="1197000"/>
            <a:ext cx="655560" cy="1225440"/>
            <a:chOff x="7451640" y="1197000"/>
            <a:chExt cx="655560" cy="1225440"/>
          </a:xfrm>
        </p:grpSpPr>
        <p:sp>
          <p:nvSpPr>
            <p:cNvPr id="122" name=""/>
            <p:cNvSpPr/>
            <p:nvPr/>
          </p:nvSpPr>
          <p:spPr>
            <a:xfrm>
              <a:off x="7451640" y="1197000"/>
              <a:ext cx="655560" cy="9320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8280" y="1492920"/>
              <a:ext cx="244800" cy="9295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101080" y="1557360"/>
            <a:ext cx="934560" cy="1441440"/>
            <a:chOff x="8101080" y="1557360"/>
            <a:chExt cx="934560" cy="1441440"/>
          </a:xfrm>
        </p:grpSpPr>
        <p:sp>
          <p:nvSpPr>
            <p:cNvPr id="125" name=""/>
            <p:cNvSpPr/>
            <p:nvPr/>
          </p:nvSpPr>
          <p:spPr>
            <a:xfrm>
              <a:off x="8101080" y="1557360"/>
              <a:ext cx="934560" cy="10962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95560" y="1905480"/>
              <a:ext cx="349200" cy="109332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635280" y="907920"/>
            <a:ext cx="654120" cy="1008000"/>
            <a:chOff x="3635280" y="907920"/>
            <a:chExt cx="654120" cy="1008000"/>
          </a:xfrm>
        </p:grpSpPr>
        <p:sp>
          <p:nvSpPr>
            <p:cNvPr id="128" name=""/>
            <p:cNvSpPr/>
            <p:nvPr/>
          </p:nvSpPr>
          <p:spPr>
            <a:xfrm>
              <a:off x="3635280" y="907920"/>
              <a:ext cx="654120" cy="7668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41200" y="1151280"/>
              <a:ext cx="244080" cy="764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443640" y="1628640"/>
            <a:ext cx="432000" cy="792000"/>
            <a:chOff x="6443640" y="1628640"/>
            <a:chExt cx="432000" cy="792000"/>
          </a:xfrm>
        </p:grpSpPr>
        <p:sp>
          <p:nvSpPr>
            <p:cNvPr id="131" name=""/>
            <p:cNvSpPr/>
            <p:nvPr/>
          </p:nvSpPr>
          <p:spPr>
            <a:xfrm>
              <a:off x="6443640" y="1628640"/>
              <a:ext cx="432000" cy="6026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79720" y="1819800"/>
              <a:ext cx="161280" cy="6008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95280" y="907920"/>
            <a:ext cx="706320" cy="1295280"/>
            <a:chOff x="395280" y="907920"/>
            <a:chExt cx="706320" cy="1295280"/>
          </a:xfrm>
        </p:grpSpPr>
        <p:sp>
          <p:nvSpPr>
            <p:cNvPr id="134" name=""/>
            <p:cNvSpPr/>
            <p:nvPr/>
          </p:nvSpPr>
          <p:spPr>
            <a:xfrm>
              <a:off x="395280" y="907920"/>
              <a:ext cx="706320" cy="9853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7760" y="1220760"/>
              <a:ext cx="263880" cy="9824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835280" y="1268280"/>
            <a:ext cx="504720" cy="502920"/>
            <a:chOff x="1835280" y="1268280"/>
            <a:chExt cx="504720" cy="502920"/>
          </a:xfrm>
        </p:grpSpPr>
        <p:sp>
          <p:nvSpPr>
            <p:cNvPr id="137" name=""/>
            <p:cNvSpPr/>
            <p:nvPr/>
          </p:nvSpPr>
          <p:spPr>
            <a:xfrm>
              <a:off x="1835280" y="1268280"/>
              <a:ext cx="504720" cy="382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94400" y="1389600"/>
              <a:ext cx="188280" cy="381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1987800">
            <a:off x="2268360" y="4941360"/>
            <a:ext cx="2881440" cy="333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680400">
            <a:off x="2842920" y="5373360"/>
            <a:ext cx="5486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8360" y="260280"/>
            <a:ext cx="1501560" cy="4478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549360"/>
            <a:ext cx="1069920" cy="43164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12000" y="189000"/>
            <a:ext cx="1366920" cy="574560"/>
          </a:xfrm>
          <a:custGeom>
            <a:avLst/>
            <a:gdLst/>
            <a:ahLst/>
            <a:rect l="l" t="t" r="r" b="b"/>
            <a:pathLst>
              <a:path w="946" h="282">
                <a:moveTo>
                  <a:pt x="374" y="47"/>
                </a:moveTo>
                <a:cubicBezTo>
                  <a:pt x="560" y="0"/>
                  <a:pt x="734" y="14"/>
                  <a:pt x="926" y="23"/>
                </a:cubicBezTo>
                <a:cubicBezTo>
                  <a:pt x="867" y="170"/>
                  <a:pt x="904" y="22"/>
                  <a:pt x="938" y="107"/>
                </a:cubicBezTo>
                <a:cubicBezTo>
                  <a:pt x="946" y="127"/>
                  <a:pt x="892" y="188"/>
                  <a:pt x="890" y="191"/>
                </a:cubicBezTo>
                <a:cubicBezTo>
                  <a:pt x="894" y="207"/>
                  <a:pt x="916" y="231"/>
                  <a:pt x="902" y="239"/>
                </a:cubicBezTo>
                <a:cubicBezTo>
                  <a:pt x="822" y="282"/>
                  <a:pt x="606" y="255"/>
                  <a:pt x="542" y="251"/>
                </a:cubicBezTo>
                <a:cubicBezTo>
                  <a:pt x="538" y="239"/>
                  <a:pt x="521" y="224"/>
                  <a:pt x="530" y="215"/>
                </a:cubicBezTo>
                <a:cubicBezTo>
                  <a:pt x="539" y="206"/>
                  <a:pt x="576" y="219"/>
                  <a:pt x="566" y="227"/>
                </a:cubicBezTo>
                <a:cubicBezTo>
                  <a:pt x="543" y="244"/>
                  <a:pt x="510" y="243"/>
                  <a:pt x="482" y="251"/>
                </a:cubicBezTo>
                <a:cubicBezTo>
                  <a:pt x="450" y="247"/>
                  <a:pt x="415" y="252"/>
                  <a:pt x="386" y="239"/>
                </a:cubicBezTo>
                <a:cubicBezTo>
                  <a:pt x="374" y="234"/>
                  <a:pt x="368" y="214"/>
                  <a:pt x="374" y="203"/>
                </a:cubicBezTo>
                <a:cubicBezTo>
                  <a:pt x="380" y="192"/>
                  <a:pt x="398" y="195"/>
                  <a:pt x="410" y="191"/>
                </a:cubicBezTo>
                <a:cubicBezTo>
                  <a:pt x="334" y="187"/>
                  <a:pt x="258" y="188"/>
                  <a:pt x="182" y="179"/>
                </a:cubicBezTo>
                <a:cubicBezTo>
                  <a:pt x="133" y="173"/>
                  <a:pt x="87" y="151"/>
                  <a:pt x="38" y="143"/>
                </a:cubicBezTo>
                <a:cubicBezTo>
                  <a:pt x="104" y="44"/>
                  <a:pt x="0" y="177"/>
                  <a:pt x="218" y="119"/>
                </a:cubicBezTo>
                <a:cubicBezTo>
                  <a:pt x="239" y="113"/>
                  <a:pt x="234" y="79"/>
                  <a:pt x="242" y="59"/>
                </a:cubicBezTo>
                <a:cubicBezTo>
                  <a:pt x="382" y="72"/>
                  <a:pt x="374" y="115"/>
                  <a:pt x="374" y="47"/>
                </a:cubicBez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ffffff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58920" y="1628640"/>
            <a:ext cx="785880" cy="1079280"/>
            <a:chOff x="1258920" y="1628640"/>
            <a:chExt cx="785880" cy="1079280"/>
          </a:xfrm>
        </p:grpSpPr>
        <p:sp>
          <p:nvSpPr>
            <p:cNvPr id="145" name=""/>
            <p:cNvSpPr/>
            <p:nvPr/>
          </p:nvSpPr>
          <p:spPr>
            <a:xfrm>
              <a:off x="1258920" y="1628640"/>
              <a:ext cx="785880" cy="82116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06600" y="1889280"/>
              <a:ext cx="293400" cy="8186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340000" y="1484280"/>
            <a:ext cx="792000" cy="1366920"/>
            <a:chOff x="2340000" y="1484280"/>
            <a:chExt cx="792000" cy="1366920"/>
          </a:xfrm>
        </p:grpSpPr>
        <p:sp>
          <p:nvSpPr>
            <p:cNvPr id="148" name=""/>
            <p:cNvSpPr/>
            <p:nvPr/>
          </p:nvSpPr>
          <p:spPr>
            <a:xfrm>
              <a:off x="2340000" y="1484280"/>
              <a:ext cx="792000" cy="103968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89480" y="1814400"/>
              <a:ext cx="295920" cy="10368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740720" y="2492280"/>
            <a:ext cx="863640" cy="1582920"/>
            <a:chOff x="7740720" y="2492280"/>
            <a:chExt cx="863640" cy="1582920"/>
          </a:xfrm>
        </p:grpSpPr>
        <p:sp>
          <p:nvSpPr>
            <p:cNvPr id="151" name=""/>
            <p:cNvSpPr/>
            <p:nvPr/>
          </p:nvSpPr>
          <p:spPr>
            <a:xfrm>
              <a:off x="7740720" y="2492280"/>
              <a:ext cx="863640" cy="120384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12880" y="2874600"/>
              <a:ext cx="322560" cy="120060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028000" y="3284640"/>
            <a:ext cx="1223640" cy="1798200"/>
            <a:chOff x="8028000" y="3284640"/>
            <a:chExt cx="1223640" cy="1798200"/>
          </a:xfrm>
        </p:grpSpPr>
        <p:sp>
          <p:nvSpPr>
            <p:cNvPr id="154" name=""/>
            <p:cNvSpPr/>
            <p:nvPr/>
          </p:nvSpPr>
          <p:spPr>
            <a:xfrm>
              <a:off x="8028000" y="3284640"/>
              <a:ext cx="1223640" cy="136800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13560" y="3718800"/>
              <a:ext cx="457200" cy="136404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84360" y="4581360"/>
            <a:ext cx="2159640" cy="2374560"/>
            <a:chOff x="684360" y="4581360"/>
            <a:chExt cx="2159640" cy="2374560"/>
          </a:xfrm>
        </p:grpSpPr>
        <p:sp>
          <p:nvSpPr>
            <p:cNvPr id="157" name=""/>
            <p:cNvSpPr/>
            <p:nvPr/>
          </p:nvSpPr>
          <p:spPr>
            <a:xfrm>
              <a:off x="684360" y="4581360"/>
              <a:ext cx="2159640" cy="1806120"/>
            </a:xfrm>
            <a:custGeom>
              <a:avLst/>
              <a:gdLst/>
              <a:ahLst/>
              <a:rect l="l" t="t" r="r" b="b"/>
              <a:pathLst>
                <a:path w="559" h="794">
                  <a:moveTo>
                    <a:pt x="164" y="144"/>
                  </a:moveTo>
                  <a:cubicBezTo>
                    <a:pt x="108" y="163"/>
                    <a:pt x="112" y="193"/>
                    <a:pt x="80" y="240"/>
                  </a:cubicBezTo>
                  <a:cubicBezTo>
                    <a:pt x="68" y="301"/>
                    <a:pt x="73" y="327"/>
                    <a:pt x="92" y="384"/>
                  </a:cubicBezTo>
                  <a:cubicBezTo>
                    <a:pt x="0" y="445"/>
                    <a:pt x="64" y="515"/>
                    <a:pt x="80" y="612"/>
                  </a:cubicBezTo>
                  <a:cubicBezTo>
                    <a:pt x="76" y="640"/>
                    <a:pt x="58" y="670"/>
                    <a:pt x="68" y="696"/>
                  </a:cubicBezTo>
                  <a:cubicBezTo>
                    <a:pt x="74" y="711"/>
                    <a:pt x="103" y="698"/>
                    <a:pt x="116" y="708"/>
                  </a:cubicBezTo>
                  <a:cubicBezTo>
                    <a:pt x="132" y="720"/>
                    <a:pt x="140" y="740"/>
                    <a:pt x="152" y="756"/>
                  </a:cubicBezTo>
                  <a:cubicBezTo>
                    <a:pt x="164" y="752"/>
                    <a:pt x="177" y="750"/>
                    <a:pt x="188" y="744"/>
                  </a:cubicBezTo>
                  <a:cubicBezTo>
                    <a:pt x="201" y="738"/>
                    <a:pt x="210" y="720"/>
                    <a:pt x="224" y="720"/>
                  </a:cubicBezTo>
                  <a:cubicBezTo>
                    <a:pt x="253" y="720"/>
                    <a:pt x="280" y="736"/>
                    <a:pt x="308" y="744"/>
                  </a:cubicBezTo>
                  <a:cubicBezTo>
                    <a:pt x="324" y="760"/>
                    <a:pt x="334" y="788"/>
                    <a:pt x="356" y="792"/>
                  </a:cubicBezTo>
                  <a:cubicBezTo>
                    <a:pt x="370" y="794"/>
                    <a:pt x="370" y="766"/>
                    <a:pt x="380" y="756"/>
                  </a:cubicBezTo>
                  <a:cubicBezTo>
                    <a:pt x="394" y="742"/>
                    <a:pt x="412" y="732"/>
                    <a:pt x="428" y="720"/>
                  </a:cubicBezTo>
                  <a:cubicBezTo>
                    <a:pt x="444" y="724"/>
                    <a:pt x="460" y="737"/>
                    <a:pt x="476" y="732"/>
                  </a:cubicBezTo>
                  <a:cubicBezTo>
                    <a:pt x="542" y="713"/>
                    <a:pt x="504" y="622"/>
                    <a:pt x="500" y="588"/>
                  </a:cubicBezTo>
                  <a:cubicBezTo>
                    <a:pt x="512" y="564"/>
                    <a:pt x="532" y="542"/>
                    <a:pt x="536" y="516"/>
                  </a:cubicBezTo>
                  <a:cubicBezTo>
                    <a:pt x="543" y="475"/>
                    <a:pt x="510" y="401"/>
                    <a:pt x="500" y="360"/>
                  </a:cubicBezTo>
                  <a:cubicBezTo>
                    <a:pt x="519" y="331"/>
                    <a:pt x="559" y="275"/>
                    <a:pt x="524" y="240"/>
                  </a:cubicBezTo>
                  <a:cubicBezTo>
                    <a:pt x="515" y="231"/>
                    <a:pt x="500" y="232"/>
                    <a:pt x="488" y="228"/>
                  </a:cubicBezTo>
                  <a:cubicBezTo>
                    <a:pt x="480" y="204"/>
                    <a:pt x="470" y="181"/>
                    <a:pt x="464" y="156"/>
                  </a:cubicBezTo>
                  <a:cubicBezTo>
                    <a:pt x="458" y="132"/>
                    <a:pt x="464" y="105"/>
                    <a:pt x="452" y="84"/>
                  </a:cubicBezTo>
                  <a:cubicBezTo>
                    <a:pt x="446" y="73"/>
                    <a:pt x="428" y="76"/>
                    <a:pt x="416" y="72"/>
                  </a:cubicBezTo>
                  <a:cubicBezTo>
                    <a:pt x="400" y="60"/>
                    <a:pt x="388" y="36"/>
                    <a:pt x="368" y="36"/>
                  </a:cubicBezTo>
                  <a:cubicBezTo>
                    <a:pt x="351" y="36"/>
                    <a:pt x="348" y="77"/>
                    <a:pt x="332" y="72"/>
                  </a:cubicBezTo>
                  <a:cubicBezTo>
                    <a:pt x="310" y="65"/>
                    <a:pt x="312" y="28"/>
                    <a:pt x="296" y="12"/>
                  </a:cubicBezTo>
                  <a:cubicBezTo>
                    <a:pt x="287" y="3"/>
                    <a:pt x="272" y="4"/>
                    <a:pt x="260" y="0"/>
                  </a:cubicBezTo>
                  <a:cubicBezTo>
                    <a:pt x="241" y="148"/>
                    <a:pt x="282" y="84"/>
                    <a:pt x="164" y="72"/>
                  </a:cubicBezTo>
                  <a:cubicBezTo>
                    <a:pt x="151" y="71"/>
                    <a:pt x="140" y="80"/>
                    <a:pt x="128" y="84"/>
                  </a:cubicBezTo>
                  <a:cubicBezTo>
                    <a:pt x="144" y="131"/>
                    <a:pt x="131" y="111"/>
                    <a:pt x="164" y="14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5120" y="5154840"/>
              <a:ext cx="806760" cy="1801080"/>
            </a:xfrm>
            <a:custGeom>
              <a:avLst/>
              <a:gdLst/>
              <a:ahLst/>
              <a:rect l="l" t="t" r="r" b="b"/>
              <a:pathLst>
                <a:path w="231" h="792">
                  <a:moveTo>
                    <a:pt x="48" y="792"/>
                  </a:moveTo>
                  <a:cubicBezTo>
                    <a:pt x="76" y="708"/>
                    <a:pt x="71" y="616"/>
                    <a:pt x="84" y="528"/>
                  </a:cubicBezTo>
                  <a:cubicBezTo>
                    <a:pt x="74" y="477"/>
                    <a:pt x="65" y="392"/>
                    <a:pt x="36" y="348"/>
                  </a:cubicBezTo>
                  <a:cubicBezTo>
                    <a:pt x="28" y="336"/>
                    <a:pt x="0" y="320"/>
                    <a:pt x="12" y="312"/>
                  </a:cubicBezTo>
                  <a:cubicBezTo>
                    <a:pt x="29" y="301"/>
                    <a:pt x="52" y="320"/>
                    <a:pt x="72" y="324"/>
                  </a:cubicBezTo>
                  <a:cubicBezTo>
                    <a:pt x="137" y="227"/>
                    <a:pt x="105" y="110"/>
                    <a:pt x="132" y="0"/>
                  </a:cubicBezTo>
                  <a:cubicBezTo>
                    <a:pt x="140" y="12"/>
                    <a:pt x="151" y="22"/>
                    <a:pt x="156" y="36"/>
                  </a:cubicBezTo>
                  <a:cubicBezTo>
                    <a:pt x="183" y="116"/>
                    <a:pt x="138" y="118"/>
                    <a:pt x="204" y="96"/>
                  </a:cubicBezTo>
                  <a:cubicBezTo>
                    <a:pt x="212" y="108"/>
                    <a:pt x="231" y="118"/>
                    <a:pt x="228" y="132"/>
                  </a:cubicBezTo>
                  <a:cubicBezTo>
                    <a:pt x="225" y="144"/>
                    <a:pt x="198" y="133"/>
                    <a:pt x="192" y="144"/>
                  </a:cubicBezTo>
                  <a:cubicBezTo>
                    <a:pt x="172" y="179"/>
                    <a:pt x="178" y="224"/>
                    <a:pt x="168" y="264"/>
                  </a:cubicBezTo>
                  <a:cubicBezTo>
                    <a:pt x="172" y="388"/>
                    <a:pt x="170" y="512"/>
                    <a:pt x="180" y="636"/>
                  </a:cubicBezTo>
                  <a:cubicBezTo>
                    <a:pt x="183" y="669"/>
                    <a:pt x="204" y="732"/>
                    <a:pt x="204" y="732"/>
                  </a:cubicBezTo>
                  <a:cubicBezTo>
                    <a:pt x="200" y="752"/>
                    <a:pt x="192" y="792"/>
                    <a:pt x="192" y="792"/>
                  </a:cubicBez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 rot="1297200">
            <a:off x="684360" y="3284640"/>
            <a:ext cx="2160360" cy="249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1873080" cy="1199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796000" y="4005360"/>
            <a:ext cx="1800360" cy="1152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826920" y="5157720"/>
            <a:ext cx="5486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V="1" rot="431400">
            <a:off x="539640" y="5013000"/>
            <a:ext cx="1871640" cy="96840"/>
          </a:xfrm>
          <a:custGeom>
            <a:avLst/>
            <a:gdLst/>
            <a:ahLst/>
            <a:rect l="l" t="t" r="r" b="b"/>
            <a:pathLst>
              <a:path w="1786" h="120">
                <a:moveTo>
                  <a:pt x="70" y="22"/>
                </a:moveTo>
                <a:cubicBezTo>
                  <a:pt x="353" y="62"/>
                  <a:pt x="597" y="40"/>
                  <a:pt x="898" y="34"/>
                </a:cubicBezTo>
                <a:cubicBezTo>
                  <a:pt x="1194" y="4"/>
                  <a:pt x="1494" y="0"/>
                  <a:pt x="1786" y="58"/>
                </a:cubicBezTo>
                <a:cubicBezTo>
                  <a:pt x="1293" y="120"/>
                  <a:pt x="744" y="78"/>
                  <a:pt x="250" y="70"/>
                </a:cubicBezTo>
                <a:cubicBezTo>
                  <a:pt x="194" y="66"/>
                  <a:pt x="138" y="65"/>
                  <a:pt x="82" y="58"/>
                </a:cubicBezTo>
                <a:cubicBezTo>
                  <a:pt x="69" y="57"/>
                  <a:pt x="57" y="52"/>
                  <a:pt x="46" y="46"/>
                </a:cubicBezTo>
                <a:cubicBezTo>
                  <a:pt x="33" y="40"/>
                  <a:pt x="0" y="32"/>
                  <a:pt x="10" y="22"/>
                </a:cubicBezTo>
                <a:cubicBezTo>
                  <a:pt x="24" y="8"/>
                  <a:pt x="50" y="22"/>
                  <a:pt x="70" y="22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 rot="801000">
            <a:off x="3492000" y="5806080"/>
            <a:ext cx="1871640" cy="71280"/>
          </a:xfrm>
          <a:custGeom>
            <a:avLst/>
            <a:gdLst/>
            <a:ahLst/>
            <a:rect l="l" t="t" r="r" b="b"/>
            <a:pathLst>
              <a:path w="1786" h="120">
                <a:moveTo>
                  <a:pt x="70" y="22"/>
                </a:moveTo>
                <a:cubicBezTo>
                  <a:pt x="353" y="62"/>
                  <a:pt x="597" y="40"/>
                  <a:pt x="898" y="34"/>
                </a:cubicBezTo>
                <a:cubicBezTo>
                  <a:pt x="1194" y="4"/>
                  <a:pt x="1494" y="0"/>
                  <a:pt x="1786" y="58"/>
                </a:cubicBezTo>
                <a:cubicBezTo>
                  <a:pt x="1293" y="120"/>
                  <a:pt x="744" y="78"/>
                  <a:pt x="250" y="70"/>
                </a:cubicBezTo>
                <a:cubicBezTo>
                  <a:pt x="194" y="66"/>
                  <a:pt x="138" y="65"/>
                  <a:pt x="82" y="58"/>
                </a:cubicBezTo>
                <a:cubicBezTo>
                  <a:pt x="69" y="57"/>
                  <a:pt x="57" y="52"/>
                  <a:pt x="46" y="46"/>
                </a:cubicBezTo>
                <a:cubicBezTo>
                  <a:pt x="33" y="40"/>
                  <a:pt x="0" y="32"/>
                  <a:pt x="10" y="22"/>
                </a:cubicBezTo>
                <a:cubicBezTo>
                  <a:pt x="24" y="8"/>
                  <a:pt x="50" y="22"/>
                  <a:pt x="70" y="22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 flipH="1">
            <a:off x="3419280" y="2637000"/>
            <a:ext cx="2492280" cy="1993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508720" y="1628640"/>
            <a:ext cx="1476360" cy="865440"/>
          </a:xfrm>
          <a:prstGeom prst="cloudCallout">
            <a:avLst>
              <a:gd name="adj1" fmla="val -43763"/>
              <a:gd name="adj2" fmla="val 9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我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125480" y="2637000"/>
            <a:ext cx="1476360" cy="865080"/>
          </a:xfrm>
          <a:prstGeom prst="cloudCallout">
            <a:avLst>
              <a:gd name="adj1" fmla="val 76236"/>
              <a:gd name="adj2" fmla="val 9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我抓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42920" y="981000"/>
            <a:ext cx="3095640" cy="1873080"/>
            <a:chOff x="1042920" y="981000"/>
            <a:chExt cx="3095640" cy="1873080"/>
          </a:xfrm>
        </p:grpSpPr>
        <p:sp>
          <p:nvSpPr>
            <p:cNvPr id="169" name=""/>
            <p:cNvSpPr/>
            <p:nvPr/>
          </p:nvSpPr>
          <p:spPr>
            <a:xfrm>
              <a:off x="1042920" y="981000"/>
              <a:ext cx="2212920" cy="1873080"/>
            </a:xfrm>
            <a:prstGeom prst="cloudCallout">
              <a:avLst>
                <a:gd name="adj1" fmla="val -40532"/>
                <a:gd name="adj2" fmla="val 845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24000" y="1304640"/>
              <a:ext cx="29145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我抓的鱼比黄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和黑猫抓的总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少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条┅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 txBox="1"/>
          <p:nvPr/>
        </p:nvSpPr>
        <p:spPr>
          <a:xfrm>
            <a:off x="324000" y="6021360"/>
            <a:ext cx="637992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宋体"/>
              </a:rPr>
              <a:t>同学们，你们能提出什么数学问题？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54200" y="3889440"/>
            <a:ext cx="7273800" cy="15573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5493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黄猫抓鱼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条，黑猫抓鱼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白猫抓的鱼比黄猫和黑猫抓的总数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021360"/>
            <a:ext cx="9144000" cy="45972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独立思考，尝试解答；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组内交流；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选定代表汇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64000" y="2492280"/>
            <a:ext cx="18288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学习建议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12985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白猫抓了多少条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1478800">
            <a:off x="2989080" y="3987720"/>
            <a:ext cx="2533320" cy="792360"/>
          </a:xfrm>
          <a:custGeom>
            <a:avLst/>
            <a:gdLst/>
            <a:ahLst/>
            <a:rect l="l" t="t" r="r" b="b"/>
            <a:pathLst>
              <a:path w="1596" h="681">
                <a:moveTo>
                  <a:pt x="351" y="40"/>
                </a:moveTo>
                <a:cubicBezTo>
                  <a:pt x="424" y="32"/>
                  <a:pt x="644" y="7"/>
                  <a:pt x="717" y="0"/>
                </a:cubicBezTo>
                <a:cubicBezTo>
                  <a:pt x="917" y="3"/>
                  <a:pt x="971" y="22"/>
                  <a:pt x="1170" y="30"/>
                </a:cubicBezTo>
                <a:cubicBezTo>
                  <a:pt x="1203" y="32"/>
                  <a:pt x="1265" y="49"/>
                  <a:pt x="1265" y="49"/>
                </a:cubicBezTo>
                <a:cubicBezTo>
                  <a:pt x="1333" y="91"/>
                  <a:pt x="1425" y="117"/>
                  <a:pt x="1486" y="164"/>
                </a:cubicBezTo>
                <a:cubicBezTo>
                  <a:pt x="1509" y="183"/>
                  <a:pt x="1549" y="222"/>
                  <a:pt x="1549" y="222"/>
                </a:cubicBezTo>
                <a:cubicBezTo>
                  <a:pt x="1554" y="234"/>
                  <a:pt x="1557" y="248"/>
                  <a:pt x="1564" y="260"/>
                </a:cubicBezTo>
                <a:cubicBezTo>
                  <a:pt x="1572" y="270"/>
                  <a:pt x="1595" y="278"/>
                  <a:pt x="1596" y="289"/>
                </a:cubicBezTo>
                <a:cubicBezTo>
                  <a:pt x="1596" y="292"/>
                  <a:pt x="1595" y="427"/>
                  <a:pt x="1564" y="470"/>
                </a:cubicBezTo>
                <a:cubicBezTo>
                  <a:pt x="1543" y="500"/>
                  <a:pt x="1489" y="557"/>
                  <a:pt x="1457" y="582"/>
                </a:cubicBezTo>
                <a:cubicBezTo>
                  <a:pt x="1328" y="675"/>
                  <a:pt x="1286" y="651"/>
                  <a:pt x="1092" y="681"/>
                </a:cubicBezTo>
                <a:cubicBezTo>
                  <a:pt x="950" y="678"/>
                  <a:pt x="808" y="679"/>
                  <a:pt x="666" y="671"/>
                </a:cubicBezTo>
                <a:cubicBezTo>
                  <a:pt x="578" y="667"/>
                  <a:pt x="481" y="640"/>
                  <a:pt x="398" y="624"/>
                </a:cubicBezTo>
                <a:cubicBezTo>
                  <a:pt x="324" y="608"/>
                  <a:pt x="257" y="602"/>
                  <a:pt x="193" y="576"/>
                </a:cubicBezTo>
                <a:cubicBezTo>
                  <a:pt x="171" y="555"/>
                  <a:pt x="137" y="539"/>
                  <a:pt x="114" y="518"/>
                </a:cubicBezTo>
                <a:cubicBezTo>
                  <a:pt x="105" y="510"/>
                  <a:pt x="105" y="499"/>
                  <a:pt x="99" y="490"/>
                </a:cubicBezTo>
                <a:cubicBezTo>
                  <a:pt x="11" y="372"/>
                  <a:pt x="56" y="451"/>
                  <a:pt x="20" y="384"/>
                </a:cubicBezTo>
                <a:cubicBezTo>
                  <a:pt x="143" y="356"/>
                  <a:pt x="389" y="322"/>
                  <a:pt x="509" y="306"/>
                </a:cubicBezTo>
                <a:cubicBezTo>
                  <a:pt x="557" y="330"/>
                  <a:pt x="89" y="295"/>
                  <a:pt x="8" y="249"/>
                </a:cubicBezTo>
                <a:cubicBezTo>
                  <a:pt x="0" y="220"/>
                  <a:pt x="272" y="59"/>
                  <a:pt x="351" y="4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33cc33"/>
              </a:gs>
            </a:gsLst>
            <a:lin ang="13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1461400">
            <a:off x="4644720" y="4419360"/>
            <a:ext cx="1079280" cy="476280"/>
          </a:xfrm>
          <a:custGeom>
            <a:avLst/>
            <a:gdLst/>
            <a:ahLst/>
            <a:rect l="l" t="t" r="r" b="b"/>
            <a:pathLst>
              <a:path w="680" h="346">
                <a:moveTo>
                  <a:pt x="149" y="20"/>
                </a:moveTo>
                <a:cubicBezTo>
                  <a:pt x="181" y="16"/>
                  <a:pt x="274" y="4"/>
                  <a:pt x="306" y="0"/>
                </a:cubicBezTo>
                <a:cubicBezTo>
                  <a:pt x="391" y="2"/>
                  <a:pt x="414" y="11"/>
                  <a:pt x="499" y="15"/>
                </a:cubicBezTo>
                <a:cubicBezTo>
                  <a:pt x="513" y="16"/>
                  <a:pt x="539" y="25"/>
                  <a:pt x="539" y="25"/>
                </a:cubicBezTo>
                <a:cubicBezTo>
                  <a:pt x="568" y="46"/>
                  <a:pt x="607" y="60"/>
                  <a:pt x="633" y="83"/>
                </a:cubicBezTo>
                <a:cubicBezTo>
                  <a:pt x="643" y="93"/>
                  <a:pt x="660" y="113"/>
                  <a:pt x="660" y="113"/>
                </a:cubicBezTo>
                <a:cubicBezTo>
                  <a:pt x="662" y="119"/>
                  <a:pt x="663" y="126"/>
                  <a:pt x="667" y="132"/>
                </a:cubicBezTo>
                <a:cubicBezTo>
                  <a:pt x="670" y="137"/>
                  <a:pt x="679" y="141"/>
                  <a:pt x="680" y="147"/>
                </a:cubicBezTo>
                <a:cubicBezTo>
                  <a:pt x="680" y="148"/>
                  <a:pt x="679" y="217"/>
                  <a:pt x="667" y="239"/>
                </a:cubicBezTo>
                <a:cubicBezTo>
                  <a:pt x="658" y="254"/>
                  <a:pt x="647" y="256"/>
                  <a:pt x="633" y="268"/>
                </a:cubicBezTo>
                <a:cubicBezTo>
                  <a:pt x="578" y="316"/>
                  <a:pt x="548" y="331"/>
                  <a:pt x="465" y="346"/>
                </a:cubicBezTo>
                <a:cubicBezTo>
                  <a:pt x="405" y="344"/>
                  <a:pt x="344" y="345"/>
                  <a:pt x="284" y="341"/>
                </a:cubicBezTo>
                <a:cubicBezTo>
                  <a:pt x="246" y="339"/>
                  <a:pt x="205" y="325"/>
                  <a:pt x="170" y="317"/>
                </a:cubicBezTo>
                <a:cubicBezTo>
                  <a:pt x="138" y="309"/>
                  <a:pt x="110" y="306"/>
                  <a:pt x="82" y="293"/>
                </a:cubicBezTo>
                <a:cubicBezTo>
                  <a:pt x="73" y="282"/>
                  <a:pt x="58" y="274"/>
                  <a:pt x="49" y="263"/>
                </a:cubicBezTo>
                <a:cubicBezTo>
                  <a:pt x="45" y="259"/>
                  <a:pt x="45" y="254"/>
                  <a:pt x="42" y="249"/>
                </a:cubicBezTo>
                <a:cubicBezTo>
                  <a:pt x="4" y="189"/>
                  <a:pt x="24" y="229"/>
                  <a:pt x="8" y="195"/>
                </a:cubicBezTo>
                <a:cubicBezTo>
                  <a:pt x="61" y="181"/>
                  <a:pt x="213" y="170"/>
                  <a:pt x="265" y="162"/>
                </a:cubicBezTo>
                <a:cubicBezTo>
                  <a:pt x="264" y="151"/>
                  <a:pt x="38" y="150"/>
                  <a:pt x="3" y="126"/>
                </a:cubicBezTo>
                <a:cubicBezTo>
                  <a:pt x="0" y="112"/>
                  <a:pt x="116" y="30"/>
                  <a:pt x="149" y="2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33cc33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80000" y="2690640"/>
            <a:ext cx="115560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5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181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184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/>
          <p:nvPr/>
        </p:nvSpPr>
        <p:spPr>
          <a:xfrm>
            <a:off x="5005440" y="32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鱼的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 flipH="1">
            <a:off x="2195640" y="2909880"/>
            <a:ext cx="1295280" cy="1036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976560" y="3098880"/>
            <a:ext cx="1190880" cy="761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682080" y="318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/>
          <p:nvPr/>
        </p:nvCxnSpPr>
        <p:spPr>
          <a:xfrm flipV="1">
            <a:off x="4571640" y="1988640"/>
            <a:ext cx="1080" cy="1008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192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2195640" y="1988640"/>
            <a:ext cx="6698880" cy="1958040"/>
            <a:chOff x="2195640" y="1988640"/>
            <a:chExt cx="6698880" cy="1958040"/>
          </a:xfrm>
        </p:grpSpPr>
        <p:sp>
          <p:nvSpPr>
            <p:cNvPr id="195" name=""/>
            <p:cNvSpPr/>
            <p:nvPr/>
          </p:nvSpPr>
          <p:spPr>
            <a:xfrm>
              <a:off x="5006160" y="3213000"/>
              <a:ext cx="388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鱼的总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2195640" y="1988640"/>
              <a:ext cx="2970360" cy="1958040"/>
              <a:chOff x="2195640" y="1988640"/>
              <a:chExt cx="2970360" cy="1958040"/>
            </a:xfrm>
          </p:grpSpPr>
          <p:pic>
            <p:nvPicPr>
              <p:cNvPr id="197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195640" y="2909880"/>
                <a:ext cx="1295280" cy="103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76920" y="3098880"/>
                <a:ext cx="118908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3680280" y="3187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0" name=""/>
              <p:cNvCxnSpPr/>
              <p:nvPr/>
            </p:nvCxnSpPr>
            <p:spPr>
              <a:xfrm flipV="1">
                <a:off x="4572000" y="1988640"/>
                <a:ext cx="1080" cy="1008720"/>
              </a:xfrm>
              <a:prstGeom prst="straightConnector1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1" name=""/>
          <p:cNvGrpSpPr/>
          <p:nvPr/>
        </p:nvGrpSpPr>
        <p:grpSpPr>
          <a:xfrm>
            <a:off x="1619280" y="3859920"/>
            <a:ext cx="5672880" cy="1829520"/>
            <a:chOff x="1619280" y="3859920"/>
            <a:chExt cx="5672880" cy="1829520"/>
          </a:xfrm>
        </p:grpSpPr>
        <p:pic>
          <p:nvPicPr>
            <p:cNvPr id="202" name="" descr=""/>
            <p:cNvPicPr/>
            <p:nvPr/>
          </p:nvPicPr>
          <p:blipFill>
            <a:blip r:embed="rId4"/>
            <a:stretch/>
          </p:blipFill>
          <p:spPr>
            <a:xfrm flipH="1">
              <a:off x="1619280" y="4653000"/>
              <a:ext cx="129528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5"/>
            <a:stretch/>
          </p:blipFill>
          <p:spPr>
            <a:xfrm>
              <a:off x="5364720" y="4724280"/>
              <a:ext cx="11890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084840" y="4724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的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62800" y="47973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的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"/>
            <p:cNvCxnSpPr>
              <a:stCxn id="204" idx="3"/>
            </p:cNvCxnSpPr>
            <p:nvPr/>
          </p:nvCxnSpPr>
          <p:spPr>
            <a:xfrm flipV="1">
              <a:off x="3994560" y="4941000"/>
              <a:ext cx="1226160" cy="118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>
              <a:endCxn id="198" idx="2"/>
            </p:cNvCxnSpPr>
            <p:nvPr/>
          </p:nvCxnSpPr>
          <p:spPr>
            <a:xfrm flipV="1">
              <a:off x="4572360" y="3859920"/>
              <a:ext cx="1080" cy="10818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209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/>
          <p:nvPr/>
        </p:nvSpPr>
        <p:spPr>
          <a:xfrm>
            <a:off x="5005440" y="32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鱼的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 flipH="1">
            <a:off x="2195640" y="2909880"/>
            <a:ext cx="1295280" cy="1036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976560" y="3098880"/>
            <a:ext cx="1190880" cy="761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682080" y="318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 flipH="1">
            <a:off x="1619280" y="4653000"/>
            <a:ext cx="1295280" cy="1036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5364000" y="4724280"/>
            <a:ext cx="1189080" cy="762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08484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63160" y="47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/>
          <p:nvPr/>
        </p:nvCxnSpPr>
        <p:spPr>
          <a:xfrm flipV="1">
            <a:off x="4571640" y="1988640"/>
            <a:ext cx="1080" cy="1008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7" idx="3"/>
          </p:cNvCxnSpPr>
          <p:nvPr/>
        </p:nvCxnSpPr>
        <p:spPr>
          <a:xfrm flipV="1">
            <a:off x="4003200" y="4941000"/>
            <a:ext cx="122652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endCxn id="213" idx="2"/>
          </p:cNvCxnSpPr>
          <p:nvPr/>
        </p:nvCxnSpPr>
        <p:spPr>
          <a:xfrm flipV="1">
            <a:off x="4571640" y="3859920"/>
            <a:ext cx="1080" cy="10818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6589800" y="32446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2808360" y="1150560"/>
            <a:ext cx="2845440" cy="1264680"/>
            <a:chOff x="2808360" y="1150560"/>
            <a:chExt cx="2845440" cy="1264680"/>
          </a:xfrm>
        </p:grpSpPr>
        <p:sp>
          <p:nvSpPr>
            <p:cNvPr id="224" name=""/>
            <p:cNvSpPr/>
            <p:nvPr/>
          </p:nvSpPr>
          <p:spPr>
            <a:xfrm>
              <a:off x="4375800" y="14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抓了多少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 rot="19524000">
              <a:off x="2916000" y="1413000"/>
              <a:ext cx="11541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>
            <a:off x="5005440" y="32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鱼的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 flipH="1">
            <a:off x="2195640" y="2909880"/>
            <a:ext cx="1295280" cy="1036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3976560" y="3098880"/>
            <a:ext cx="1190880" cy="761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682080" y="318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 flipH="1">
            <a:off x="1619280" y="4653000"/>
            <a:ext cx="1295280" cy="1036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364000" y="4724280"/>
            <a:ext cx="118908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08484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63160" y="47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的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/>
          <p:nvPr/>
        </p:nvCxnSpPr>
        <p:spPr>
          <a:xfrm flipV="1">
            <a:off x="4571640" y="1988640"/>
            <a:ext cx="1080" cy="1008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2" idx="3"/>
          </p:cNvCxnSpPr>
          <p:nvPr/>
        </p:nvCxnSpPr>
        <p:spPr>
          <a:xfrm flipV="1">
            <a:off x="4003200" y="4941000"/>
            <a:ext cx="122652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endCxn id="228" idx="2"/>
          </p:cNvCxnSpPr>
          <p:nvPr/>
        </p:nvCxnSpPr>
        <p:spPr>
          <a:xfrm flipV="1">
            <a:off x="4571640" y="3859920"/>
            <a:ext cx="1080" cy="10818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6589800" y="32446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+18=4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2160" y="1413000"/>
            <a:ext cx="25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3-3=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 rot="20475000">
            <a:off x="7669080" y="5229360"/>
            <a:ext cx="625680" cy="792000"/>
          </a:xfrm>
          <a:custGeom>
            <a:avLst/>
            <a:gdLst/>
            <a:ahLst/>
            <a:rect l="l" t="t" r="r" b="b"/>
            <a:pathLst>
              <a:path w="364" h="577">
                <a:moveTo>
                  <a:pt x="0" y="159"/>
                </a:moveTo>
                <a:cubicBezTo>
                  <a:pt x="79" y="131"/>
                  <a:pt x="81" y="239"/>
                  <a:pt x="100" y="292"/>
                </a:cubicBezTo>
                <a:cubicBezTo>
                  <a:pt x="103" y="314"/>
                  <a:pt x="106" y="337"/>
                  <a:pt x="108" y="359"/>
                </a:cubicBezTo>
                <a:cubicBezTo>
                  <a:pt x="127" y="572"/>
                  <a:pt x="106" y="541"/>
                  <a:pt x="125" y="159"/>
                </a:cubicBezTo>
                <a:cubicBezTo>
                  <a:pt x="127" y="117"/>
                  <a:pt x="148" y="72"/>
                  <a:pt x="167" y="34"/>
                </a:cubicBezTo>
                <a:cubicBezTo>
                  <a:pt x="170" y="23"/>
                  <a:pt x="163" y="0"/>
                  <a:pt x="175" y="0"/>
                </a:cubicBezTo>
                <a:cubicBezTo>
                  <a:pt x="189" y="0"/>
                  <a:pt x="198" y="20"/>
                  <a:pt x="200" y="34"/>
                </a:cubicBezTo>
                <a:cubicBezTo>
                  <a:pt x="209" y="92"/>
                  <a:pt x="205" y="151"/>
                  <a:pt x="208" y="209"/>
                </a:cubicBezTo>
                <a:cubicBezTo>
                  <a:pt x="214" y="198"/>
                  <a:pt x="218" y="185"/>
                  <a:pt x="225" y="175"/>
                </a:cubicBezTo>
                <a:cubicBezTo>
                  <a:pt x="232" y="165"/>
                  <a:pt x="244" y="160"/>
                  <a:pt x="250" y="150"/>
                </a:cubicBezTo>
                <a:cubicBezTo>
                  <a:pt x="317" y="44"/>
                  <a:pt x="252" y="115"/>
                  <a:pt x="308" y="59"/>
                </a:cubicBezTo>
                <a:cubicBezTo>
                  <a:pt x="311" y="51"/>
                  <a:pt x="308" y="34"/>
                  <a:pt x="317" y="34"/>
                </a:cubicBezTo>
                <a:cubicBezTo>
                  <a:pt x="326" y="34"/>
                  <a:pt x="327" y="50"/>
                  <a:pt x="325" y="59"/>
                </a:cubicBezTo>
                <a:cubicBezTo>
                  <a:pt x="323" y="69"/>
                  <a:pt x="314" y="76"/>
                  <a:pt x="308" y="84"/>
                </a:cubicBezTo>
                <a:cubicBezTo>
                  <a:pt x="294" y="155"/>
                  <a:pt x="264" y="216"/>
                  <a:pt x="242" y="284"/>
                </a:cubicBezTo>
                <a:cubicBezTo>
                  <a:pt x="233" y="312"/>
                  <a:pt x="225" y="339"/>
                  <a:pt x="217" y="367"/>
                </a:cubicBezTo>
                <a:cubicBezTo>
                  <a:pt x="214" y="376"/>
                  <a:pt x="199" y="393"/>
                  <a:pt x="208" y="393"/>
                </a:cubicBezTo>
                <a:cubicBezTo>
                  <a:pt x="218" y="393"/>
                  <a:pt x="219" y="376"/>
                  <a:pt x="225" y="367"/>
                </a:cubicBezTo>
                <a:cubicBezTo>
                  <a:pt x="239" y="324"/>
                  <a:pt x="276" y="265"/>
                  <a:pt x="308" y="234"/>
                </a:cubicBezTo>
                <a:cubicBezTo>
                  <a:pt x="325" y="217"/>
                  <a:pt x="359" y="184"/>
                  <a:pt x="359" y="184"/>
                </a:cubicBezTo>
                <a:cubicBezTo>
                  <a:pt x="349" y="247"/>
                  <a:pt x="326" y="298"/>
                  <a:pt x="292" y="351"/>
                </a:cubicBezTo>
                <a:cubicBezTo>
                  <a:pt x="364" y="397"/>
                  <a:pt x="297" y="457"/>
                  <a:pt x="250" y="493"/>
                </a:cubicBezTo>
                <a:cubicBezTo>
                  <a:pt x="240" y="524"/>
                  <a:pt x="225" y="544"/>
                  <a:pt x="217" y="576"/>
                </a:cubicBezTo>
                <a:cubicBezTo>
                  <a:pt x="189" y="573"/>
                  <a:pt x="161" y="571"/>
                  <a:pt x="133" y="568"/>
                </a:cubicBezTo>
                <a:cubicBezTo>
                  <a:pt x="108" y="565"/>
                  <a:pt x="76" y="577"/>
                  <a:pt x="58" y="559"/>
                </a:cubicBezTo>
                <a:cubicBezTo>
                  <a:pt x="38" y="539"/>
                  <a:pt x="41" y="476"/>
                  <a:pt x="41" y="476"/>
                </a:cubicBezTo>
                <a:cubicBezTo>
                  <a:pt x="38" y="425"/>
                  <a:pt x="36" y="327"/>
                  <a:pt x="25" y="267"/>
                </a:cubicBezTo>
                <a:cubicBezTo>
                  <a:pt x="21" y="242"/>
                  <a:pt x="14" y="217"/>
                  <a:pt x="8" y="192"/>
                </a:cubicBezTo>
                <a:cubicBezTo>
                  <a:pt x="5" y="181"/>
                  <a:pt x="0" y="159"/>
                  <a:pt x="0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3T09:41:13Z</dcterms:created>
  <dc:creator>user</dc:creator>
  <dc:description/>
  <dc:language>en-US</dc:language>
  <cp:lastModifiedBy>a</cp:lastModifiedBy>
  <dcterms:modified xsi:type="dcterms:W3CDTF">2002-12-06T04:07:33Z</dcterms:modified>
  <cp:revision>49</cp:revision>
  <dc:subject/>
  <dc:title>幻灯片 1</dc:title>
</cp:coreProperties>
</file>