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F96D-76D0-4E04-91DB-C28C0678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F07-38E8-4FEC-8DAA-C902C8D6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D8D-0710-487B-AF9B-6D859A91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29F-1B1A-4C0D-B120-B5AC261A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6C0-B507-4B7C-9072-16C829EF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A707-6457-46B9-B2A0-1F656CF5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1274-3540-444D-813F-90F2B9D0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8669-BD65-46D9-BFAA-95801E62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305-0B6B-44FD-B18F-6FABC139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3859-AEA4-4E73-832F-1DBE140A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8E5B-BAB5-4BD0-81E4-711611DB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207-79B6-48D0-8174-07E4C541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1F81-BE5D-440D-8BD2-320605A6EE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R_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2514600"/>
            <a:ext cx="6657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上中下大小</a:t>
            </a:r>
            <a:endParaRPr b="1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G_008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400800" y="533520"/>
            <a:ext cx="1981080" cy="1160280"/>
            <a:chOff x="6400800" y="533520"/>
            <a:chExt cx="1981080" cy="1160280"/>
          </a:xfrm>
        </p:grpSpPr>
        <p:sp>
          <p:nvSpPr>
            <p:cNvPr id="45" name=""/>
            <p:cNvSpPr/>
            <p:nvPr/>
          </p:nvSpPr>
          <p:spPr>
            <a:xfrm>
              <a:off x="6934320" y="533520"/>
              <a:ext cx="14475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ff6699"/>
                  </a:solidFill>
                  <a:latin typeface="Times New Roman"/>
                  <a:ea typeface="楷体_GB2312"/>
                </a:rPr>
                <a:t>上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400800" y="106668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791320" y="3200400"/>
            <a:ext cx="2057400" cy="1160280"/>
            <a:chOff x="5791320" y="3200400"/>
            <a:chExt cx="2057400" cy="1160280"/>
          </a:xfrm>
        </p:grpSpPr>
        <p:sp>
          <p:nvSpPr>
            <p:cNvPr id="48" name=""/>
            <p:cNvSpPr/>
            <p:nvPr/>
          </p:nvSpPr>
          <p:spPr>
            <a:xfrm>
              <a:off x="6477120" y="3200400"/>
              <a:ext cx="13716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1ae680"/>
                  </a:solidFill>
                  <a:latin typeface="Times New Roman"/>
                  <a:ea typeface="楷体_GB2312"/>
                </a:rPr>
                <a:t>中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91320" y="365760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553080" y="5699160"/>
            <a:ext cx="1752840" cy="1160280"/>
            <a:chOff x="6553080" y="5699160"/>
            <a:chExt cx="1752840" cy="1160280"/>
          </a:xfrm>
        </p:grpSpPr>
        <p:sp>
          <p:nvSpPr>
            <p:cNvPr id="51" name=""/>
            <p:cNvSpPr/>
            <p:nvPr/>
          </p:nvSpPr>
          <p:spPr>
            <a:xfrm>
              <a:off x="6553080" y="5699160"/>
              <a:ext cx="9907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下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01000" y="6095880"/>
              <a:ext cx="304920" cy="53352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304920" y="533520"/>
            <a:ext cx="8610480" cy="4114800"/>
            <a:chOff x="304920" y="533520"/>
            <a:chExt cx="8610480" cy="4114800"/>
          </a:xfrm>
        </p:grpSpPr>
        <p:pic>
          <p:nvPicPr>
            <p:cNvPr id="54" name="RM_0398" descr="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RM_0548" descr=""/>
            <p:cNvPicPr/>
            <p:nvPr/>
          </p:nvPicPr>
          <p:blipFill>
            <a:blip r:embed="rId2"/>
            <a:stretch/>
          </p:blipFill>
          <p:spPr>
            <a:xfrm>
              <a:off x="4952880" y="533520"/>
              <a:ext cx="3962520" cy="40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 txBox="1"/>
          <p:nvPr/>
        </p:nvSpPr>
        <p:spPr>
          <a:xfrm>
            <a:off x="1676520" y="48769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小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5880" y="4876920"/>
            <a:ext cx="1600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大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M_0606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90920" y="5486400"/>
            <a:ext cx="1371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6699"/>
                </a:solidFill>
                <a:latin typeface="Times New Roman"/>
                <a:ea typeface="华文彩云"/>
              </a:rPr>
              <a:t>小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4343400"/>
            <a:ext cx="1600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5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大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086600" y="457200"/>
            <a:ext cx="2057400" cy="1828800"/>
            <a:chOff x="7086600" y="457200"/>
            <a:chExt cx="2057400" cy="1828800"/>
          </a:xfrm>
        </p:grpSpPr>
        <p:sp>
          <p:nvSpPr>
            <p:cNvPr id="62" name=""/>
            <p:cNvSpPr/>
            <p:nvPr/>
          </p:nvSpPr>
          <p:spPr>
            <a:xfrm>
              <a:off x="7086600" y="457200"/>
              <a:ext cx="205740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56520" y="11430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是爸爸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0" y="228600"/>
            <a:ext cx="1981080" cy="1676520"/>
            <a:chOff x="0" y="228600"/>
            <a:chExt cx="1981080" cy="1676520"/>
          </a:xfrm>
        </p:grpSpPr>
        <p:sp>
          <p:nvSpPr>
            <p:cNvPr id="65" name=""/>
            <p:cNvSpPr/>
            <p:nvPr/>
          </p:nvSpPr>
          <p:spPr>
            <a:xfrm>
              <a:off x="0" y="228600"/>
              <a:ext cx="1981080" cy="1676520"/>
            </a:xfrm>
            <a:prstGeom prst="wedgeEllipseCallout">
              <a:avLst>
                <a:gd name="adj1" fmla="val 46712"/>
                <a:gd name="adj2" fmla="val 6893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3960" y="76212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是儿子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4:26:54Z</dcterms:created>
  <dc:creator>左敏</dc:creator>
  <dc:description/>
  <dc:language>en-US</dc:language>
  <cp:lastModifiedBy>左敏</cp:lastModifiedBy>
  <dcterms:modified xsi:type="dcterms:W3CDTF">2001-10-25T15:00:33Z</dcterms:modified>
  <cp:revision>13</cp:revision>
  <dc:subject/>
  <dc:title>PowerPoint 演示文稿</dc:title>
</cp:coreProperties>
</file>