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B41-D5E9-4C1A-B725-D564E76F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5CE-397E-49EC-B3E5-3066EA71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F17-74B0-48DD-B448-A0517FAC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503-784A-4C31-97BB-3E2632D0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2FB-361E-4F7A-A8D4-AAFAC07E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60A9-C5F5-46E5-B796-3C80AD54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EFAD-CBF2-479C-8DF9-211CB672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9F6E-1071-4A50-A2B3-BB136B7D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2812-BEA4-4753-827C-07433F9D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8383-2463-45E1-9DE6-646482AB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BE52-6B6D-4430-9273-3AE2B00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770-9299-4766-A5C4-CDE38107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0DE2-B17A-41BD-8D3A-3A50233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E57-64A8-4402-B8DA-F1F7403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F8C-EDD6-4E05-9DEA-B48AD14D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B0F1-A365-4DB3-AE54-4B11B559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B8A-A8A5-4404-9A39-58DE3B73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067-004B-4E94-9808-CB294B0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919-F6F0-4621-A4F6-3B7563FB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D8B-2F10-4F60-B9FE-12FD0B96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978-BE4A-4365-8527-EBA843B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E38-6FC6-4285-8664-EF2BD07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841-55E3-43F4-AE29-0E090409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4A5-46F8-45DC-8478-156FCD7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461-68B5-4B94-A2AD-7F038E2E658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EB4-66B6-46BC-9373-721D0A5C35B3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彩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21120" y="2666880"/>
            <a:ext cx="61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      q       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06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声  母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eav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母鸡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358164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9880" y="99072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0200" y="454968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母 鸡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背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01000" y="3048120"/>
            <a:ext cx="15228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419720"/>
            <a:ext cx="15228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4120" y="4419720"/>
            <a:ext cx="1218960" cy="24382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1143000"/>
            <a:ext cx="5257800" cy="5715000"/>
            <a:chOff x="3124080" y="1143000"/>
            <a:chExt cx="5257800" cy="5715000"/>
          </a:xfrm>
        </p:grpSpPr>
        <p:sp>
          <p:nvSpPr>
            <p:cNvPr id="104" name=""/>
            <p:cNvSpPr/>
            <p:nvPr/>
          </p:nvSpPr>
          <p:spPr>
            <a:xfrm>
              <a:off x="6781680" y="1143000"/>
              <a:ext cx="1600200" cy="213372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7320" y="3124080"/>
              <a:ext cx="0" cy="34290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3352680"/>
              <a:ext cx="1143000" cy="1067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2514600"/>
              <a:ext cx="1295280" cy="1905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257440" y="4419720"/>
              <a:ext cx="304920" cy="2057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1523880"/>
              <a:ext cx="1524240" cy="2514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3962520"/>
              <a:ext cx="990360" cy="2895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46000" y="424980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</a:rPr>
              <a:t>气  球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8480" y="9907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水中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343400" y="3124080"/>
            <a:ext cx="4437000" cy="3416400"/>
            <a:chOff x="4343400" y="3124080"/>
            <a:chExt cx="4437000" cy="3416400"/>
          </a:xfrm>
        </p:grpSpPr>
        <p:pic>
          <p:nvPicPr>
            <p:cNvPr id="115" name="xigua510" descr=""/>
            <p:cNvPicPr/>
            <p:nvPr/>
          </p:nvPicPr>
          <p:blipFill>
            <a:blip r:embed="rId2"/>
            <a:stretch/>
          </p:blipFill>
          <p:spPr>
            <a:xfrm>
              <a:off x="5867280" y="3124080"/>
              <a:ext cx="2913120" cy="34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西瓜2" descr=""/>
            <p:cNvPicPr/>
            <p:nvPr/>
          </p:nvPicPr>
          <p:blipFill>
            <a:blip r:embed="rId3"/>
            <a:stretch/>
          </p:blipFill>
          <p:spPr>
            <a:xfrm>
              <a:off x="4343400" y="4191120"/>
              <a:ext cx="157464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822600" y="472428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Times New Roman"/>
              </a:rPr>
              <a:t>西  瓜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4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48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2971800"/>
            <a:ext cx="4952880" cy="3124080"/>
          </a:xfrm>
          <a:prstGeom prst="cloudCallout">
            <a:avLst>
              <a:gd name="adj1" fmla="val 63013"/>
              <a:gd name="adj2" fmla="val -47050"/>
            </a:avLst>
          </a:prstGeom>
          <a:solidFill>
            <a:srgbClr val="ffff9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38680" y="36576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考考你！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00400" y="1523880"/>
            <a:ext cx="373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 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2:36:08Z</dcterms:created>
  <dc:creator>Administrator</dc:creator>
  <dc:description/>
  <dc:language>en-US</dc:language>
  <cp:lastModifiedBy>Administrator</cp:lastModifiedBy>
  <dcterms:modified xsi:type="dcterms:W3CDTF">2003-09-14T14:08:32Z</dcterms:modified>
  <cp:revision>9</cp:revision>
  <dc:subject/>
  <dc:title>PowerPoint 演示文稿</dc:title>
</cp:coreProperties>
</file>