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laser.wav" ContentType="audio/x-wav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24C-764B-4DAF-AA7C-6BCD4032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2F2-F4BB-46B5-BE27-7E62E4C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6FA-CE9B-4B6E-8F27-ABA4BE51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D75-F95A-4499-8A04-06DC4F56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D9E7-DA15-46EB-903A-0E6B57D4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2F54-0F88-4524-83D8-B92DDBBB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9AF-5AC2-4B53-8057-C7A546E6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17B8-8E00-4C1E-96E0-48A17FA1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160F-FCCC-49EC-BA3A-A3EB3AA1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8B46-E86C-4B59-8966-4381D29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4DFB-13ED-41F3-AB4E-8B74CDC3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FDE-1796-4E11-9BED-C8C64E72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4A07-DCAE-407B-8763-E85E264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78CA-76E3-4FB1-9C92-56F4464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43F3-1A0D-4B06-8AC1-F640D853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9ECA-9B99-4F1F-BDF6-A4717593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84E6-469F-4DDE-8626-C0BC0714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07A-C94B-43D9-85C0-A917487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C89-6D8A-4EA8-B008-30513367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822-5818-448F-9247-6655E447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C23-5F5E-4754-BA75-A7A67A4A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A99-7A83-456B-A972-25C493FC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969-25E3-4950-AF90-6805A65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ED1-0252-4389-A5A4-FFB2C98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2760" y="616860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860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033E-7C4A-4DDE-9BC5-D8BFA2566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2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4"/>
          </p:nvPr>
        </p:nvSpPr>
        <p:spPr>
          <a:xfrm>
            <a:off x="302760" y="601956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8B67-55F6-4808-B9EF-1C47A0A438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0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00400" y="2724120"/>
            <a:ext cx="2664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颐和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5280" y="558972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师：张晓芬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333360"/>
            <a:ext cx="115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长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60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2205000"/>
            <a:ext cx="22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70828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484360" y="551664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218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81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08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00"/>
                </a:solidFill>
                <a:latin typeface="Arial"/>
              </a:rPr>
              <a:t>一眼望不到头的长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4352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51640" y="98100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 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廊东起邀月门，西止石丈亭，全长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728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米，共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73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间画廊，是中国廊建筑中最大、最长、最负盛名的长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4392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87640" y="537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横槛上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916360" y="4005360"/>
            <a:ext cx="3024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桃园三结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2578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771640" y="4076640"/>
            <a:ext cx="36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元春省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72185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80520" y="1628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佛香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436572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座八角宝塔形的三层建筑耸立在半山腰，黄色琉璃瓦闪闪发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4473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515772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排云殿是万寿山前山主体建筑之一，是专门为慈禧太后过生日受贺而建的大殿。大殿横列复道与左右耳殿相连，共有房屋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，均为朱柱黄瓦，金龙眩目，气势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59280" y="544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万寿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颐和园的景色大半收在眼底。葱郁的树丛，掩映着黄的绿的琉璃瓦屋顶和朱红的宫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1125360"/>
            <a:ext cx="144720" cy="142920"/>
          </a:xfrm>
          <a:prstGeom prst="flowChartConnector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1700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5589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77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66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登上万寿山，站在佛香阁的前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下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颐和园的景色大半收在眼底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葱郁的树丛，掩映着黄的绿的琉璃瓦屋顶和朱红的宫墙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前面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东眺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隐隐约约可以望见几座古老的城楼和城里的白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170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218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24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427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9640" y="458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座石桥有十七个桥洞，叫十七孔桥；桥栏杆上有上百根石柱，柱子上都雕刻着小狮子。这么多的狮子，姿态不一，没有哪两个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00000" y="515772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桥洞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柱子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小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4521240" cy="612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300720" y="155736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镇 水 铜 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08360" y="83664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长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34800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苏州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65680" cy="6120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588000" y="1125360"/>
            <a:ext cx="863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舫</a:t>
            </a:r>
            <a:r>
              <a:rPr b="0" lang="zh-CN" sz="4800" spc="-1" strike="noStrike">
                <a:solidFill>
                  <a:srgbClr val="0000ff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00000" y="566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22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颐和园到处都有美丽的景色，说也说不尽，希望你有机会去细细游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63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4520" y="6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3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620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328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557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移步换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352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渡句知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抓特点分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选景物有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058080"/>
            <a:ext cx="8380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341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进了大门，绕过大殿，就来到长廊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来到了万寿山脚下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颐和园的景色大半收在眼底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是昆明湖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可以到湖中心的小岛上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31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765000"/>
            <a:ext cx="80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导游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客朋友们，大家好，欢迎这次旅行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我向大家介绍的是我国保存最完整的皇家园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和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颐和园的面积达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3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其中水面积约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\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么大的园林以万寿山上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香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，还配置了殿、堂、楼、阁、廊、亭等精制的建筑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颐和园依山面水，风景及其美丽。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昆明湖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架着六座石桥，最大的要属十七孔桥了，长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宽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，造形十分优美，它西连南湖岛，东接廊如亭，不仅是前往南湖岛的唯一通道，而且是湖区一个重要景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颐和园各种建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间。游览颐和园除了园林以外，观赏各种古代建筑也是重要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87640" y="551664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佛香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03640" y="5157720"/>
            <a:ext cx="201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昆明湖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 txBox="1"/>
          <p:nvPr/>
        </p:nvSpPr>
        <p:spPr>
          <a:xfrm>
            <a:off x="3348000" y="5157720"/>
            <a:ext cx="2664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十七孔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341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北京的颐和园是个美丽的大公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8580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573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20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13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走完长廊，就来到了万寿山脚下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213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登上万寿山，站在佛香阁的前面向下望，颐和园的景色大半收在眼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508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从万寿山下来，就是昆明湖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4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00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4508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75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4520" y="57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575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328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692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33:42Z</dcterms:created>
  <dc:creator>刘士诚</dc:creator>
  <dc:description/>
  <dc:language>en-US</dc:language>
  <cp:lastModifiedBy>zhangxiaofen</cp:lastModifiedBy>
  <dcterms:modified xsi:type="dcterms:W3CDTF">2001-01-02T10:02:21Z</dcterms:modified>
  <cp:revision>58</cp:revision>
  <dc:subject/>
  <dc:title>作 文 指 导 系 列 讲 座</dc:title>
</cp:coreProperties>
</file>