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5.png" ContentType="image/png"/>
  <Override PartName="/ppt/media/image14.jpeg" ContentType="image/jpeg"/>
  <Override PartName="/ppt/media/image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082-AFB1-442F-9C86-A4FA3ECD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762-5E1D-4E1F-8129-191BFCFC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342-DB3E-499D-8527-497AA0B7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0FD-FC3B-41C4-9B1A-93E0E46E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1D3-DE40-41A5-B68F-C898DC0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D9F-8DE0-4BD1-8E8B-62089E5E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375-073A-4505-A653-5CDE1D4C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D51-50AA-4328-A795-1EB788D3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651-0906-4DC0-B28D-D589FD08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515-5BCE-4E97-AE5B-34848A73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209-B88B-4D0F-9C90-A79D3E1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8E6-BE01-46B9-8AD0-6BCD6B8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99E-EDDA-4F95-AD06-2E8A5BE6C3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2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573360"/>
            <a:ext cx="7056720" cy="1451160"/>
          </a:xfrm>
          <a:custGeom>
            <a:avLst/>
            <a:gdLst/>
            <a:ahLst/>
            <a:rect l="l" t="t" r="r" b="b"/>
            <a:pathLst>
              <a:path w="3396" h="2294">
                <a:moveTo>
                  <a:pt x="0" y="2210"/>
                </a:moveTo>
                <a:cubicBezTo>
                  <a:pt x="186" y="1862"/>
                  <a:pt x="794" y="268"/>
                  <a:pt x="1116" y="134"/>
                </a:cubicBezTo>
                <a:cubicBezTo>
                  <a:pt x="1438" y="0"/>
                  <a:pt x="1662" y="1316"/>
                  <a:pt x="1932" y="1406"/>
                </a:cubicBezTo>
                <a:cubicBezTo>
                  <a:pt x="2202" y="1496"/>
                  <a:pt x="2492" y="526"/>
                  <a:pt x="2736" y="674"/>
                </a:cubicBezTo>
                <a:cubicBezTo>
                  <a:pt x="2980" y="822"/>
                  <a:pt x="3259" y="1957"/>
                  <a:pt x="3396" y="229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4869000"/>
            <a:ext cx="9270720" cy="1800000"/>
          </a:xfrm>
          <a:custGeom>
            <a:avLst/>
            <a:gdLst/>
            <a:ahLst/>
            <a:rect l="l" t="t" r="r" b="b"/>
            <a:pathLst>
              <a:path w="5840" h="1134">
                <a:moveTo>
                  <a:pt x="0" y="1102"/>
                </a:moveTo>
                <a:cubicBezTo>
                  <a:pt x="61" y="981"/>
                  <a:pt x="5" y="869"/>
                  <a:pt x="95" y="785"/>
                </a:cubicBezTo>
                <a:cubicBezTo>
                  <a:pt x="169" y="715"/>
                  <a:pt x="253" y="611"/>
                  <a:pt x="335" y="557"/>
                </a:cubicBezTo>
                <a:cubicBezTo>
                  <a:pt x="687" y="324"/>
                  <a:pt x="465" y="604"/>
                  <a:pt x="847" y="415"/>
                </a:cubicBezTo>
                <a:cubicBezTo>
                  <a:pt x="904" y="387"/>
                  <a:pt x="956" y="342"/>
                  <a:pt x="1016" y="319"/>
                </a:cubicBezTo>
                <a:cubicBezTo>
                  <a:pt x="1098" y="289"/>
                  <a:pt x="1299" y="278"/>
                  <a:pt x="1379" y="272"/>
                </a:cubicBezTo>
                <a:cubicBezTo>
                  <a:pt x="1720" y="245"/>
                  <a:pt x="2051" y="218"/>
                  <a:pt x="2394" y="208"/>
                </a:cubicBezTo>
                <a:cubicBezTo>
                  <a:pt x="2515" y="196"/>
                  <a:pt x="2637" y="196"/>
                  <a:pt x="2757" y="176"/>
                </a:cubicBezTo>
                <a:cubicBezTo>
                  <a:pt x="2950" y="144"/>
                  <a:pt x="3143" y="89"/>
                  <a:pt x="3338" y="64"/>
                </a:cubicBezTo>
                <a:cubicBezTo>
                  <a:pt x="3611" y="28"/>
                  <a:pt x="3886" y="25"/>
                  <a:pt x="4160" y="0"/>
                </a:cubicBezTo>
                <a:cubicBezTo>
                  <a:pt x="4402" y="5"/>
                  <a:pt x="4644" y="8"/>
                  <a:pt x="4886" y="16"/>
                </a:cubicBezTo>
                <a:cubicBezTo>
                  <a:pt x="5104" y="24"/>
                  <a:pt x="5321" y="77"/>
                  <a:pt x="5539" y="96"/>
                </a:cubicBezTo>
                <a:cubicBezTo>
                  <a:pt x="5543" y="97"/>
                  <a:pt x="5622" y="114"/>
                  <a:pt x="5635" y="128"/>
                </a:cubicBezTo>
                <a:cubicBezTo>
                  <a:pt x="5690" y="184"/>
                  <a:pt x="5724" y="254"/>
                  <a:pt x="5781" y="303"/>
                </a:cubicBezTo>
                <a:cubicBezTo>
                  <a:pt x="5840" y="615"/>
                  <a:pt x="5793" y="346"/>
                  <a:pt x="5793" y="113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1932120" cy="249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7080" y="5972040"/>
            <a:ext cx="9274320" cy="962280"/>
          </a:xfrm>
          <a:custGeom>
            <a:avLst/>
            <a:gdLst/>
            <a:ahLst/>
            <a:rect l="l" t="t" r="r" b="b"/>
            <a:pathLst>
              <a:path w="5842" h="606">
                <a:moveTo>
                  <a:pt x="68" y="594"/>
                </a:moveTo>
                <a:cubicBezTo>
                  <a:pt x="122" y="544"/>
                  <a:pt x="0" y="226"/>
                  <a:pt x="140" y="138"/>
                </a:cubicBezTo>
                <a:cubicBezTo>
                  <a:pt x="280" y="50"/>
                  <a:pt x="768" y="80"/>
                  <a:pt x="908" y="66"/>
                </a:cubicBezTo>
                <a:cubicBezTo>
                  <a:pt x="932" y="62"/>
                  <a:pt x="957" y="62"/>
                  <a:pt x="980" y="54"/>
                </a:cubicBezTo>
                <a:cubicBezTo>
                  <a:pt x="994" y="49"/>
                  <a:pt x="1002" y="35"/>
                  <a:pt x="1016" y="30"/>
                </a:cubicBezTo>
                <a:cubicBezTo>
                  <a:pt x="1056" y="17"/>
                  <a:pt x="1221" y="7"/>
                  <a:pt x="1232" y="6"/>
                </a:cubicBezTo>
                <a:cubicBezTo>
                  <a:pt x="1500" y="16"/>
                  <a:pt x="1731" y="28"/>
                  <a:pt x="2000" y="18"/>
                </a:cubicBezTo>
                <a:cubicBezTo>
                  <a:pt x="2142" y="0"/>
                  <a:pt x="2270" y="38"/>
                  <a:pt x="2408" y="42"/>
                </a:cubicBezTo>
                <a:cubicBezTo>
                  <a:pt x="2816" y="53"/>
                  <a:pt x="3224" y="50"/>
                  <a:pt x="3632" y="54"/>
                </a:cubicBezTo>
                <a:cubicBezTo>
                  <a:pt x="3864" y="83"/>
                  <a:pt x="3761" y="65"/>
                  <a:pt x="3944" y="102"/>
                </a:cubicBezTo>
                <a:cubicBezTo>
                  <a:pt x="4522" y="95"/>
                  <a:pt x="5106" y="102"/>
                  <a:pt x="5684" y="66"/>
                </a:cubicBezTo>
                <a:cubicBezTo>
                  <a:pt x="5739" y="52"/>
                  <a:pt x="5774" y="60"/>
                  <a:pt x="5828" y="78"/>
                </a:cubicBezTo>
                <a:cubicBezTo>
                  <a:pt x="5842" y="134"/>
                  <a:pt x="5828" y="566"/>
                  <a:pt x="5828" y="606"/>
                </a:cubicBezTo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333360"/>
            <a:ext cx="2158920" cy="3959280"/>
          </a:xfrm>
          <a:custGeom>
            <a:avLst/>
            <a:gdLst/>
            <a:ahLst/>
            <a:rect l="l" t="t" r="r" b="b"/>
            <a:pathLst>
              <a:path w="1360" h="2494">
                <a:moveTo>
                  <a:pt x="1360" y="2494"/>
                </a:moveTo>
                <a:cubicBezTo>
                  <a:pt x="1247" y="1999"/>
                  <a:pt x="1134" y="1504"/>
                  <a:pt x="907" y="1088"/>
                </a:cubicBezTo>
                <a:cubicBezTo>
                  <a:pt x="680" y="672"/>
                  <a:pt x="151" y="181"/>
                  <a:pt x="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62000" y="4457880"/>
            <a:ext cx="379440" cy="552240"/>
            <a:chOff x="1962000" y="4457880"/>
            <a:chExt cx="379440" cy="552240"/>
          </a:xfrm>
        </p:grpSpPr>
        <p:sp>
          <p:nvSpPr>
            <p:cNvPr id="47" name=""/>
            <p:cNvSpPr/>
            <p:nvPr/>
          </p:nvSpPr>
          <p:spPr>
            <a:xfrm>
              <a:off x="2071800" y="4457880"/>
              <a:ext cx="269640" cy="419040"/>
            </a:xfrm>
            <a:custGeom>
              <a:avLst/>
              <a:gdLst/>
              <a:ahLst/>
              <a:rect l="l" t="t" r="r" b="b"/>
              <a:pathLst>
                <a:path w="170" h="264">
                  <a:moveTo>
                    <a:pt x="147" y="0"/>
                  </a:moveTo>
                  <a:cubicBezTo>
                    <a:pt x="135" y="8"/>
                    <a:pt x="124" y="18"/>
                    <a:pt x="111" y="24"/>
                  </a:cubicBezTo>
                  <a:cubicBezTo>
                    <a:pt x="100" y="30"/>
                    <a:pt x="84" y="27"/>
                    <a:pt x="75" y="36"/>
                  </a:cubicBezTo>
                  <a:cubicBezTo>
                    <a:pt x="55" y="56"/>
                    <a:pt x="27" y="108"/>
                    <a:pt x="27" y="108"/>
                  </a:cubicBezTo>
                  <a:cubicBezTo>
                    <a:pt x="13" y="166"/>
                    <a:pt x="0" y="205"/>
                    <a:pt x="15" y="264"/>
                  </a:cubicBezTo>
                  <a:cubicBezTo>
                    <a:pt x="91" y="239"/>
                    <a:pt x="90" y="222"/>
                    <a:pt x="123" y="156"/>
                  </a:cubicBezTo>
                  <a:cubicBezTo>
                    <a:pt x="170" y="63"/>
                    <a:pt x="129" y="174"/>
                    <a:pt x="159" y="84"/>
                  </a:cubicBezTo>
                  <a:cubicBezTo>
                    <a:pt x="145" y="16"/>
                    <a:pt x="147" y="44"/>
                    <a:pt x="14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62000" y="4819680"/>
              <a:ext cx="19080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84" y="0"/>
                  </a:moveTo>
                  <a:cubicBezTo>
                    <a:pt x="80" y="12"/>
                    <a:pt x="81" y="27"/>
                    <a:pt x="72" y="36"/>
                  </a:cubicBezTo>
                  <a:cubicBezTo>
                    <a:pt x="52" y="56"/>
                    <a:pt x="0" y="84"/>
                    <a:pt x="0" y="84"/>
                  </a:cubicBezTo>
                  <a:cubicBezTo>
                    <a:pt x="16" y="88"/>
                    <a:pt x="33" y="90"/>
                    <a:pt x="48" y="96"/>
                  </a:cubicBezTo>
                  <a:cubicBezTo>
                    <a:pt x="61" y="102"/>
                    <a:pt x="70" y="120"/>
                    <a:pt x="84" y="120"/>
                  </a:cubicBezTo>
                  <a:cubicBezTo>
                    <a:pt x="98" y="120"/>
                    <a:pt x="120" y="110"/>
                    <a:pt x="120" y="96"/>
                  </a:cubicBezTo>
                  <a:cubicBezTo>
                    <a:pt x="120" y="62"/>
                    <a:pt x="96" y="32"/>
                    <a:pt x="84" y="0"/>
                  </a:cubicBez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71880" y="4552920"/>
              <a:ext cx="95040" cy="1144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0"/>
                  </a:moveTo>
                  <a:cubicBezTo>
                    <a:pt x="13" y="38"/>
                    <a:pt x="13" y="72"/>
                    <a:pt x="60" y="7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14720" y="452772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68360" y="333360"/>
            <a:ext cx="3152880" cy="12589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125360"/>
            <a:ext cx="2232000" cy="60984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052640"/>
            <a:ext cx="2521080" cy="10411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781800">
            <a:off x="755280" y="981000"/>
            <a:ext cx="5400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cc3300"/>
                </a:solidFill>
                <a:latin typeface="华文彩云"/>
              </a:rPr>
              <a:t>两步应用题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cc3300"/>
              </a:solidFill>
              <a:latin typeface="华文彩云"/>
              <a:ea typeface="华文彩云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41120"/>
            <a:ext cx="4643640" cy="4367520"/>
          </a:xfrm>
          <a:custGeom>
            <a:avLst/>
            <a:gdLst/>
            <a:ahLst/>
            <a:rect l="l" t="t" r="r" b="b"/>
            <a:pathLst>
              <a:path w="2925" h="2751">
                <a:moveTo>
                  <a:pt x="1406" y="121"/>
                </a:moveTo>
                <a:cubicBezTo>
                  <a:pt x="1939" y="60"/>
                  <a:pt x="2472" y="0"/>
                  <a:pt x="2676" y="166"/>
                </a:cubicBezTo>
                <a:cubicBezTo>
                  <a:pt x="2880" y="332"/>
                  <a:pt x="2925" y="929"/>
                  <a:pt x="2630" y="1118"/>
                </a:cubicBezTo>
                <a:cubicBezTo>
                  <a:pt x="2335" y="1307"/>
                  <a:pt x="1345" y="1028"/>
                  <a:pt x="907" y="1300"/>
                </a:cubicBezTo>
                <a:cubicBezTo>
                  <a:pt x="469" y="1572"/>
                  <a:pt x="234" y="2161"/>
                  <a:pt x="0" y="2751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53960" y="6138720"/>
            <a:ext cx="2360880" cy="22392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6453360"/>
            <a:ext cx="2360520" cy="7920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669000"/>
            <a:ext cx="236052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381720"/>
            <a:ext cx="236088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4508640"/>
            <a:ext cx="8636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4797360"/>
            <a:ext cx="432000" cy="70956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508640"/>
            <a:ext cx="10778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5589720"/>
            <a:ext cx="792000" cy="63648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6095880"/>
            <a:ext cx="3429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深圳市布心小学    邓伟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763640" y="3062160"/>
            <a:ext cx="2737080" cy="596880"/>
            <a:chOff x="1763640" y="3062160"/>
            <a:chExt cx="2737080" cy="596880"/>
          </a:xfrm>
        </p:grpSpPr>
        <p:sp>
          <p:nvSpPr>
            <p:cNvPr id="242" name=""/>
            <p:cNvSpPr/>
            <p:nvPr/>
          </p:nvSpPr>
          <p:spPr>
            <a:xfrm>
              <a:off x="1763640" y="306216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3057840" y="234360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9800" y="3711240"/>
            <a:ext cx="2517480" cy="143280"/>
            <a:chOff x="1909800" y="3711240"/>
            <a:chExt cx="2517480" cy="143280"/>
          </a:xfrm>
        </p:grpSpPr>
        <p:sp>
          <p:nvSpPr>
            <p:cNvPr id="245" name=""/>
            <p:cNvSpPr/>
            <p:nvPr/>
          </p:nvSpPr>
          <p:spPr>
            <a:xfrm>
              <a:off x="1909800" y="38545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09800" y="3711240"/>
              <a:ext cx="2517120" cy="142920"/>
              <a:chOff x="1909800" y="3711240"/>
              <a:chExt cx="2517120" cy="1429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190980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2692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2134080" y="20098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3640" y="3068640"/>
            <a:ext cx="2737080" cy="791640"/>
            <a:chOff x="1763640" y="3068640"/>
            <a:chExt cx="2737080" cy="791640"/>
          </a:xfrm>
        </p:grpSpPr>
        <p:grpSp>
          <p:nvGrpSpPr>
            <p:cNvPr id="251" name=""/>
            <p:cNvGrpSpPr/>
            <p:nvPr/>
          </p:nvGrpSpPr>
          <p:grpSpPr>
            <a:xfrm>
              <a:off x="1763640" y="3068640"/>
              <a:ext cx="2737080" cy="596160"/>
              <a:chOff x="1763640" y="3068640"/>
              <a:chExt cx="2737080" cy="596160"/>
            </a:xfrm>
          </p:grpSpPr>
          <p:sp>
            <p:nvSpPr>
              <p:cNvPr id="252" name=""/>
              <p:cNvSpPr/>
              <p:nvPr/>
            </p:nvSpPr>
            <p:spPr>
              <a:xfrm>
                <a:off x="1763640" y="3068640"/>
                <a:ext cx="273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黄猫抓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3058200" y="2349360"/>
                <a:ext cx="164520" cy="2465640"/>
              </a:xfrm>
              <a:custGeom>
                <a:avLst/>
                <a:gdLst>
                  <a:gd name="textAreaLeft" fmla="*/ 105120 w 164520"/>
                  <a:gd name="textAreaRight" fmla="*/ 164880 w 164520"/>
                  <a:gd name="textAreaTop" fmla="*/ 64080 h 2465640"/>
                  <a:gd name="textAreaBottom" fmla="*/ 2401560 h 246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86"/>
                    </a:lnTo>
                    <a:cubicBezTo>
                      <a:pt x="10800" y="9886"/>
                      <a:pt x="5400" y="10786"/>
                      <a:pt x="0" y="10786"/>
                    </a:cubicBezTo>
                    <a:cubicBezTo>
                      <a:pt x="5400" y="10786"/>
                      <a:pt x="10800" y="11686"/>
                      <a:pt x="10800" y="1258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908000" y="3717720"/>
              <a:ext cx="2519280" cy="142560"/>
              <a:chOff x="1908000" y="3717720"/>
              <a:chExt cx="2519280" cy="142560"/>
            </a:xfrm>
          </p:grpSpPr>
          <p:sp>
            <p:nvSpPr>
              <p:cNvPr id="255" name=""/>
              <p:cNvSpPr/>
              <p:nvPr/>
            </p:nvSpPr>
            <p:spPr>
              <a:xfrm>
                <a:off x="1908000" y="3860280"/>
                <a:ext cx="25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908000" y="3717720"/>
                <a:ext cx="2518920" cy="142560"/>
                <a:chOff x="1908000" y="3717720"/>
                <a:chExt cx="2518920" cy="14256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190800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42692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908000" y="4365720"/>
            <a:ext cx="2737080" cy="596880"/>
            <a:chOff x="1908000" y="4365720"/>
            <a:chExt cx="2737080" cy="596880"/>
          </a:xfrm>
        </p:grpSpPr>
        <p:sp>
          <p:nvSpPr>
            <p:cNvPr id="260" name=""/>
            <p:cNvSpPr/>
            <p:nvPr/>
          </p:nvSpPr>
          <p:spPr>
            <a:xfrm>
              <a:off x="1908000" y="4365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3202200" y="3647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54160" y="5014440"/>
            <a:ext cx="2517480" cy="143280"/>
            <a:chOff x="2054160" y="5014440"/>
            <a:chExt cx="2517480" cy="143280"/>
          </a:xfrm>
        </p:grpSpPr>
        <p:sp>
          <p:nvSpPr>
            <p:cNvPr id="263" name=""/>
            <p:cNvSpPr/>
            <p:nvPr/>
          </p:nvSpPr>
          <p:spPr>
            <a:xfrm>
              <a:off x="2054160" y="5157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5014440"/>
              <a:ext cx="2517120" cy="142920"/>
              <a:chOff x="2054160" y="5014440"/>
              <a:chExt cx="2517120" cy="14292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05416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457128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213080" y="4446720"/>
            <a:ext cx="2305080" cy="718560"/>
            <a:chOff x="4213080" y="4446720"/>
            <a:chExt cx="2305080" cy="718560"/>
          </a:xfrm>
        </p:grpSpPr>
        <p:grpSp>
          <p:nvGrpSpPr>
            <p:cNvPr id="268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13080" y="4446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92920" y="765000"/>
            <a:ext cx="439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猫抓的鱼比黄猫和黑猫抓的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白猫抓了多少条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283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286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29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29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0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1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1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2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2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的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3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4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4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5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5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6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70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7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7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8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96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99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04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06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18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425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428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33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42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47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 rot="20475000">
            <a:off x="7308720" y="5444640"/>
            <a:ext cx="627120" cy="79236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85 E">
                                      <p:cBhvr>
                                        <p:cTn id="4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2aaa2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73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76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79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82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85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88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844200">
            <a:off x="6011640" y="4005000"/>
            <a:ext cx="1025280" cy="118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97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00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03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06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09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1033200" cy="114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67080" y="3500280"/>
            <a:ext cx="7858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1176480"/>
            <a:ext cx="590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27687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17648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2349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68360" y="271440"/>
            <a:ext cx="608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-3=4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24415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多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46134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是黄猫和黑猫抓的总数的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0080" y="3533760"/>
            <a:ext cx="53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+3=4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7200" y="5734080"/>
            <a:ext cx="487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×3=12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2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1640" y="2997360"/>
            <a:ext cx="2592360" cy="3860640"/>
            <a:chOff x="6551640" y="2997360"/>
            <a:chExt cx="2592360" cy="3860640"/>
          </a:xfrm>
        </p:grpSpPr>
        <p:sp>
          <p:nvSpPr>
            <p:cNvPr id="468" name=""/>
            <p:cNvSpPr/>
            <p:nvPr/>
          </p:nvSpPr>
          <p:spPr>
            <a:xfrm>
              <a:off x="7667640" y="4292640"/>
              <a:ext cx="289080" cy="2565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1640" y="2997360"/>
              <a:ext cx="2592360" cy="129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这三道题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什么共同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11280" y="119700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2349360"/>
            <a:ext cx="79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11280" y="1197000"/>
            <a:ext cx="7921440" cy="4812480"/>
            <a:chOff x="611280" y="1197000"/>
            <a:chExt cx="7921440" cy="4812480"/>
          </a:xfrm>
        </p:grpSpPr>
        <p:sp>
          <p:nvSpPr>
            <p:cNvPr id="473" name=""/>
            <p:cNvSpPr/>
            <p:nvPr/>
          </p:nvSpPr>
          <p:spPr>
            <a:xfrm>
              <a:off x="611280" y="1197000"/>
              <a:ext cx="5904000" cy="13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3-3=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280" y="2349360"/>
              <a:ext cx="792144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多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3+3=4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6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3\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白猫抓的鱼是黄猫和黑猫抓的总数的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倍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3×3=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11280" y="987480"/>
            <a:ext cx="7921440" cy="5022000"/>
            <a:chOff x="611280" y="987480"/>
            <a:chExt cx="7921440" cy="5022000"/>
          </a:xfrm>
        </p:grpSpPr>
        <p:sp>
          <p:nvSpPr>
            <p:cNvPr id="476" name=""/>
            <p:cNvSpPr/>
            <p:nvPr/>
          </p:nvSpPr>
          <p:spPr>
            <a:xfrm>
              <a:off x="1794240" y="987480"/>
              <a:ext cx="550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少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11280" y="1197000"/>
              <a:ext cx="7921440" cy="4812480"/>
              <a:chOff x="611280" y="1197000"/>
              <a:chExt cx="7921440" cy="4812480"/>
            </a:xfrm>
          </p:grpSpPr>
          <p:sp>
            <p:nvSpPr>
              <p:cNvPr id="478" name=""/>
              <p:cNvSpPr/>
              <p:nvPr/>
            </p:nvSpPr>
            <p:spPr>
              <a:xfrm>
                <a:off x="611280" y="1197000"/>
                <a:ext cx="5904000" cy="13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3-3=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1280" y="2349360"/>
                <a:ext cx="792144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白猫抓的鱼比黄猫和黑猫抓的总数多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条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3+3=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3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白猫抓的鱼是黄猫和黑猫抓的总数的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倍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3×3=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94240" y="40464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657360"/>
            <a:ext cx="8137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638360" cy="2448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773440" y="4292640"/>
            <a:ext cx="491472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cc"/>
                    </a:gs>
                  </a:gsLst>
                  <a:lin ang="13500000"/>
                </a:gradFill>
                <a:latin typeface="宋体"/>
              </a:rPr>
              <a:t>这三道题是用几步计算的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059280" y="5229360"/>
            <a:ext cx="4572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要用两步计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68360" y="476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课堂练习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1553040"/>
            <a:ext cx="63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\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玩射击汽球游戏。小山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玲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依打中的个数是小山和小玲总个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倍。小依打中多少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\ 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抓泥鳅，小山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玲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依抓的泥鳅比小山和小铃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山和小玲一共抓了多少条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20520" t="2474" r="0" b="12789"/>
          <a:stretch/>
        </p:blipFill>
        <p:spPr>
          <a:xfrm>
            <a:off x="5692680" y="0"/>
            <a:ext cx="3451320" cy="54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4549" t="0" r="25465" b="0"/>
          <a:stretch/>
        </p:blipFill>
        <p:spPr>
          <a:xfrm>
            <a:off x="2700360" y="981000"/>
            <a:ext cx="343692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9" name="" descr=""/>
          <p:cNvPicPr/>
          <p:nvPr/>
        </p:nvPicPr>
        <p:blipFill>
          <a:blip r:embed="rId3"/>
          <a:srcRect l="51024" t="0" r="0" b="14305"/>
          <a:stretch/>
        </p:blipFill>
        <p:spPr>
          <a:xfrm>
            <a:off x="0" y="0"/>
            <a:ext cx="3105000" cy="40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0" name=""/>
          <p:cNvSpPr/>
          <p:nvPr/>
        </p:nvSpPr>
        <p:spPr>
          <a:xfrm flipH="1">
            <a:off x="2626920" y="549360"/>
            <a:ext cx="289080" cy="21589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406200">
            <a:off x="1941480" y="1628640"/>
            <a:ext cx="77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236000" y="1052640"/>
            <a:ext cx="0" cy="35985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34200" y="2349360"/>
            <a:ext cx="94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40360" y="1341360"/>
            <a:ext cx="144360" cy="5516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43880" y="4581360"/>
            <a:ext cx="1931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国贸与学校综合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度的和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2092320" cy="2590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084560" cy="49244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35640" y="5877000"/>
            <a:ext cx="1800360" cy="576360"/>
          </a:xfrm>
          <a:prstGeom prst="wedgeRoundRectCallout">
            <a:avLst>
              <a:gd name="adj1" fmla="val -48939"/>
              <a:gd name="adj2" fmla="val -130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333360"/>
            <a:ext cx="2233440" cy="574560"/>
          </a:xfrm>
          <a:prstGeom prst="wedgeRoundRectCallout">
            <a:avLst>
              <a:gd name="adj1" fmla="val -34152"/>
              <a:gd name="adj2" fmla="val 177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80000" y="476280"/>
            <a:ext cx="2303280" cy="511200"/>
          </a:xfrm>
          <a:prstGeom prst="wedgeRoundRectCallout">
            <a:avLst>
              <a:gd name="adj1" fmla="val -6097"/>
              <a:gd name="adj2" fmla="val 166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5013360"/>
            <a:ext cx="2735280" cy="1008000"/>
          </a:xfrm>
          <a:prstGeom prst="wedgeRoundRectCallout">
            <a:avLst>
              <a:gd name="adj1" fmla="val 13726"/>
              <a:gd name="adj2" fmla="val -21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龄是小明与爸爸年龄的和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7383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5b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122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125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128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131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134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137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145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48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51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54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57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873080" cy="1199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1800360" cy="115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 rot="431400">
            <a:off x="539640" y="5013000"/>
            <a:ext cx="1871640" cy="9684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801000">
            <a:off x="3492000" y="5806080"/>
            <a:ext cx="1871640" cy="7128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 flipH="1">
            <a:off x="3419280" y="2637000"/>
            <a:ext cx="2492280" cy="1993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08720" y="1628640"/>
            <a:ext cx="1476360" cy="865440"/>
          </a:xfrm>
          <a:prstGeom prst="cloudCallout">
            <a:avLst>
              <a:gd name="adj1" fmla="val -43763"/>
              <a:gd name="adj2" fmla="val 9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125480" y="2637000"/>
            <a:ext cx="1476360" cy="865080"/>
          </a:xfrm>
          <a:prstGeom prst="cloudCallout">
            <a:avLst>
              <a:gd name="adj1" fmla="val 76236"/>
              <a:gd name="adj2" fmla="val 9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42920" y="981000"/>
            <a:ext cx="3095640" cy="1873080"/>
            <a:chOff x="1042920" y="981000"/>
            <a:chExt cx="3095640" cy="1873080"/>
          </a:xfrm>
        </p:grpSpPr>
        <p:sp>
          <p:nvSpPr>
            <p:cNvPr id="169" name=""/>
            <p:cNvSpPr/>
            <p:nvPr/>
          </p:nvSpPr>
          <p:spPr>
            <a:xfrm>
              <a:off x="1042920" y="981000"/>
              <a:ext cx="2212920" cy="1873080"/>
            </a:xfrm>
            <a:prstGeom prst="cloudCallout">
              <a:avLst>
                <a:gd name="adj1" fmla="val -40532"/>
                <a:gd name="adj2" fmla="val 845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4000" y="1304640"/>
              <a:ext cx="2914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我抓的鱼比黄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和黑猫抓的总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条┅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324000" y="6021360"/>
            <a:ext cx="637992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宋体"/>
              </a:rPr>
              <a:t>同学们，你们能提出什么数学问题？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54200" y="3889440"/>
            <a:ext cx="7273800" cy="1557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49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黑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独立思考，尝试解答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组内交流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选定代表汇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64000" y="2492280"/>
            <a:ext cx="18288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学习建议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298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1478800">
            <a:off x="2989080" y="3987720"/>
            <a:ext cx="2533320" cy="792360"/>
          </a:xfrm>
          <a:custGeom>
            <a:avLst/>
            <a:gdLst/>
            <a:ahLst/>
            <a:rect l="l" t="t" r="r" b="b"/>
            <a:pathLst>
              <a:path w="1596" h="681">
                <a:moveTo>
                  <a:pt x="351" y="40"/>
                </a:moveTo>
                <a:cubicBezTo>
                  <a:pt x="424" y="32"/>
                  <a:pt x="644" y="7"/>
                  <a:pt x="717" y="0"/>
                </a:cubicBezTo>
                <a:cubicBezTo>
                  <a:pt x="917" y="3"/>
                  <a:pt x="971" y="22"/>
                  <a:pt x="1170" y="30"/>
                </a:cubicBezTo>
                <a:cubicBezTo>
                  <a:pt x="1203" y="32"/>
                  <a:pt x="1265" y="49"/>
                  <a:pt x="1265" y="49"/>
                </a:cubicBezTo>
                <a:cubicBezTo>
                  <a:pt x="1333" y="91"/>
                  <a:pt x="1425" y="117"/>
                  <a:pt x="1486" y="164"/>
                </a:cubicBezTo>
                <a:cubicBezTo>
                  <a:pt x="1509" y="183"/>
                  <a:pt x="1549" y="222"/>
                  <a:pt x="1549" y="222"/>
                </a:cubicBezTo>
                <a:cubicBezTo>
                  <a:pt x="1554" y="234"/>
                  <a:pt x="1557" y="248"/>
                  <a:pt x="1564" y="260"/>
                </a:cubicBezTo>
                <a:cubicBezTo>
                  <a:pt x="1572" y="270"/>
                  <a:pt x="1595" y="278"/>
                  <a:pt x="1596" y="289"/>
                </a:cubicBezTo>
                <a:cubicBezTo>
                  <a:pt x="1596" y="292"/>
                  <a:pt x="1595" y="427"/>
                  <a:pt x="1564" y="470"/>
                </a:cubicBezTo>
                <a:cubicBezTo>
                  <a:pt x="1543" y="500"/>
                  <a:pt x="1489" y="557"/>
                  <a:pt x="1457" y="582"/>
                </a:cubicBezTo>
                <a:cubicBezTo>
                  <a:pt x="1328" y="675"/>
                  <a:pt x="1286" y="651"/>
                  <a:pt x="1092" y="681"/>
                </a:cubicBezTo>
                <a:cubicBezTo>
                  <a:pt x="950" y="678"/>
                  <a:pt x="808" y="679"/>
                  <a:pt x="666" y="671"/>
                </a:cubicBezTo>
                <a:cubicBezTo>
                  <a:pt x="578" y="667"/>
                  <a:pt x="481" y="640"/>
                  <a:pt x="398" y="624"/>
                </a:cubicBezTo>
                <a:cubicBezTo>
                  <a:pt x="324" y="608"/>
                  <a:pt x="257" y="602"/>
                  <a:pt x="193" y="576"/>
                </a:cubicBezTo>
                <a:cubicBezTo>
                  <a:pt x="171" y="555"/>
                  <a:pt x="137" y="539"/>
                  <a:pt x="114" y="518"/>
                </a:cubicBezTo>
                <a:cubicBezTo>
                  <a:pt x="105" y="510"/>
                  <a:pt x="105" y="499"/>
                  <a:pt x="99" y="490"/>
                </a:cubicBezTo>
                <a:cubicBezTo>
                  <a:pt x="11" y="372"/>
                  <a:pt x="56" y="451"/>
                  <a:pt x="20" y="384"/>
                </a:cubicBezTo>
                <a:cubicBezTo>
                  <a:pt x="143" y="356"/>
                  <a:pt x="389" y="322"/>
                  <a:pt x="509" y="306"/>
                </a:cubicBezTo>
                <a:cubicBezTo>
                  <a:pt x="557" y="330"/>
                  <a:pt x="89" y="295"/>
                  <a:pt x="8" y="249"/>
                </a:cubicBezTo>
                <a:cubicBezTo>
                  <a:pt x="0" y="220"/>
                  <a:pt x="272" y="59"/>
                  <a:pt x="351" y="4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1461400">
            <a:off x="4644720" y="4419360"/>
            <a:ext cx="1079280" cy="476280"/>
          </a:xfrm>
          <a:custGeom>
            <a:avLst/>
            <a:gdLst/>
            <a:ahLst/>
            <a:rect l="l" t="t" r="r" b="b"/>
            <a:pathLst>
              <a:path w="680" h="346">
                <a:moveTo>
                  <a:pt x="149" y="20"/>
                </a:moveTo>
                <a:cubicBezTo>
                  <a:pt x="181" y="16"/>
                  <a:pt x="274" y="4"/>
                  <a:pt x="306" y="0"/>
                </a:cubicBezTo>
                <a:cubicBezTo>
                  <a:pt x="391" y="2"/>
                  <a:pt x="414" y="11"/>
                  <a:pt x="499" y="15"/>
                </a:cubicBezTo>
                <a:cubicBezTo>
                  <a:pt x="513" y="16"/>
                  <a:pt x="539" y="25"/>
                  <a:pt x="539" y="25"/>
                </a:cubicBezTo>
                <a:cubicBezTo>
                  <a:pt x="568" y="46"/>
                  <a:pt x="607" y="60"/>
                  <a:pt x="633" y="83"/>
                </a:cubicBezTo>
                <a:cubicBezTo>
                  <a:pt x="643" y="93"/>
                  <a:pt x="660" y="113"/>
                  <a:pt x="660" y="113"/>
                </a:cubicBezTo>
                <a:cubicBezTo>
                  <a:pt x="662" y="119"/>
                  <a:pt x="663" y="126"/>
                  <a:pt x="667" y="132"/>
                </a:cubicBezTo>
                <a:cubicBezTo>
                  <a:pt x="670" y="137"/>
                  <a:pt x="679" y="141"/>
                  <a:pt x="680" y="147"/>
                </a:cubicBezTo>
                <a:cubicBezTo>
                  <a:pt x="680" y="148"/>
                  <a:pt x="679" y="217"/>
                  <a:pt x="667" y="239"/>
                </a:cubicBezTo>
                <a:cubicBezTo>
                  <a:pt x="658" y="254"/>
                  <a:pt x="647" y="256"/>
                  <a:pt x="633" y="268"/>
                </a:cubicBezTo>
                <a:cubicBezTo>
                  <a:pt x="578" y="316"/>
                  <a:pt x="548" y="331"/>
                  <a:pt x="465" y="346"/>
                </a:cubicBezTo>
                <a:cubicBezTo>
                  <a:pt x="405" y="344"/>
                  <a:pt x="344" y="345"/>
                  <a:pt x="284" y="341"/>
                </a:cubicBezTo>
                <a:cubicBezTo>
                  <a:pt x="246" y="339"/>
                  <a:pt x="205" y="325"/>
                  <a:pt x="170" y="317"/>
                </a:cubicBezTo>
                <a:cubicBezTo>
                  <a:pt x="138" y="309"/>
                  <a:pt x="110" y="306"/>
                  <a:pt x="82" y="293"/>
                </a:cubicBezTo>
                <a:cubicBezTo>
                  <a:pt x="73" y="282"/>
                  <a:pt x="58" y="274"/>
                  <a:pt x="49" y="263"/>
                </a:cubicBezTo>
                <a:cubicBezTo>
                  <a:pt x="45" y="259"/>
                  <a:pt x="45" y="254"/>
                  <a:pt x="42" y="249"/>
                </a:cubicBezTo>
                <a:cubicBezTo>
                  <a:pt x="4" y="189"/>
                  <a:pt x="24" y="229"/>
                  <a:pt x="8" y="195"/>
                </a:cubicBezTo>
                <a:cubicBezTo>
                  <a:pt x="61" y="181"/>
                  <a:pt x="213" y="170"/>
                  <a:pt x="265" y="162"/>
                </a:cubicBezTo>
                <a:cubicBezTo>
                  <a:pt x="264" y="151"/>
                  <a:pt x="38" y="150"/>
                  <a:pt x="3" y="126"/>
                </a:cubicBezTo>
                <a:cubicBezTo>
                  <a:pt x="0" y="112"/>
                  <a:pt x="116" y="30"/>
                  <a:pt x="149" y="2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80000" y="2690640"/>
            <a:ext cx="11556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1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92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2195640" y="1988640"/>
            <a:ext cx="6698880" cy="1958040"/>
            <a:chOff x="2195640" y="1988640"/>
            <a:chExt cx="6698880" cy="1958040"/>
          </a:xfrm>
        </p:grpSpPr>
        <p:sp>
          <p:nvSpPr>
            <p:cNvPr id="195" name=""/>
            <p:cNvSpPr/>
            <p:nvPr/>
          </p:nvSpPr>
          <p:spPr>
            <a:xfrm>
              <a:off x="5006160" y="3213000"/>
              <a:ext cx="38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鱼的总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195640" y="1988640"/>
              <a:ext cx="2970360" cy="1958040"/>
              <a:chOff x="2195640" y="1988640"/>
              <a:chExt cx="2970360" cy="195804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195640" y="2909880"/>
                <a:ext cx="1295280" cy="103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76920" y="3098880"/>
                <a:ext cx="118908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680280" y="318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/>
              <p:nvPr/>
            </p:nvCxnSpPr>
            <p:spPr>
              <a:xfrm flipV="1">
                <a:off x="4572000" y="1988640"/>
                <a:ext cx="1080" cy="100872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1" name=""/>
          <p:cNvGrpSpPr/>
          <p:nvPr/>
        </p:nvGrpSpPr>
        <p:grpSpPr>
          <a:xfrm>
            <a:off x="1619280" y="3859920"/>
            <a:ext cx="5672880" cy="1829520"/>
            <a:chOff x="1619280" y="3859920"/>
            <a:chExt cx="5672880" cy="182952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 flipH="1">
              <a:off x="1619280" y="4653000"/>
              <a:ext cx="129528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5364720" y="4724280"/>
              <a:ext cx="1189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8484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62800" y="4797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4" idx="3"/>
            </p:cNvCxnSpPr>
            <p:nvPr/>
          </p:nvCxnSpPr>
          <p:spPr>
            <a:xfrm flipV="1">
              <a:off x="3994560" y="4941000"/>
              <a:ext cx="1226160" cy="11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endCxn id="198" idx="2"/>
            </p:cNvCxnSpPr>
            <p:nvPr/>
          </p:nvCxnSpPr>
          <p:spPr>
            <a:xfrm flipV="1">
              <a:off x="4572360" y="3859920"/>
              <a:ext cx="1080" cy="1081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09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7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endCxn id="213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2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2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endCxn id="228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2160" y="1413000"/>
            <a:ext cx="25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3-3=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 rot="20475000">
            <a:off x="7669080" y="5229360"/>
            <a:ext cx="625680" cy="79200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9:41:13Z</dcterms:created>
  <dc:creator>user</dc:creator>
  <dc:description/>
  <dc:language>en-US</dc:language>
  <cp:lastModifiedBy>a</cp:lastModifiedBy>
  <dcterms:modified xsi:type="dcterms:W3CDTF">2002-12-06T04:07:33Z</dcterms:modified>
  <cp:revision>49</cp:revision>
  <dc:subject/>
  <dc:title>幻灯片 1</dc:title>
</cp:coreProperties>
</file>