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E4D-9110-4951-AB34-892123E7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E3-BDC4-4C74-9CD3-3384879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51A-86F8-456E-8E95-126BFF5D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7B7-0275-4B8F-8F64-DFA1DC45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D90D-FEB6-45BC-B27E-131506E8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F881-C1C1-4B57-B37D-3A52365F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E4C-CB8B-4D4F-A95C-AE03AE0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72CA-8F70-49B8-9E0F-9D806CC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B8C5-D4FB-4B3A-AA19-A03B914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C775-317C-48A5-B64F-C7C67A2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561F-D815-423F-B3B2-B216B92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24-97C9-4878-9F16-B7F9E88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BAB8-4C38-44F0-A4F2-A4CC6C3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03D-1C13-4718-95FB-CFA621A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BC35-097B-44AE-AA61-9B3F90D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730-9DD5-45EE-864D-29615476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2A18-EE17-4439-BBA9-061CD335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4C9-1CF5-4D1E-AB5A-67D75B8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EE7-D8EB-44F8-AFA1-502DB67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365-86A9-41BE-8181-67D4FF8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44E-9162-4399-BFB9-BE9E8285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8B2-7C8C-45EC-AD6A-EEFCA87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E9C-B26C-4150-805E-4B65DF9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4B7-F758-4085-B5DC-21459FC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8F9-2A08-4D55-A080-DBA4E63A784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A63-E877-4E42-B1AB-48F1B47F8E0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彩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21120" y="2666880"/>
            <a:ext cx="61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      q       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06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  母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eav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母鸡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358164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9880" y="99072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0200" y="454968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母 鸡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背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01000" y="3048120"/>
            <a:ext cx="15228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419720"/>
            <a:ext cx="15228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4120" y="4419720"/>
            <a:ext cx="1218960" cy="24382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1143000"/>
            <a:ext cx="5257800" cy="5715000"/>
            <a:chOff x="3124080" y="1143000"/>
            <a:chExt cx="5257800" cy="5715000"/>
          </a:xfrm>
        </p:grpSpPr>
        <p:sp>
          <p:nvSpPr>
            <p:cNvPr id="104" name=""/>
            <p:cNvSpPr/>
            <p:nvPr/>
          </p:nvSpPr>
          <p:spPr>
            <a:xfrm>
              <a:off x="6781680" y="1143000"/>
              <a:ext cx="1600200" cy="213372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7320" y="3124080"/>
              <a:ext cx="0" cy="34290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352680"/>
              <a:ext cx="1143000" cy="1067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2514600"/>
              <a:ext cx="1295280" cy="1905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257440" y="4419720"/>
              <a:ext cx="304920" cy="2057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1523880"/>
              <a:ext cx="1524240" cy="2514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3962520"/>
              <a:ext cx="990360" cy="2895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46000" y="424980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</a:rPr>
              <a:t>气  球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9907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水中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343400" y="3124080"/>
            <a:ext cx="4437000" cy="3416400"/>
            <a:chOff x="4343400" y="3124080"/>
            <a:chExt cx="4437000" cy="3416400"/>
          </a:xfrm>
        </p:grpSpPr>
        <p:pic>
          <p:nvPicPr>
            <p:cNvPr id="115" name="xigua510" descr=""/>
            <p:cNvPicPr/>
            <p:nvPr/>
          </p:nvPicPr>
          <p:blipFill>
            <a:blip r:embed="rId2"/>
            <a:stretch/>
          </p:blipFill>
          <p:spPr>
            <a:xfrm>
              <a:off x="5867280" y="3124080"/>
              <a:ext cx="291312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西瓜2" descr=""/>
            <p:cNvPicPr/>
            <p:nvPr/>
          </p:nvPicPr>
          <p:blipFill>
            <a:blip r:embed="rId3"/>
            <a:stretch/>
          </p:blipFill>
          <p:spPr>
            <a:xfrm>
              <a:off x="4343400" y="4191120"/>
              <a:ext cx="157464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822600" y="472428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</a:rPr>
              <a:t>西  瓜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4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48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2971800"/>
            <a:ext cx="4952880" cy="3124080"/>
          </a:xfrm>
          <a:prstGeom prst="cloudCallout">
            <a:avLst>
              <a:gd name="adj1" fmla="val 63013"/>
              <a:gd name="adj2" fmla="val -47050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8680" y="3657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考考你！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0400" y="1523880"/>
            <a:ext cx="373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 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2:36:08Z</dcterms:created>
  <dc:creator>Administrator</dc:creator>
  <dc:description/>
  <dc:language>en-US</dc:language>
  <cp:lastModifiedBy>Administrator</cp:lastModifiedBy>
  <dcterms:modified xsi:type="dcterms:W3CDTF">2003-09-14T14:08:32Z</dcterms:modified>
  <cp:revision>9</cp:revision>
  <dc:subject/>
  <dc:title>PowerPoint 演示文稿</dc:title>
</cp:coreProperties>
</file>