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gif" ContentType="image/gif"/>
  <Override PartName="/ppt/media/image12.gif" ContentType="image/gif"/>
  <Override PartName="/ppt/media/image15.png" ContentType="image/png"/>
  <Override PartName="/ppt/media/image11.gif" ContentType="image/gif"/>
  <Override PartName="/ppt/media/image14.png" ContentType="image/png"/>
  <Override PartName="/ppt/media/image8.gif" ContentType="image/gif"/>
  <Override PartName="/ppt/media/image9.png" ContentType="image/png"/>
  <Override PartName="/ppt/media/image5.gif" ContentType="image/gif"/>
  <Override PartName="/ppt/media/image4.png" ContentType="image/png"/>
  <Override PartName="/ppt/media/image7.png" ContentType="image/png"/>
  <Override PartName="/ppt/media/image23.png" ContentType="image/png"/>
  <Override PartName="/ppt/media/image3.gif" ContentType="image/gif"/>
  <Override PartName="/ppt/media/image6.png" ContentType="image/png"/>
  <Override PartName="/ppt/media/image22.gif" ContentType="image/gif"/>
  <Override PartName="/ppt/media/image21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2.gif" ContentType="image/gif"/>
  <Override PartName="/ppt/media/image25.gif" ContentType="image/gif"/>
  <Override PartName="/ppt/media/image16.png" ContentType="image/png"/>
  <Override PartName="/ppt/media/image24.png" ContentType="image/png"/>
  <Override PartName="/ppt/media/image19.gif" ContentType="image/gif"/>
  <Override PartName="/ppt/media/image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46BC-FCC9-4E04-B4ED-A16A8AD9F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DB06-EA92-49BE-8713-173D5A1C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2181-4EC8-436A-A4B3-15D33A71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E127-BFA6-49BA-97FD-0FE8B851C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383C-D7EA-4D56-A2C4-03A562C8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BF50-2979-4568-AF6D-ABC58BD1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D812-0CE8-4144-9447-588A2182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0C5D-4757-41FF-BC0D-CD9A9752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D8B7-2DC2-473D-B386-812C383D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09D2-481B-4875-987C-CBD76B03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6C5C-B9B4-4102-93E3-C97B7B71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4D61-1AAB-4DF5-AE88-128F4D78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04E0-367A-4D6A-B294-D6ABF44DD9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file:///tmp/home/.config/libreoffice/4/user/gallery/chimes.wav" TargetMode="External"/><Relationship Id="rId5" Type="http://schemas.microsoft.com/office/2007/relationships/media" Target="file:///tmp/home/.config/libreoffice/4/user/gallery/chimes.wav" TargetMode="External"/><Relationship Id="rId6" Type="http://schemas.openxmlformats.org/officeDocument/2006/relationships/image" Target="../media/image4.png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1.png"/><Relationship Id="rId4" Type="http://schemas.openxmlformats.org/officeDocument/2006/relationships/slide" Target="slide12.xml"/><Relationship Id="rId5" Type="http://schemas.openxmlformats.org/officeDocument/2006/relationships/image" Target="../media/image22.gif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gi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XY17002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7029360"/>
          </a:xfrm>
          <a:prstGeom prst="rect">
            <a:avLst/>
          </a:prstGeom>
          <a:ln w="0">
            <a:noFill/>
          </a:ln>
        </p:spPr>
      </p:pic>
      <p:pic>
        <p:nvPicPr>
          <p:cNvPr id="42" name="47" descr="47.gif (6587 字节)"/>
          <p:cNvPicPr/>
          <p:nvPr/>
        </p:nvPicPr>
        <p:blipFill>
          <a:blip r:embed="rId2"/>
          <a:stretch/>
        </p:blipFill>
        <p:spPr>
          <a:xfrm>
            <a:off x="7467480" y="304920"/>
            <a:ext cx="1257480" cy="1143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95280" y="838080"/>
            <a:ext cx="42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小学语文第十二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14" descr="14.GIF (3406 字节)"/>
          <p:cNvPicPr/>
          <p:nvPr/>
        </p:nvPicPr>
        <p:blipFill>
          <a:blip r:embed="rId3"/>
          <a:stretch/>
        </p:blipFill>
        <p:spPr>
          <a:xfrm>
            <a:off x="2514600" y="60199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6858000" y="609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lp2" descr="">
            <a:hlinkClick r:id="rId7"/>
          </p:cNvPr>
          <p:cNvPicPr/>
          <p:nvPr/>
        </p:nvPicPr>
        <p:blipFill>
          <a:blip r:embed="rId8"/>
          <a:stretch/>
        </p:blipFill>
        <p:spPr>
          <a:xfrm flipH="1" rot="10800000">
            <a:off x="228600" y="304560"/>
            <a:ext cx="1065240" cy="1066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31560" y="2209680"/>
            <a:ext cx="223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詹天佑</a:t>
            </a:r>
            <a:r>
              <a:rPr b="1" lang="zh-CN" sz="54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90800" y="2590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（第二课时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XY17002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4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5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186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3769200" y="0"/>
                <a:ext cx="100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66"/>
                    </a:solidFill>
                    <a:latin typeface="Times New Roman"/>
                    <a:ea typeface="华文新魏"/>
                  </a:rPr>
                  <a:t>詹天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9" name="18" descr="18.GIF (1885 字节)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755200" y="64800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091560" y="3049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  <a:ea typeface="华文仿宋"/>
              </a:rPr>
              <a:t>了解火车的行程路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380880" y="685800"/>
            <a:ext cx="8382240" cy="5829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1371600" y="4800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8"/>
          <a:stretch/>
        </p:blipFill>
        <p:spPr>
          <a:xfrm>
            <a:off x="6705720" y="3809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XY170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 flipV="1">
            <a:off x="0" y="6095520"/>
            <a:ext cx="533520" cy="3049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09480" y="2590560"/>
            <a:ext cx="3048120" cy="3353040"/>
            <a:chOff x="609480" y="2590560"/>
            <a:chExt cx="3048120" cy="3353040"/>
          </a:xfrm>
        </p:grpSpPr>
        <p:grpSp>
          <p:nvGrpSpPr>
            <p:cNvPr id="197" name=""/>
            <p:cNvGrpSpPr/>
            <p:nvPr/>
          </p:nvGrpSpPr>
          <p:grpSpPr>
            <a:xfrm>
              <a:off x="609480" y="2590560"/>
              <a:ext cx="3048120" cy="3353040"/>
              <a:chOff x="609480" y="2590560"/>
              <a:chExt cx="3048120" cy="3353040"/>
            </a:xfrm>
          </p:grpSpPr>
          <p:sp>
            <p:nvSpPr>
              <p:cNvPr id="198" name=""/>
              <p:cNvSpPr/>
              <p:nvPr/>
            </p:nvSpPr>
            <p:spPr>
              <a:xfrm flipV="1">
                <a:off x="609480" y="2590560"/>
                <a:ext cx="0" cy="33526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09480" y="5943600"/>
                <a:ext cx="30481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609480" y="5486400"/>
              <a:ext cx="38088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609480" y="4876560"/>
            <a:ext cx="3048120" cy="1067040"/>
            <a:chOff x="609480" y="4876560"/>
            <a:chExt cx="3048120" cy="1067040"/>
          </a:xfrm>
        </p:grpSpPr>
        <p:sp>
          <p:nvSpPr>
            <p:cNvPr id="202" name=""/>
            <p:cNvSpPr/>
            <p:nvPr/>
          </p:nvSpPr>
          <p:spPr>
            <a:xfrm>
              <a:off x="609480" y="5943600"/>
              <a:ext cx="3048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609480" y="4876560"/>
              <a:ext cx="2286000" cy="1067040"/>
              <a:chOff x="609480" y="4876560"/>
              <a:chExt cx="2286000" cy="1067040"/>
            </a:xfrm>
          </p:grpSpPr>
          <p:sp>
            <p:nvSpPr>
              <p:cNvPr id="204" name=""/>
              <p:cNvSpPr/>
              <p:nvPr/>
            </p:nvSpPr>
            <p:spPr>
              <a:xfrm flipV="1">
                <a:off x="609480" y="4876560"/>
                <a:ext cx="2286000" cy="10666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143000" y="5715000"/>
                <a:ext cx="75960" cy="228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6" name=""/>
          <p:cNvSpPr/>
          <p:nvPr/>
        </p:nvSpPr>
        <p:spPr>
          <a:xfrm flipV="1">
            <a:off x="0" y="609552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0" y="6095520"/>
            <a:ext cx="533520" cy="3049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960120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10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1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212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213" name=""/>
              <p:cNvSpPr/>
              <p:nvPr/>
            </p:nvSpPr>
            <p:spPr>
              <a:xfrm>
                <a:off x="3505320" y="0"/>
                <a:ext cx="1839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" name=""/>
          <p:cNvSpPr/>
          <p:nvPr/>
        </p:nvSpPr>
        <p:spPr>
          <a:xfrm>
            <a:off x="3372480" y="750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詹天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3200400"/>
            <a:ext cx="12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杰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爱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24880" y="228600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阻挠、要挟、嘲笑（帝国主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96480" y="2286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受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66880" y="3657600"/>
            <a:ext cx="10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施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3124080"/>
            <a:ext cx="16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勘测线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48360" y="365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开凿隧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81280" y="4267080"/>
            <a:ext cx="19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设计“人”字形线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57600" y="335268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37240" y="4959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提前竣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2590920"/>
            <a:ext cx="381240" cy="2743200"/>
          </a:xfrm>
          <a:custGeom>
            <a:avLst/>
            <a:gdLst>
              <a:gd name="textAreaLeft" fmla="*/ 243720 w 381240"/>
              <a:gd name="textAreaRight" fmla="*/ 381600 w 38124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6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228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229" name=""/>
              <p:cNvSpPr/>
              <p:nvPr/>
            </p:nvSpPr>
            <p:spPr>
              <a:xfrm>
                <a:off x="3769200" y="0"/>
                <a:ext cx="100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66"/>
                    </a:solidFill>
                    <a:latin typeface="Times New Roman"/>
                    <a:ea typeface="华文新魏"/>
                  </a:rPr>
                  <a:t>詹天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"/>
          <p:cNvSpPr/>
          <p:nvPr/>
        </p:nvSpPr>
        <p:spPr>
          <a:xfrm>
            <a:off x="1389600" y="14540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联系上下文讨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08240" y="2666880"/>
            <a:ext cx="5063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为什么说京张铁路提前两年竣工，给了藐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中国的帝国主义者一个有力的回击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3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4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235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3505320" y="0"/>
                <a:ext cx="1839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7" name=""/>
          <p:cNvSpPr/>
          <p:nvPr/>
        </p:nvSpPr>
        <p:spPr>
          <a:xfrm>
            <a:off x="3372480" y="750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詹天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3200400"/>
            <a:ext cx="12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杰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爱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924880" y="228600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阻挠、要挟、嘲笑（帝国主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05840" y="2286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受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66880" y="3657600"/>
            <a:ext cx="10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施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2520" y="3124080"/>
            <a:ext cx="16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勘测线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48360" y="365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开凿隧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81280" y="4267080"/>
            <a:ext cx="19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设计“人”字形线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937240" y="4959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提前竣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657600" y="335268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09680" y="2590920"/>
            <a:ext cx="381240" cy="2743200"/>
          </a:xfrm>
          <a:custGeom>
            <a:avLst/>
            <a:gdLst>
              <a:gd name="textAreaLeft" fmla="*/ 243720 w 381240"/>
              <a:gd name="textAreaRight" fmla="*/ 381600 w 38124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68000" y="5638680"/>
            <a:ext cx="20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有　力　回　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48320" y="5943600"/>
            <a:ext cx="35049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8153280" y="2895120"/>
            <a:ext cx="0" cy="30481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34" descr="34.gif (3525 字节)"/>
          <p:cNvPicPr/>
          <p:nvPr/>
        </p:nvPicPr>
        <p:blipFill>
          <a:blip r:embed="rId3"/>
          <a:stretch/>
        </p:blipFill>
        <p:spPr>
          <a:xfrm>
            <a:off x="9372600" y="5638680"/>
            <a:ext cx="75420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1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53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3769200" y="0"/>
                <a:ext cx="100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66"/>
                    </a:solidFill>
                    <a:latin typeface="Times New Roman"/>
                    <a:ea typeface="华文新魏"/>
                  </a:rPr>
                  <a:t>詹天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" name="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03160" y="609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学习内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160" y="29718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学习目的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7" descr="7.GIF (1489 字节)"/>
          <p:cNvPicPr/>
          <p:nvPr/>
        </p:nvPicPr>
        <p:blipFill>
          <a:blip r:embed="rId3"/>
          <a:stretch/>
        </p:blipFill>
        <p:spPr>
          <a:xfrm>
            <a:off x="762120" y="31240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59" name="7" descr="7.GIF (1489 字节)"/>
          <p:cNvPicPr/>
          <p:nvPr/>
        </p:nvPicPr>
        <p:blipFill>
          <a:blip r:embed="rId4"/>
          <a:stretch/>
        </p:blipFill>
        <p:spPr>
          <a:xfrm>
            <a:off x="838080" y="762120"/>
            <a:ext cx="285840" cy="285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645640" y="3473280"/>
            <a:ext cx="459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了解詹天佑施工遇到的各种困难，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过具体事例体会詹天佑是“杰出的爱国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程师”这一中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22240" y="1143000"/>
            <a:ext cx="470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 </a:t>
            </a: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从詹天佑的施工情况及提早竣工，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会他的“杰出、爱国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34640" y="220968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综合训练，发展学生动口、动手能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49528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深入理解课文的思想内容，激发学生热爱祖国、立志为祖国作贡献的思想感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5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67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3769200" y="0"/>
                <a:ext cx="100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66"/>
                    </a:solidFill>
                    <a:latin typeface="Times New Roman"/>
                    <a:ea typeface="华文新魏"/>
                  </a:rPr>
                  <a:t>詹天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"/>
          <p:cNvSpPr/>
          <p:nvPr/>
        </p:nvSpPr>
        <p:spPr>
          <a:xfrm>
            <a:off x="7543800" y="0"/>
            <a:ext cx="1600200" cy="990720"/>
          </a:xfrm>
          <a:prstGeom prst="cloudCallout">
            <a:avLst>
              <a:gd name="adj1" fmla="val -106847"/>
              <a:gd name="adj2" fmla="val 1453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838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看谁最聪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02640" y="1908000"/>
            <a:ext cx="403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詹天佑是我国（         ）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）工程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39400" y="3051000"/>
            <a:ext cx="699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持修筑的京张铁路是第（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完全由我国的工程技术人员设计施工的铁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87600" y="4572000"/>
            <a:ext cx="588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帝国主义（     ）（     ）（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声中，在全国人民殷切（    ）中，清政府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詹天佑为（          ），修筑京张铁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78960" y="1905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杰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59440" y="2438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爱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64840" y="305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詹天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95360" y="30481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74040" y="4572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阻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26880" y="4572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要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55680" y="4572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嘲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41080" y="5105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希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75000" y="5562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总工程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23520" y="228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努力喔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062" descr=""/>
          <p:cNvPicPr/>
          <p:nvPr/>
        </p:nvPicPr>
        <p:blipFill>
          <a:blip r:embed="rId3"/>
          <a:stretch/>
        </p:blipFill>
        <p:spPr>
          <a:xfrm>
            <a:off x="5943600" y="380880"/>
            <a:ext cx="1467000" cy="1676520"/>
          </a:xfrm>
          <a:prstGeom prst="rect">
            <a:avLst/>
          </a:prstGeom>
          <a:ln w="0">
            <a:noFill/>
          </a:ln>
        </p:spPr>
      </p:pic>
      <p:pic>
        <p:nvPicPr>
          <p:cNvPr id="85" name="q4" descr=""/>
          <p:cNvPicPr/>
          <p:nvPr/>
        </p:nvPicPr>
        <p:blipFill>
          <a:blip r:embed="rId4"/>
          <a:stretch/>
        </p:blipFill>
        <p:spPr>
          <a:xfrm>
            <a:off x="609480" y="990720"/>
            <a:ext cx="685800" cy="407880"/>
          </a:xfrm>
          <a:prstGeom prst="rect">
            <a:avLst/>
          </a:prstGeom>
          <a:ln w="0">
            <a:noFill/>
          </a:ln>
        </p:spPr>
      </p:pic>
      <p:pic>
        <p:nvPicPr>
          <p:cNvPr id="86" name="ok3" descr=""/>
          <p:cNvPicPr/>
          <p:nvPr/>
        </p:nvPicPr>
        <p:blipFill>
          <a:blip r:embed="rId5"/>
          <a:stretch/>
        </p:blipFill>
        <p:spPr>
          <a:xfrm>
            <a:off x="9524880" y="6662880"/>
            <a:ext cx="685800" cy="3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8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90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91" name=""/>
              <p:cNvSpPr/>
              <p:nvPr/>
            </p:nvSpPr>
            <p:spPr>
              <a:xfrm>
                <a:off x="3505320" y="0"/>
                <a:ext cx="1839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" name=""/>
          <p:cNvSpPr/>
          <p:nvPr/>
        </p:nvSpPr>
        <p:spPr>
          <a:xfrm>
            <a:off x="3372480" y="750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詹天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3200400"/>
            <a:ext cx="22100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杰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爱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61520" y="2286000"/>
            <a:ext cx="21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阻挠、要挟、嘲笑　（帝国主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43680" y="2286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受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q5" descr=""/>
          <p:cNvPicPr/>
          <p:nvPr/>
        </p:nvPicPr>
        <p:blipFill>
          <a:blip r:embed="rId3"/>
          <a:stretch/>
        </p:blipFill>
        <p:spPr>
          <a:xfrm>
            <a:off x="2286000" y="35053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8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100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3769200" y="0"/>
                <a:ext cx="100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66"/>
                    </a:solidFill>
                    <a:latin typeface="Times New Roman"/>
                    <a:ea typeface="华文新魏"/>
                  </a:rPr>
                  <a:t>詹天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"/>
          <p:cNvSpPr/>
          <p:nvPr/>
        </p:nvSpPr>
        <p:spPr>
          <a:xfrm>
            <a:off x="3976200" y="11048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轻读课文第四自然段，试想两道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03440" y="2133720"/>
            <a:ext cx="88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在勘测线路时，詹天佑是怎样说、怎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做、怎样想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88600" y="426708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这体现了他的什么精神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6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108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3505320" y="0"/>
                <a:ext cx="1839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" name=""/>
          <p:cNvSpPr/>
          <p:nvPr/>
        </p:nvSpPr>
        <p:spPr>
          <a:xfrm>
            <a:off x="3372480" y="750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詹天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3048120"/>
            <a:ext cx="12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杰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爱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85200" y="2286000"/>
            <a:ext cx="21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阻挠、要挟、嘲笑　（帝国主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7720" y="2286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受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53680" y="3733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施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31240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勘测线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335268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8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120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3769200" y="0"/>
                <a:ext cx="100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66"/>
                    </a:solidFill>
                    <a:latin typeface="Times New Roman"/>
                    <a:ea typeface="华文新魏"/>
                  </a:rPr>
                  <a:t>詹天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533520" y="8380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同桌讨论学习第五自然段，请用箭头试着为它们分别开凿隧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97560" y="4138560"/>
            <a:ext cx="534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•</a:t>
            </a:r>
            <a:r>
              <a:rPr b="1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图</a:t>
            </a:r>
            <a:r>
              <a:rPr b="1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什么山？此山有什么特点？詹天佑是采用怎样的开凿方法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525780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• </a:t>
            </a:r>
            <a:r>
              <a:rPr b="1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图</a:t>
            </a:r>
            <a:r>
              <a:rPr b="1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什么山？此隧道有什么特点？詹天佑是采用怎样的开凿方法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455616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                 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此山山势高，岩层厚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34280" y="56386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詹天佑决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39760" y="44956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居庸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20680" y="56386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八达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04920" y="1752480"/>
            <a:ext cx="8458200" cy="1981080"/>
            <a:chOff x="304920" y="1752480"/>
            <a:chExt cx="8458200" cy="1981080"/>
          </a:xfrm>
        </p:grpSpPr>
        <p:graphicFrame>
          <p:nvGraphicFramePr>
            <p:cNvPr id="130" name=""/>
            <p:cNvGraphicFramePr/>
            <p:nvPr/>
          </p:nvGraphicFramePr>
          <p:xfrm>
            <a:off x="304920" y="1752480"/>
            <a:ext cx="3429000" cy="1981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920" y="1752480"/>
                      <a:ext cx="342900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2" name=""/>
            <p:cNvGraphicFramePr/>
            <p:nvPr/>
          </p:nvGraphicFramePr>
          <p:xfrm>
            <a:off x="3657600" y="1752480"/>
            <a:ext cx="5105520" cy="1981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657600" y="1752480"/>
                      <a:ext cx="510552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4" name=""/>
          <p:cNvSpPr/>
          <p:nvPr/>
        </p:nvSpPr>
        <p:spPr>
          <a:xfrm>
            <a:off x="16002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09480" y="3124080"/>
            <a:ext cx="2437920" cy="609480"/>
            <a:chOff x="609480" y="3124080"/>
            <a:chExt cx="2437920" cy="609480"/>
          </a:xfrm>
        </p:grpSpPr>
        <p:grpSp>
          <p:nvGrpSpPr>
            <p:cNvPr id="136" name=""/>
            <p:cNvGrpSpPr/>
            <p:nvPr/>
          </p:nvGrpSpPr>
          <p:grpSpPr>
            <a:xfrm>
              <a:off x="1143000" y="3200400"/>
              <a:ext cx="1904400" cy="533160"/>
              <a:chOff x="1143000" y="3200400"/>
              <a:chExt cx="1904400" cy="533160"/>
            </a:xfrm>
          </p:grpSpPr>
          <p:graphicFrame>
            <p:nvGraphicFramePr>
              <p:cNvPr id="137" name=""/>
              <p:cNvGraphicFramePr/>
              <p:nvPr/>
            </p:nvGraphicFramePr>
            <p:xfrm>
              <a:off x="2514240" y="3200400"/>
              <a:ext cx="533160" cy="5331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38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514240" y="3200400"/>
                        <a:ext cx="533160" cy="533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9" name=""/>
              <p:cNvSpPr/>
              <p:nvPr/>
            </p:nvSpPr>
            <p:spPr>
              <a:xfrm flipH="1">
                <a:off x="2056680" y="342900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143000" y="342900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1" name="060" descr=""/>
            <p:cNvPicPr/>
            <p:nvPr/>
          </p:nvPicPr>
          <p:blipFill>
            <a:blip r:embed="rId9"/>
            <a:stretch/>
          </p:blipFill>
          <p:spPr>
            <a:xfrm>
              <a:off x="609480" y="3124080"/>
              <a:ext cx="571680" cy="5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"/>
          <p:cNvSpPr/>
          <p:nvPr/>
        </p:nvSpPr>
        <p:spPr>
          <a:xfrm>
            <a:off x="59436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895480" y="2819520"/>
            <a:ext cx="6629400" cy="1119240"/>
            <a:chOff x="2895480" y="2819520"/>
            <a:chExt cx="6629400" cy="1119240"/>
          </a:xfrm>
        </p:grpSpPr>
        <p:sp>
          <p:nvSpPr>
            <p:cNvPr id="144" name=""/>
            <p:cNvSpPr/>
            <p:nvPr/>
          </p:nvSpPr>
          <p:spPr>
            <a:xfrm flipH="1">
              <a:off x="8077320" y="3440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0800" y="3440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638320" y="34401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3440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" name="030" descr=""/>
            <p:cNvPicPr/>
            <p:nvPr/>
          </p:nvPicPr>
          <p:blipFill>
            <a:blip r:embed="rId10"/>
            <a:stretch/>
          </p:blipFill>
          <p:spPr>
            <a:xfrm>
              <a:off x="8305920" y="2906640"/>
              <a:ext cx="121896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030" descr=""/>
            <p:cNvPicPr/>
            <p:nvPr/>
          </p:nvPicPr>
          <p:blipFill>
            <a:blip r:embed="rId11"/>
            <a:stretch/>
          </p:blipFill>
          <p:spPr>
            <a:xfrm>
              <a:off x="2895480" y="2819520"/>
              <a:ext cx="1143000" cy="97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"/>
          <p:cNvGrpSpPr/>
          <p:nvPr/>
        </p:nvGrpSpPr>
        <p:grpSpPr>
          <a:xfrm>
            <a:off x="5867280" y="2362320"/>
            <a:ext cx="838440" cy="990000"/>
            <a:chOff x="5867280" y="2362320"/>
            <a:chExt cx="838440" cy="990000"/>
          </a:xfrm>
        </p:grpSpPr>
        <p:pic>
          <p:nvPicPr>
            <p:cNvPr id="151" name="039" descr="039.gif (4466 字节)"/>
            <p:cNvPicPr/>
            <p:nvPr/>
          </p:nvPicPr>
          <p:blipFill>
            <a:blip r:embed="rId12"/>
            <a:stretch/>
          </p:blipFill>
          <p:spPr>
            <a:xfrm>
              <a:off x="5867280" y="2362320"/>
              <a:ext cx="83844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6233040" y="3039840"/>
              <a:ext cx="0" cy="31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4343400" y="455616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詹天佑采用从两端同时向中间凿进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4876920"/>
            <a:ext cx="2057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8769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办法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28800" y="569916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此隧道长一千一百多米，有居庸关 的三倍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60958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先从山顶往下 打一口竖井，再分别向两头开凿，两头也同时施工的办法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59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0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161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162" name=""/>
              <p:cNvSpPr/>
              <p:nvPr/>
            </p:nvSpPr>
            <p:spPr>
              <a:xfrm>
                <a:off x="3505320" y="0"/>
                <a:ext cx="1839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" name=""/>
          <p:cNvSpPr/>
          <p:nvPr/>
        </p:nvSpPr>
        <p:spPr>
          <a:xfrm>
            <a:off x="3372480" y="750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詹天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3200400"/>
            <a:ext cx="1295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杰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爱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8880" y="2286000"/>
            <a:ext cx="21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阻挠、要挟、嘲笑　（帝国主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91400" y="2286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受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3657600"/>
            <a:ext cx="10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施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31240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勘测线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67480" y="365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开凿隧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335268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XY17002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648320" y="228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铁路经过青龙桥附近，坡度特别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762120" y="457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648320" y="6094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　　火车怎么才能爬上这样的陡坡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43400" y="1295280"/>
            <a:ext cx="487692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　　　　　　　　　　　　　　　　　　　　　　　　　　北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的列车到了南口就用两个火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头，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8320" y="2362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一个在前边拉，一个在后边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819520"/>
            <a:ext cx="58672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　　过青龙桥，列车向东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前进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76720"/>
            <a:ext cx="4724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　过了“人”字形线路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岔道口就倒过来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8480" y="3733920"/>
            <a:ext cx="650880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　　　　　　　　原先推的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车头拉，原先拉的火车头推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使列车折向西北前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8320" y="457200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　　　　　　　　这样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来，火车上山就容易多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43400" y="1066680"/>
            <a:ext cx="457200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　　　　　詹天佑顺着山势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设计了一种“人”字形线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02:18:17Z</dcterms:created>
  <dc:creator>liangxuxi</dc:creator>
  <dc:description/>
  <dc:language>en-US</dc:language>
  <cp:lastModifiedBy>zhaofeng</cp:lastModifiedBy>
  <dcterms:modified xsi:type="dcterms:W3CDTF">2002-05-01T13:12:06Z</dcterms:modified>
  <cp:revision>161</cp:revision>
  <dc:subject/>
  <dc:title>PowerPoint 演示文稿</dc:title>
</cp:coreProperties>
</file>