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641-ED01-4D4F-A47E-CCB20A1E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DFE-3D71-4E4A-BD4B-A10D435F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170-9A0B-4C4C-BCCE-BD18B0C2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E34-0AD2-4706-B2C1-D457F442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9D2-A21E-4AF4-A97F-CDFC2A7A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BBE-B934-42B7-BFAC-08FB8288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7C8-2AEF-4EAC-A71D-EBB415A9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663-15DB-4436-B3E0-B9D66B8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D5F-7A16-40B0-A574-BFA96BB4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6F0-9743-4B3B-9FB0-F274BDD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F31-770E-48C8-9315-881C55D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0E3-2D0B-4C0C-BBFA-8B60DBE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2DDE-65D6-43A1-BA59-63E7E8EFFA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44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524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18" descr="18.GIF (1885 字节)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01:56:16Z</dcterms:created>
  <dc:creator>liangxuxi</dc:creator>
  <dc:description/>
  <dc:language>en-US</dc:language>
  <cp:lastModifiedBy>liangxuxi</cp:lastModifiedBy>
  <dcterms:modified xsi:type="dcterms:W3CDTF">2002-03-31T01:56:36Z</dcterms:modified>
  <cp:revision>1</cp:revision>
  <dc:subject/>
  <dc:title>PowerPoint 演示文稿</dc:title>
</cp:coreProperties>
</file>