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7.png" ContentType="image/png"/>
  <Override PartName="/ppt/media/image23.png" ContentType="image/png"/>
  <Override PartName="/ppt/media/image3.gif" ContentType="image/gif"/>
  <Override PartName="/ppt/media/image6.png" ContentType="image/png"/>
  <Override PartName="/ppt/media/image22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.gif" ContentType="image/gif"/>
  <Override PartName="/ppt/media/image25.gif" ContentType="image/gif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4C3-79C8-4FB2-BF7E-182F3A2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480-AE00-4392-B835-59D10D5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834-9611-4004-BDCC-1EAF6156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089-26F5-4A0C-BE82-0CDEAA50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C75-172D-4662-92E0-E59E4DC3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83-1C3C-42DC-B826-421FCE5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207-30FB-40AA-A988-BF33FA1F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E4B-2AFA-4BC6-9286-41187238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F42-FF9D-46B4-97D9-F5B3B82D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221-4014-4FCD-B736-4066DCF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FA8-8483-4353-9555-67787EA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73F-84A3-4C7E-967A-C994788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B76-A477-4884-9C5E-2B016BC04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" Target="slide12.xml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Y170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2" name="47" descr="47.gif (6587 字节)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83808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学语文第十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4" descr="14.GIF (3406 字节)"/>
          <p:cNvPicPr/>
          <p:nvPr/>
        </p:nvPicPr>
        <p:blipFill>
          <a:blip r:embed="rId3"/>
          <a:stretch/>
        </p:blipFill>
        <p:spPr>
          <a:xfrm>
            <a:off x="25146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lp2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 rot="10800000">
            <a:off x="228600" y="30456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560" y="2209680"/>
            <a:ext cx="22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詹天佑</a:t>
            </a: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0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（第二课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86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18" descr="18.GIF (1885 字节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8382240" cy="582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1371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705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9480" y="2590560"/>
            <a:ext cx="3048120" cy="3353040"/>
            <a:chOff x="609480" y="2590560"/>
            <a:chExt cx="3048120" cy="33530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2590560"/>
              <a:ext cx="3048120" cy="3353040"/>
              <a:chOff x="609480" y="2590560"/>
              <a:chExt cx="3048120" cy="3353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609480" y="2590560"/>
                <a:ext cx="0" cy="335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480" y="5943600"/>
                <a:ext cx="3048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09480" y="5486400"/>
              <a:ext cx="38088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480" y="4876560"/>
            <a:ext cx="3048120" cy="1067040"/>
            <a:chOff x="609480" y="4876560"/>
            <a:chExt cx="3048120" cy="1067040"/>
          </a:xfrm>
        </p:grpSpPr>
        <p:sp>
          <p:nvSpPr>
            <p:cNvPr id="202" name=""/>
            <p:cNvSpPr/>
            <p:nvPr/>
          </p:nvSpPr>
          <p:spPr>
            <a:xfrm>
              <a:off x="609480" y="594360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09480" y="4876560"/>
              <a:ext cx="2286000" cy="1067040"/>
              <a:chOff x="609480" y="4876560"/>
              <a:chExt cx="2286000" cy="10670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09480" y="4876560"/>
                <a:ext cx="228600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43000" y="5715000"/>
                <a:ext cx="7596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601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0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12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64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2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389600" y="1454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联系上下文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8240" y="2666880"/>
            <a:ext cx="506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为什么说京张铁路提前两年竣工，给了藐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中国的帝国主义者一个有力的回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35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584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000" y="56386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有　力　回　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943600"/>
            <a:ext cx="3504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153280" y="2895120"/>
            <a:ext cx="0" cy="3048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34" descr="34.gif (3525 字节)"/>
          <p:cNvPicPr/>
          <p:nvPr/>
        </p:nvPicPr>
        <p:blipFill>
          <a:blip r:embed="rId3"/>
          <a:stretch/>
        </p:blipFill>
        <p:spPr>
          <a:xfrm>
            <a:off x="9372600" y="5638680"/>
            <a:ext cx="7542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53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31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16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" descr="7.GIF (1489 字节)"/>
          <p:cNvPicPr/>
          <p:nvPr/>
        </p:nvPicPr>
        <p:blipFill>
          <a:blip r:embed="rId3"/>
          <a:stretch/>
        </p:blipFill>
        <p:spPr>
          <a:xfrm>
            <a:off x="762120" y="31240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7" descr="7.GIF (1489 字节)"/>
          <p:cNvPicPr/>
          <p:nvPr/>
        </p:nvPicPr>
        <p:blipFill>
          <a:blip r:embed="rId4"/>
          <a:stretch/>
        </p:blipFill>
        <p:spPr>
          <a:xfrm>
            <a:off x="838080" y="76212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45640" y="347328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了解詹天佑施工遇到的各种困难，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过具体事例体会詹天佑是“杰出的爱国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程师”这一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2240" y="1143000"/>
            <a:ext cx="47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詹天佑的施工情况及提早竣工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会他的“杰出、爱国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4640" y="2209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综合训练，发展学生动口、动手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深入理解课文的思想内容，激发学生热爱祖国、立志为祖国作贡献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67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7543800" y="0"/>
            <a:ext cx="1600200" cy="990720"/>
          </a:xfrm>
          <a:prstGeom prst="cloudCallout">
            <a:avLst>
              <a:gd name="adj1" fmla="val -106847"/>
              <a:gd name="adj2" fmla="val 145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2640" y="1908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詹天佑是我国（        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9400" y="3051000"/>
            <a:ext cx="69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修筑的京张铁路是第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完全由我国的工程技术人员设计施工的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4572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帝国主义（     ）（     ）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，在全国人民殷切（    ）中，清政府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詹天佑为（          ），修筑京张铁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89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944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4840" y="305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53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404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阻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要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5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108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7500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总工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52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努力喔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62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q4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ok3" descr=""/>
          <p:cNvPicPr/>
          <p:nvPr/>
        </p:nvPicPr>
        <p:blipFill>
          <a:blip r:embed="rId5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9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152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36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q5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976200" y="110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轻读课文第四自然段，试想两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440" y="2133720"/>
            <a:ext cx="88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勘测线路时，詹天佑是怎样说、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、怎样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8600" y="4267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体现了他的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520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772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368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2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桌讨论学习第五自然段，请用箭头试着为它们分别开凿隧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560" y="41385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山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 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隧道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556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山山势高，岩层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428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决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居庸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5638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达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1752480"/>
            <a:ext cx="8458200" cy="1981080"/>
            <a:chOff x="304920" y="1752480"/>
            <a:chExt cx="8458200" cy="1981080"/>
          </a:xfrm>
        </p:grpSpPr>
        <p:graphicFrame>
          <p:nvGraphicFramePr>
            <p:cNvPr id="130" name=""/>
            <p:cNvGraphicFramePr/>
            <p:nvPr/>
          </p:nvGraphicFramePr>
          <p:xfrm>
            <a:off x="304920" y="1752480"/>
            <a:ext cx="342900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3429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3657600" y="1752480"/>
            <a:ext cx="5105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752480"/>
                      <a:ext cx="5105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124080"/>
            <a:ext cx="2437920" cy="609480"/>
            <a:chOff x="609480" y="3124080"/>
            <a:chExt cx="2437920" cy="609480"/>
          </a:xfrm>
        </p:grpSpPr>
        <p:grpSp>
          <p:nvGrpSpPr>
            <p:cNvPr id="136" name=""/>
            <p:cNvGrpSpPr/>
            <p:nvPr/>
          </p:nvGrpSpPr>
          <p:grpSpPr>
            <a:xfrm>
              <a:off x="1143000" y="3200400"/>
              <a:ext cx="1904400" cy="533160"/>
              <a:chOff x="1143000" y="3200400"/>
              <a:chExt cx="1904400" cy="53316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514240" y="3200400"/>
              <a:ext cx="533160" cy="53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240" y="3200400"/>
                        <a:ext cx="53316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 flipH="1">
                <a:off x="2056680" y="3429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060" descr=""/>
            <p:cNvPicPr/>
            <p:nvPr/>
          </p:nvPicPr>
          <p:blipFill>
            <a:blip r:embed="rId9"/>
            <a:stretch/>
          </p:blipFill>
          <p:spPr>
            <a:xfrm>
              <a:off x="609480" y="312408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5943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480" y="2819520"/>
            <a:ext cx="6629400" cy="1119240"/>
            <a:chOff x="2895480" y="2819520"/>
            <a:chExt cx="6629400" cy="1119240"/>
          </a:xfrm>
        </p:grpSpPr>
        <p:sp>
          <p:nvSpPr>
            <p:cNvPr id="144" name=""/>
            <p:cNvSpPr/>
            <p:nvPr/>
          </p:nvSpPr>
          <p:spPr>
            <a:xfrm flipH="1">
              <a:off x="80773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344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38320" y="3440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030" descr=""/>
            <p:cNvPicPr/>
            <p:nvPr/>
          </p:nvPicPr>
          <p:blipFill>
            <a:blip r:embed="rId10"/>
            <a:stretch/>
          </p:blipFill>
          <p:spPr>
            <a:xfrm>
              <a:off x="8305920" y="2906640"/>
              <a:ext cx="121896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030" descr=""/>
            <p:cNvPicPr/>
            <p:nvPr/>
          </p:nvPicPr>
          <p:blipFill>
            <a:blip r:embed="rId11"/>
            <a:stretch/>
          </p:blipFill>
          <p:spPr>
            <a:xfrm>
              <a:off x="2895480" y="2819520"/>
              <a:ext cx="11430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67280" y="2362320"/>
            <a:ext cx="838440" cy="990000"/>
            <a:chOff x="5867280" y="2362320"/>
            <a:chExt cx="838440" cy="990000"/>
          </a:xfrm>
        </p:grpSpPr>
        <p:pic>
          <p:nvPicPr>
            <p:cNvPr id="151" name="039" descr="039.gif (4466 字节)"/>
            <p:cNvPicPr/>
            <p:nvPr/>
          </p:nvPicPr>
          <p:blipFill>
            <a:blip r:embed="rId12"/>
            <a:stretch/>
          </p:blipFill>
          <p:spPr>
            <a:xfrm>
              <a:off x="5867280" y="2362320"/>
              <a:ext cx="8384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33040" y="30398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43400" y="4556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采用从两端同时向中间凿进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769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56991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隧道长一千一百多米，有居庸关 的三倍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5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先从山顶往下 打一口竖井，再分别向两头开凿，两头也同时施工的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61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2004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88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65760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4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XY1700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铁路经过青龙桥附近，坡度特别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483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火车怎么才能爬上这样的陡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48769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　　　　　　　　　　　　　　　　　　北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的列车到了南口就用两个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头，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一个在前边拉，一个在后边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5867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过青龙桥，列车向东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前进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76720"/>
            <a:ext cx="472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过了“人”字形线路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岔道口就倒过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733920"/>
            <a:ext cx="6508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原先推的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车头拉，原先拉的火车头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使列车折向西北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这样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来，火车上山就容易多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066680"/>
            <a:ext cx="4572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詹天佑顺着山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设计了一种“人”字形线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2:18:17Z</dcterms:created>
  <dc:creator>liangxuxi</dc:creator>
  <dc:description/>
  <dc:language>en-US</dc:language>
  <cp:lastModifiedBy>zhaofeng</cp:lastModifiedBy>
  <dcterms:modified xsi:type="dcterms:W3CDTF">2002-05-01T13:12:06Z</dcterms:modified>
  <cp:revision>161</cp:revision>
  <dc:subject/>
  <dc:title>PowerPoint 演示文稿</dc:title>
</cp:coreProperties>
</file>