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C61-D656-4569-8338-77D37774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857-5848-4829-95F9-C071A169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C5B-3D57-4C41-9A44-C9D0E7B4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D2F-AC40-4FB7-84E0-1AF371A9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9C1-171B-4419-B9C2-9749987A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A74-5C8A-4E4D-92DD-DBAE6C5B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6A0-389A-4112-B088-A48F92C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F9A-2637-4770-828F-14A89B2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246-C9A6-4864-ADCB-70EF72AD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4E8-34A9-4486-9008-2AE74E5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AE7-0459-43B6-B879-27ECCE5D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582-0E9C-48C4-8145-AC0A7DD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C507-8A45-4330-8088-6EB626D240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44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685800"/>
            <a:ext cx="8382240" cy="5791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524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18" descr="18.GIF (1885 字节)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1T01:56:16Z</dcterms:created>
  <dc:creator>liangxuxi</dc:creator>
  <dc:description/>
  <dc:language>en-US</dc:language>
  <cp:lastModifiedBy>liangxuxi</cp:lastModifiedBy>
  <dcterms:modified xsi:type="dcterms:W3CDTF">2002-03-31T01:56:36Z</dcterms:modified>
  <cp:revision>1</cp:revision>
  <dc:subject/>
  <dc:title>PowerPoint 演示文稿</dc:title>
</cp:coreProperties>
</file>