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3D1-0BA5-4C07-A572-F9679FB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798-E08E-4FBE-9116-EAA0C67B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BE8-F385-4902-B68E-9CFC6133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A38-8404-403A-8A4C-B2C2E8F0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D03-5559-412A-9B36-C4174DD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FAB-249E-4931-95A0-51FA6C3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AE8-8574-41FC-9426-A76CCA2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6FA-467D-4405-89FF-AD5C02FC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F4A-B643-4511-A5F0-4063412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846-DE49-4576-B86D-1BE9E81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69-3B09-4239-8FE0-60608F84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66E-D2FB-466C-95ED-F86149A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059-415A-4ECC-8809-B0729ADB5A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44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524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18" descr="18.GIF (1885 字节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01:56:16Z</dcterms:created>
  <dc:creator>liangxuxi</dc:creator>
  <dc:description/>
  <dc:language>en-US</dc:language>
  <cp:lastModifiedBy>liangxuxi</cp:lastModifiedBy>
  <dcterms:modified xsi:type="dcterms:W3CDTF">2002-03-31T01:56:36Z</dcterms:modified>
  <cp:revision>1</cp:revision>
  <dc:subject/>
  <dc:title>PowerPoint 演示文稿</dc:title>
</cp:coreProperties>
</file>