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BC8-64CC-482D-A369-C8E9FE137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D63-05C6-4364-A287-FE22B521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688A-4690-4421-9319-5D1351E9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FDE3-1EF8-4415-A991-CD4936A4A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D353-2FA0-4D93-B2F4-19274B47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B3C-1C47-43F5-9B46-0D1B8C87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83D4-2715-419A-B0E2-D9AE558B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53D9-ED8F-406E-AAC6-67CE7F22F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E8DF-1709-4FF4-AAF0-7828762A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E2CE-2FFE-45C4-8735-DD87DEA0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BEFB-FEC1-447A-AB42-1744BBF1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339E-172B-4377-A052-35453F75A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2C4F-C177-48E6-84B1-B0D0ACEC68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" Target="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2" name="天堂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" name=""/>
            <p:cNvGrpSpPr/>
            <p:nvPr/>
          </p:nvGrpSpPr>
          <p:grpSpPr>
            <a:xfrm>
              <a:off x="380880" y="0"/>
              <a:ext cx="8382240" cy="6515280"/>
              <a:chOff x="380880" y="0"/>
              <a:chExt cx="8382240" cy="6515280"/>
            </a:xfrm>
          </p:grpSpPr>
          <p:pic>
            <p:nvPicPr>
              <p:cNvPr id="44" name="XY17002" descr=""/>
              <p:cNvPicPr/>
              <p:nvPr/>
            </p:nvPicPr>
            <p:blipFill>
              <a:blip r:embed="rId2"/>
              <a:stretch/>
            </p:blipFill>
            <p:spPr>
              <a:xfrm>
                <a:off x="380880" y="685800"/>
                <a:ext cx="8382240" cy="5829480"/>
              </a:xfrm>
              <a:prstGeom prst="rect">
                <a:avLst/>
              </a:prstGeom>
              <a:ln w="63360">
                <a:solidFill>
                  <a:srgbClr val="ccccff"/>
                </a:solidFill>
                <a:miter/>
              </a:ln>
            </p:spPr>
          </p:pic>
          <p:sp>
            <p:nvSpPr>
              <p:cNvPr id="45" name=""/>
              <p:cNvSpPr/>
              <p:nvPr/>
            </p:nvSpPr>
            <p:spPr>
              <a:xfrm>
                <a:off x="3769200" y="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66"/>
                    </a:solidFill>
                    <a:latin typeface="Times New Roman"/>
                    <a:ea typeface="华文新魏"/>
                  </a:rPr>
                  <a:t>詹天佑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80880" y="685800"/>
            <a:ext cx="8382240" cy="5791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95248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18" descr="18.GIF (1885 字节)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8755200" y="6480000"/>
            <a:ext cx="388800" cy="37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1560" y="3049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  <a:ea typeface="华文仿宋"/>
              </a:rPr>
              <a:t>了解火车的行程路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31T01:56:16Z</dcterms:created>
  <dc:creator>liangxuxi</dc:creator>
  <dc:description/>
  <dc:language>en-US</dc:language>
  <cp:lastModifiedBy>liangxuxi</cp:lastModifiedBy>
  <dcterms:modified xsi:type="dcterms:W3CDTF">2002-03-31T01:56:36Z</dcterms:modified>
  <cp:revision>1</cp:revision>
  <dc:subject/>
  <dc:title>PowerPoint 演示文稿</dc:title>
</cp:coreProperties>
</file>