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741A-0B53-42F3-A47E-B6D50DB0F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A2BE-598D-4736-BE44-59975419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368F-FD22-4D36-BBCE-FA3D73AA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71E8-EC92-43AA-8E99-2117C40BC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0278-1949-4137-927A-5F9BB9B8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AE59-6DEE-42F9-92E4-961182DA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918D-966F-4896-9155-C8D5CC78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DD01-348E-4144-B242-8D2FCF5E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AD7F-CAC6-4E98-90EF-A8E0290C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F605-6886-43B9-BB70-D0134358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25EB-97BB-43C4-9EC4-35B0019D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0EC7-BAB8-45DD-8E88-B2EB2C95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F2AD-BA86-4006-943D-1190496CE5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70640" y="2990880"/>
            <a:ext cx="1643760" cy="825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桂林山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83080" y="4876920"/>
            <a:ext cx="200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方正舒体"/>
                <a:ea typeface="方正舒体"/>
              </a:rPr>
              <a:t>广东省阳春市第三中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方正舒体"/>
                <a:ea typeface="方正舒体"/>
              </a:rPr>
              <a:t>     </a:t>
            </a:r>
            <a:r>
              <a:rPr b="0" lang="zh-CN" sz="2400" spc="-1" strike="noStrike">
                <a:solidFill>
                  <a:srgbClr val="66ff33"/>
                </a:solidFill>
                <a:latin typeface="方正舒体"/>
                <a:ea typeface="方正舒体"/>
              </a:rPr>
              <a:t>初一〈</a:t>
            </a:r>
            <a:r>
              <a:rPr b="0" lang="zh-CN" sz="2400" spc="-1" strike="noStrike">
                <a:solidFill>
                  <a:srgbClr val="66ff33"/>
                </a:solidFill>
                <a:latin typeface="方正舒体"/>
                <a:ea typeface="方正舒体"/>
              </a:rPr>
              <a:t>11</a:t>
            </a:r>
            <a:r>
              <a:rPr b="0" lang="zh-CN" sz="2400" spc="-1" strike="noStrike">
                <a:solidFill>
                  <a:srgbClr val="66ff33"/>
                </a:solidFill>
                <a:latin typeface="方正舒体"/>
                <a:ea typeface="方正舒体"/>
              </a:rPr>
              <a:t>〉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方正舒体"/>
                <a:ea typeface="方正舒体"/>
              </a:rPr>
              <a:t>     </a:t>
            </a:r>
            <a:r>
              <a:rPr b="0" lang="zh-CN" sz="2400" spc="-1" strike="noStrike">
                <a:solidFill>
                  <a:srgbClr val="66ff33"/>
                </a:solidFill>
                <a:latin typeface="方正舒体"/>
                <a:ea typeface="方正舒体"/>
              </a:rPr>
              <a:t>徐奕成    制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47240" y="19080"/>
            <a:ext cx="501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     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人们都说：“桂林山水甲天下。”我们乘着木船荡漾在漓江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来观赏桂林的山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65720" y="826920"/>
            <a:ext cx="569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  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我看见过波澜壮阔的大海，玩赏过水平如镜的西湖，却没有看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过漓江样的水。漓江水真静啊，静得让你感觉不到它在流动；漓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的水真清啊，清得可以看见江底的沙石；漓江的水真绿啊，绿得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佛那是一块无暇的翡翠。船桨激起的微波扩散出一道道水纹，才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你感觉到船在前进，岸在后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10800" y="2655720"/>
            <a:ext cx="570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  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我攀登过峰峦雄伟的泰山，游览过红叶似火的香山，却从没看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过桂林着一带的山。桂林的山真奇啊，一座座拔地而起，各不相连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像老人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,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像巨象，像骆驼，奇峰罗列，形态万千；桂林的山真秀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像翠绿的屏障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,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象新生的竹笋，色彩明丽，倒映水中；桂林的山真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啊，危峰兀立怪石嶙峋，好像一不小心就会栽倒下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65720" y="4484520"/>
            <a:ext cx="569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  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这样的山围绕着这样的水，这样的水倒映着这样的山，在加上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中云雾迷蒙，山间绿树红花，江上竹筏小舟，让你感觉到像是走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了连绵不断的画卷，真是“舟行碧波上，人在画中游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617220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桂林简介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429000" y="617220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思考</a:t>
            </a: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·</a:t>
            </a:r>
            <a:r>
              <a:rPr b="0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练习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010280" y="61722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下课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657600" y="563868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桂林风光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143000" y="56386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生字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74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    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桂林是世界著名的风景游览城市，有着举世无双的喀斯特地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这里的山，平地拔起，千姿百态；漓江的水，蜿蜒曲折，明洁如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；山多有洞，洞幽景奇，瑰丽壮观；洞中怪石，鬼斧神工，琳琅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目，于是形成了“山青、水秀、洞奇、石美”的桂林“四绝”，而自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就有“山水甲天下”的赞誉。</a:t>
            </a:r>
            <a:br>
              <a:rPr sz="2000"/>
            </a:b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桂林是一座文化古城。两千多年的历史，使它具有丰厚的文化底蕴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秦始皇统一思想国后，设置桂林郡，开凿灵渠，沟通湘江和漓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桂林从此便成为南通海域，北达中原的重镇。宋代以后，它一直是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西政治、经济、文化的中心，号称“西南会府”，直到新中国建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在漫长的岁月里，桂林的奇山秀水吸引着无数的文人墨客，使他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写下了许多脍炙人口的诗篇和文章，刻下了两千余件石刻和壁书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另外，历史还在这里留下了许多古迹遗址。这些独特的人文景观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使桂林得到了“游山如读史，看山如观画”的赞美。抗日战争时期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桂林成为中国著名的文化城，众多的爱国作家、艺术家会集在这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，谱写出抗日文化的新篇章。悠久的历史，为这块古老而美丽的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地孕育了富饶的文化。</a:t>
            </a:r>
            <a:br>
              <a:rPr sz="2000"/>
            </a:b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    千百年来，桂林一直是人们旅游观光的宝地。现在，一个以桂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市为中心，包含周围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12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个县的风景区已经形成。这里有浩瀚苍翠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原始森林，雄奇险峻的峰峦幽谷，激流奔腾的溪泉瀑布，天下奇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的高山梯田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......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在这一片神奇的土地上，生活着壮、瑶、苗、侗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仫佬、毛难等十多个少数民族。大桂林的自然风光、民族风情、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史文化、深深地吸引着中外游客以及国家元首纷至踏来，流连忘返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 rot="5400000">
            <a:off x="7772400" y="58672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返回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67040" y="271440"/>
            <a:ext cx="5514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思考</a:t>
            </a: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·</a:t>
            </a: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练习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、  有感情地朗读课文，背诵课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、  读最后一段，联系全文，想一想桂林山水的特点，然后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自己的话说一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、  读了本课，你可能被文中的桂林山水的美深深感染。可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吟一首诗或写几句话，表达自己的感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△  </a:t>
            </a: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选当地的一处风景，想一想它有什么特点，然后写一段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可以选用课文的句式和词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295280" y="56386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返回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181480" y="55627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下课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11360" cy="3429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505320" y="0"/>
            <a:ext cx="5181480" cy="3446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3581280"/>
            <a:ext cx="3505320" cy="2579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657600" y="3505320"/>
            <a:ext cx="2743200" cy="2657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6477120" y="3581280"/>
            <a:ext cx="2286000" cy="1914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6629400" y="5715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solidFill>
                    <a:srgbClr val="00ff00"/>
                  </a:solidFill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下一页</a:t>
            </a:r>
            <a:endParaRPr b="0" lang="en-US" sz="2400" spc="1" strike="noStrike">
              <a:ln w="0">
                <a:solidFill>
                  <a:srgbClr val="00ff00"/>
                </a:solidFill>
              </a:ln>
              <a:solidFill>
                <a:srgbClr val="00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" name=""/>
          <p:cNvSpPr/>
          <p:nvPr/>
        </p:nvSpPr>
        <p:spPr>
          <a:xfrm>
            <a:off x="2469960" y="6269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200471397357" descr=""/>
          <p:cNvPicPr/>
          <p:nvPr/>
        </p:nvPicPr>
        <p:blipFill>
          <a:blip r:embed="rId1"/>
          <a:stretch/>
        </p:blipFill>
        <p:spPr>
          <a:xfrm>
            <a:off x="0" y="0"/>
            <a:ext cx="3733920" cy="2712960"/>
          </a:xfrm>
          <a:prstGeom prst="rect">
            <a:avLst/>
          </a:prstGeom>
          <a:ln w="0">
            <a:noFill/>
          </a:ln>
        </p:spPr>
      </p:pic>
      <p:pic>
        <p:nvPicPr>
          <p:cNvPr id="66" name="200471310289" descr=""/>
          <p:cNvPicPr/>
          <p:nvPr/>
        </p:nvPicPr>
        <p:blipFill>
          <a:blip r:embed="rId2"/>
          <a:stretch/>
        </p:blipFill>
        <p:spPr>
          <a:xfrm>
            <a:off x="3809880" y="0"/>
            <a:ext cx="3745080" cy="2689200"/>
          </a:xfrm>
          <a:prstGeom prst="rect">
            <a:avLst/>
          </a:prstGeom>
          <a:ln w="0">
            <a:noFill/>
          </a:ln>
        </p:spPr>
      </p:pic>
      <p:pic>
        <p:nvPicPr>
          <p:cNvPr id="67" name="200471316643" descr=""/>
          <p:cNvPicPr/>
          <p:nvPr/>
        </p:nvPicPr>
        <p:blipFill>
          <a:blip r:embed="rId3"/>
          <a:stretch/>
        </p:blipFill>
        <p:spPr>
          <a:xfrm>
            <a:off x="0" y="2819520"/>
            <a:ext cx="3733920" cy="2789280"/>
          </a:xfrm>
          <a:prstGeom prst="rect">
            <a:avLst/>
          </a:prstGeom>
          <a:ln w="0">
            <a:noFill/>
          </a:ln>
        </p:spPr>
      </p:pic>
      <p:pic>
        <p:nvPicPr>
          <p:cNvPr id="68" name="200471376153" descr=""/>
          <p:cNvPicPr/>
          <p:nvPr/>
        </p:nvPicPr>
        <p:blipFill>
          <a:blip r:embed="rId4"/>
          <a:stretch/>
        </p:blipFill>
        <p:spPr>
          <a:xfrm>
            <a:off x="3809880" y="2819520"/>
            <a:ext cx="3733920" cy="2800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533520" y="60199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宋体"/>
              </a:rPr>
              <a:t>返回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478080" y="304920"/>
            <a:ext cx="10056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í        lán          xiá      fě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漓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江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波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澜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壮阔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无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暇       翡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uán      zhàng       fá        miá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山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峦   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屏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障       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竹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筏      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连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绵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962520" y="46483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返回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9:33:30Z</dcterms:created>
  <dc:creator>Guset</dc:creator>
  <dc:description/>
  <dc:language>en-US</dc:language>
  <cp:lastModifiedBy>Guset</cp:lastModifiedBy>
  <dcterms:modified xsi:type="dcterms:W3CDTF">2004-09-19T06:28:30Z</dcterms:modified>
  <cp:revision>5</cp:revision>
  <dc:subject/>
  <dc:title>PowerPoint 演示文稿</dc:title>
</cp:coreProperties>
</file>