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gif" ContentType="image/gi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gif" ContentType="image/gif"/>
  <Override PartName="/ppt/media/image13.gif" ContentType="image/gif"/>
  <Override PartName="/ppt/media/image9.png" ContentType="image/png"/>
  <Override PartName="/ppt/media/image12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54B2-E45B-4DB6-822E-A0604AAF5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E079-0FFA-4920-A9E4-682D31F6C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B8B1-4144-44CC-A8CA-5C06DE2B8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5348-2A89-4FE4-9B13-47D03447C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F3D64-793D-4D19-9A63-A12388528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A6711-0893-43AE-9969-1D16685A0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83BDB-8D02-49F7-A146-E4555A3A2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80D96-9DB7-4CC8-806E-9B0A56634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2866A-0E4D-412E-AEE3-F042FDCF5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D7CFB-8B91-4F7F-AD7B-7CE0138E9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238E7-4B37-4EDE-B8A7-E57943A5E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9C21-3A9E-4D62-867F-885353F8A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09DBC-724B-419B-BBE0-DBC1C588F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CAB85-EAAC-43E8-8D33-884F8C93C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056BB-E797-43D4-9777-6592835F7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9F552-DFF2-41D9-A96B-914C07B11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2E991-0520-4BC1-9949-358CF99A1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E677D-39D3-4867-83EF-C1E1D3CFF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8B220-EFE0-4290-AF67-54187E406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6649F-8E2F-4F33-AE1D-2FACBF10B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39E0E-84CC-41F8-9760-328D6F2E3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055D3-B895-48CC-A71D-6E09F0E02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424E-F337-4811-9BD2-CC5EC13EE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18A66-8286-4B69-A91F-9147AF200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DBB55-572C-49B4-9A53-998BE86D1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3C0C7-C063-46D2-B692-D7E2F1DD5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C33D1-565E-4F63-B1EA-07D087CEC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EA5AA-357F-40BC-80F5-DEB6CE751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D3A73-A823-4BDD-9481-963FA9093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FCAF1-6D20-43E0-9793-C267328EC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A4C23-B156-44D0-95C2-C2C2AD547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B4CDA-3272-4FE7-ACBB-3CF8D568A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E2347-A376-4C33-B179-AFE00AE33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38D3-BCD5-4673-8F71-2E173B05E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D37D7-858D-4331-AC6C-05DA674E6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119B9-393B-4E7E-A322-6D4A0FF4C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42FA3-1AB4-4084-8F15-3C239627C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D722E-72EA-49FF-8764-488E6F20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C18FD-CDD2-4A52-91FB-CCE342CC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F3260-B967-43FC-B833-83111013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BC740-ABF3-40DB-9B9F-17D4D7975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853F3-938D-4CAA-893D-985F89F7F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67DD7-95E8-46BB-B649-9C70146D4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53C83-BCD7-4766-BE9E-366743A8E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0B35-5E18-483E-B33C-026A7FEA2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576F3-BF0F-47C6-B176-69457CF22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5CCA0-43E0-49D4-8414-C63A4988D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EEB83-4B67-43F8-BDEA-1C40ABFDC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FFA7F-7D0C-46E2-AD4F-2893CF2E5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01245-E096-46F1-8640-1F84042B0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4C6A0-4700-4599-BD85-85635851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741596-E5E1-4F7C-A9CE-CA15D5472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45260-EB4D-483A-8C73-6569DBE9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C1D529-3619-438C-BCA6-2A0E58955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555FB-1CA1-481B-967A-C8DA748EA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8C00-9213-418A-8267-A2A42DBE2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A0CD9A-89FC-4EB6-AC75-607366A41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DA956-BE94-4A14-A599-926758585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2BD5CA-352D-4933-B0E0-91EB06339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B2F31D-5221-42DB-BD4C-711981EEF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F18E8-F78F-4FFE-9F18-3227866F8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8D8104-C319-4129-A9BC-9E643A148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9551BF-D8DB-4E75-8A54-23AF1F810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132187-6706-4B7B-AA8C-6C67341EC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568B41-D2F3-46F4-B79A-3DE649CD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C9E93B-7AC2-4CDB-AF56-376C1073E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7560-769C-487C-8206-3ED2A8E3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B72D2A-1009-4B09-9771-D84C8CE20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F65FA9-B6EF-4077-BCB2-499147AA8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62D42-FD22-454A-B69E-A8AA1707B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A51C03-36E0-4EDB-8913-B9107C984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34B202-1F9B-436E-AF92-AC8F2ECDE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4A5270-CAFF-4E8C-A0A1-C46DB307E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6A4912-534C-4081-ADAE-1EDA56665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5E1DE1-D7B9-43C6-930E-26B21B063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5DC61A-C67F-47D1-9EB5-59B38FE16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CF36DB-C3F1-4F77-8A1A-E8AE340B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8F3F-070B-4531-8BAC-89D11B30F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F1E5BE-A191-48BB-8095-4AF98F059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3E7F33-F234-42C7-A2AE-01871C8F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8B04CC-3A67-4397-A31F-92C0E8158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FC6EC9-22B7-4B1C-986C-3C52E78D7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ED2110-8742-42D4-BECB-27FA29636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3A503A-84FF-4A94-8F51-83DAC256E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310209-8D66-4A43-B771-BC0C2809C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A339AD-C64D-481B-9A63-6901FC2DB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F4CD51-1001-4D46-8055-EA23DD663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B27D7F-BDA4-4000-B400-8756E324A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D397-FBF7-4A71-8629-CAC4B797B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4BD9BB-4C4F-4AFF-8624-DCA5FFDDE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4A5D17-DA88-4374-9382-DBE587A04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BC49A9-7023-46AA-8B50-9E0551B1A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7942DE-CC60-45B2-B2FC-91EA9404C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A3CEF4-FD67-405D-B6D7-7C0CB65A2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3C1CA2-5EC5-4628-A3CD-F1ECE5055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E7DDDB-C475-4B8E-A7DF-9619FEA02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0A572-B512-413F-B9E7-D1EC6567B3F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8B779-FB9C-42AB-81B8-2008EE51A06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A8840-0E0C-425E-9B6D-3067DD6249C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43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44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47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C474E-7F10-4DA2-AF7F-9C272EE0D3D2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EC638-200A-49B3-B45D-D1ECD8312286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FC53D-504E-455C-ACB9-9376FEBE9ED7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F9B5D-4B84-488A-A644-7231A7756E0D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dt" idx="22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ftr" idx="23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sldNum" idx="24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DC8F5-C51B-4BF8-9B94-8202C51A0A34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4.xml"/><Relationship Id="rId3" Type="http://schemas.openxmlformats.org/officeDocument/2006/relationships/image" Target="../media/image4.gi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5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08.xml"/><Relationship Id="rId3" Type="http://schemas.openxmlformats.org/officeDocument/2006/relationships/slide" Target="slide208.xml"/><Relationship Id="rId4" Type="http://schemas.openxmlformats.org/officeDocument/2006/relationships/slide" Target="slide208.xml"/><Relationship Id="rId5" Type="http://schemas.openxmlformats.org/officeDocument/2006/relationships/slideLayout" Target="../slideLayouts/slideLayout7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image" Target="../media/image13.gi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" descr="手机图片夏天到了~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 txBox="1"/>
          <p:nvPr/>
        </p:nvSpPr>
        <p:spPr>
          <a:xfrm>
            <a:off x="762120" y="3809880"/>
            <a:ext cx="373356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0099"/>
                  </a:solidFill>
                  <a:miter/>
                </a:ln>
                <a:solidFill>
                  <a:srgbClr val="cc0099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Section B</a:t>
            </a:r>
            <a:endParaRPr b="1" lang="en-US" sz="1800" spc="1" strike="noStrike">
              <a:ln w="9360">
                <a:solidFill>
                  <a:srgbClr val="cc0099"/>
                </a:solidFill>
                <a:miter/>
              </a:ln>
              <a:solidFill>
                <a:srgbClr val="cc0099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4"/>
          <a:stretch/>
        </p:blipFill>
        <p:spPr>
          <a:xfrm>
            <a:off x="4038480" y="2514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4841" fill="hold"/>
                                        <p:tgtEl>
                                          <p:spTgt spid="3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comm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Arial"/>
              </a:rPr>
              <a:t>common: adj. “</a:t>
            </a:r>
            <a:r>
              <a:rPr b="0" lang="zh-CN" sz="2400" spc="-1" strike="noStrike">
                <a:solidFill>
                  <a:srgbClr val="cc3300"/>
                </a:solidFill>
                <a:latin typeface="Arial"/>
              </a:rPr>
              <a:t>普遍的”， “共同的”，“公有的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Arial"/>
              </a:rPr>
              <a:t>We’re just common peo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Arial"/>
              </a:rPr>
              <a:t>我们只是普通人（平头老百姓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Cheongsams were common dresses in Dynasty Q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旗袍在清朝是平常的服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arks in China are common l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公园在中国是公有土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00"/>
                </a:solidFill>
                <a:latin typeface="Arial"/>
              </a:rPr>
              <a:t>common knowledge </a:t>
            </a:r>
            <a:r>
              <a:rPr b="0" lang="zh-CN" sz="2400" spc="-1" strike="noStrike">
                <a:solidFill>
                  <a:srgbClr val="009900"/>
                </a:solidFill>
                <a:latin typeface="Arial"/>
              </a:rPr>
              <a:t>常识，众所周知的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00"/>
                </a:solidFill>
                <a:latin typeface="Arial"/>
              </a:rPr>
              <a:t>It’s common knowledge that China is a large count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00"/>
                </a:solidFill>
                <a:latin typeface="Arial"/>
              </a:rPr>
              <a:t>中国是一个大国，这是常识 </a:t>
            </a:r>
            <a:r>
              <a:rPr b="0" lang="zh-CN" sz="2400" spc="-1" strike="noStrike">
                <a:solidFill>
                  <a:srgbClr val="009900"/>
                </a:solidFill>
                <a:latin typeface="Arial"/>
              </a:rPr>
              <a:t>/</a:t>
            </a:r>
            <a:r>
              <a:rPr b="0" lang="zh-CN" sz="2400" spc="-1" strike="noStrike">
                <a:solidFill>
                  <a:srgbClr val="009900"/>
                </a:solidFill>
                <a:latin typeface="Arial"/>
              </a:rPr>
              <a:t>众所周知的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common: u.n 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普通” “共通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Arial"/>
              </a:rPr>
              <a:t>in common “</a:t>
            </a:r>
            <a:r>
              <a:rPr b="0" lang="zh-CN" sz="2400" spc="-1" strike="noStrike">
                <a:solidFill>
                  <a:srgbClr val="cc3300"/>
                </a:solidFill>
                <a:latin typeface="Arial"/>
              </a:rPr>
              <a:t>共用的” ，“共同的”，“公有的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Arial"/>
              </a:rPr>
              <a:t>They have nothing in comm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Arial"/>
              </a:rPr>
              <a:t>他们毫无共同之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In common with other young people I hate getting up ear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和其他年轻人一样，我也不喜欢早起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  <a:ea typeface="华文琥珀"/>
              </a:rPr>
              <a:t>be called …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0" y="57636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cc3300"/>
                </a:solidFill>
                <a:latin typeface="Arial Black"/>
              </a:rPr>
              <a:t>be called … “(</a:t>
            </a:r>
            <a:r>
              <a:rPr b="1" lang="zh-CN" sz="2100" spc="-1" strike="noStrike">
                <a:solidFill>
                  <a:srgbClr val="cc3300"/>
                </a:solidFill>
                <a:latin typeface="Arial Black"/>
              </a:rPr>
              <a:t>被</a:t>
            </a:r>
            <a:r>
              <a:rPr b="1" lang="zh-CN" sz="2100" spc="-1" strike="noStrike">
                <a:solidFill>
                  <a:srgbClr val="cc3300"/>
                </a:solidFill>
                <a:latin typeface="Arial Black"/>
              </a:rPr>
              <a:t>)</a:t>
            </a:r>
            <a:r>
              <a:rPr b="1" lang="zh-CN" sz="2100" spc="-1" strike="noStrike">
                <a:solidFill>
                  <a:srgbClr val="cc3300"/>
                </a:solidFill>
                <a:latin typeface="Arial Black"/>
              </a:rPr>
              <a:t>叫做…”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cc3300"/>
                </a:solidFill>
                <a:latin typeface="Arial Black"/>
              </a:rPr>
              <a:t>She is called Lily. = She is Lily. = Her name is Lily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cc3300"/>
                </a:solidFill>
                <a:latin typeface="Arial Black"/>
              </a:rPr>
              <a:t>她叫</a:t>
            </a:r>
            <a:r>
              <a:rPr b="1" lang="zh-CN" sz="2100" spc="-1" strike="noStrike">
                <a:solidFill>
                  <a:srgbClr val="cc3300"/>
                </a:solidFill>
                <a:latin typeface="Arial Black"/>
              </a:rPr>
              <a:t>Lil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再次复习所学的被动结构：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"/>
          <p:cNvSpPr/>
          <p:nvPr/>
        </p:nvSpPr>
        <p:spPr>
          <a:xfrm>
            <a:off x="0" y="1906560"/>
            <a:ext cx="914400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be killed </a:t>
            </a:r>
            <a:r>
              <a:rPr b="0" lang="zh-CN" sz="1800" spc="-1" strike="noStrike">
                <a:solidFill>
                  <a:srgbClr val="009900"/>
                </a:solidFill>
                <a:latin typeface="Comic Sans MS"/>
              </a:rPr>
              <a:t>被杀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be saved </a:t>
            </a:r>
            <a:r>
              <a:rPr b="0" lang="zh-CN" sz="1800" spc="-1" strike="noStrike">
                <a:solidFill>
                  <a:srgbClr val="009900"/>
                </a:solidFill>
                <a:latin typeface="Comic Sans MS"/>
              </a:rPr>
              <a:t>被拯救，获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be pulled down </a:t>
            </a:r>
            <a:r>
              <a:rPr b="0" lang="zh-CN" sz="1800" spc="-1" strike="noStrike">
                <a:solidFill>
                  <a:srgbClr val="009900"/>
                </a:solidFill>
                <a:latin typeface="Comic Sans MS"/>
              </a:rPr>
              <a:t>被拆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be invented </a:t>
            </a:r>
            <a:r>
              <a:rPr b="0" lang="zh-CN" sz="1800" spc="-1" strike="noStrike">
                <a:solidFill>
                  <a:srgbClr val="009900"/>
                </a:solidFill>
                <a:latin typeface="Comic Sans MS"/>
              </a:rPr>
              <a:t>被发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be made up of  </a:t>
            </a:r>
            <a:r>
              <a:rPr b="0" lang="zh-CN" sz="1800" spc="-1" strike="noStrike">
                <a:solidFill>
                  <a:srgbClr val="009900"/>
                </a:solidFill>
                <a:latin typeface="Comic Sans MS"/>
              </a:rPr>
              <a:t>由</a:t>
            </a:r>
            <a:r>
              <a:rPr b="1" lang="zh-CN" sz="1800" spc="-1" strike="noStrike">
                <a:solidFill>
                  <a:srgbClr val="009900"/>
                </a:solidFill>
                <a:latin typeface="Comic Sans MS"/>
              </a:rPr>
              <a:t>……</a:t>
            </a:r>
            <a:r>
              <a:rPr b="0" lang="zh-CN" sz="1800" spc="-1" strike="noStrike">
                <a:solidFill>
                  <a:srgbClr val="009900"/>
                </a:solidFill>
                <a:latin typeface="Comic Sans MS"/>
              </a:rPr>
              <a:t>组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be worn out </a:t>
            </a:r>
            <a:r>
              <a:rPr b="0" lang="zh-CN" sz="1800" spc="-1" strike="noStrike">
                <a:solidFill>
                  <a:srgbClr val="009900"/>
                </a:solidFill>
                <a:latin typeface="Comic Sans MS"/>
              </a:rPr>
              <a:t>被用坏，被穿破，被损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be listed in </a:t>
            </a:r>
            <a:r>
              <a:rPr b="0" lang="zh-CN" sz="1800" spc="-1" strike="noStrike">
                <a:solidFill>
                  <a:srgbClr val="009900"/>
                </a:solidFill>
                <a:latin typeface="Comic Sans MS"/>
              </a:rPr>
              <a:t>被列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be destroyed </a:t>
            </a:r>
            <a:r>
              <a:rPr b="0" lang="zh-CN" sz="1800" spc="-1" strike="noStrike">
                <a:solidFill>
                  <a:srgbClr val="009900"/>
                </a:solidFill>
                <a:latin typeface="Comic Sans MS"/>
              </a:rPr>
              <a:t>被破坏，被毁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be followed </a:t>
            </a:r>
            <a:r>
              <a:rPr b="0" lang="zh-CN" sz="1800" spc="-1" strike="noStrike">
                <a:solidFill>
                  <a:srgbClr val="009900"/>
                </a:solidFill>
                <a:latin typeface="Comic Sans MS"/>
              </a:rPr>
              <a:t>被跟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be cleaned </a:t>
            </a:r>
            <a:r>
              <a:rPr b="0" lang="zh-CN" sz="1800" spc="-1" strike="noStrike">
                <a:solidFill>
                  <a:srgbClr val="009900"/>
                </a:solidFill>
                <a:latin typeface="Comic Sans MS"/>
              </a:rPr>
              <a:t>被弄干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be cooked </a:t>
            </a:r>
            <a:r>
              <a:rPr b="0" lang="zh-CN" sz="1800" spc="-1" strike="noStrike">
                <a:solidFill>
                  <a:srgbClr val="009900"/>
                </a:solidFill>
                <a:latin typeface="Comic Sans MS"/>
              </a:rPr>
              <a:t>被煮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be made of</a:t>
            </a:r>
            <a:r>
              <a:rPr b="0" lang="zh-CN" sz="1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zh-CN" sz="1800" spc="-1" strike="noStrike">
                <a:solidFill>
                  <a:srgbClr val="009900"/>
                </a:solidFill>
                <a:latin typeface="Comic Sans MS"/>
              </a:rPr>
              <a:t>由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……</a:t>
            </a:r>
            <a:r>
              <a:rPr b="0" lang="zh-CN" sz="1800" spc="-1" strike="noStrike">
                <a:solidFill>
                  <a:srgbClr val="009900"/>
                </a:solidFill>
                <a:latin typeface="Comic Sans MS"/>
              </a:rPr>
              <a:t>制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" descr="手机图片快乐每一天"/>
          <p:cNvPicPr/>
          <p:nvPr/>
        </p:nvPicPr>
        <p:blipFill>
          <a:blip r:embed="rId2"/>
          <a:stretch/>
        </p:blipFill>
        <p:spPr>
          <a:xfrm>
            <a:off x="6400800" y="4038480"/>
            <a:ext cx="27432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04248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cc0066"/>
                </a:solidFill>
                <a:uFillTx/>
                <a:latin typeface="Rockwell Extra Bold"/>
                <a:hlinkClick r:id="rId2" action="ppaction://hlinksldjump"/>
              </a:rPr>
              <a:t>be + p.p.(</a:t>
            </a:r>
            <a:r>
              <a:rPr b="0" lang="zh-CN" sz="4000" spc="-1" strike="noStrike" u="sng">
                <a:solidFill>
                  <a:srgbClr val="cc0066"/>
                </a:solidFill>
                <a:uFillTx/>
                <a:latin typeface="Rockwell Extra Bold"/>
                <a:hlinkClick r:id="rId3" action="ppaction://hlinksldjump"/>
              </a:rPr>
              <a:t>过去分词</a:t>
            </a:r>
            <a:r>
              <a:rPr b="0" lang="zh-CN" sz="4000" spc="-1" strike="noStrike" u="sng">
                <a:solidFill>
                  <a:srgbClr val="cc0066"/>
                </a:solidFill>
                <a:uFillTx/>
                <a:latin typeface="Rockwell Extra Bold"/>
                <a:hlinkClick r:id="rId4" action="ppaction://hlinksldjump"/>
              </a:rPr>
              <a:t>)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0" y="504360"/>
            <a:ext cx="9144000" cy="6309000"/>
          </a:xfrm>
          <a:prstGeom prst="rect">
            <a:avLst/>
          </a:prstGeom>
          <a:solidFill>
            <a:srgbClr val="d6ecee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Bodoni MT Black"/>
              </a:rPr>
              <a:t>1. be pulled down (</a:t>
            </a:r>
            <a:r>
              <a:rPr b="1" lang="zh-CN" sz="2000" spc="-1" strike="noStrike">
                <a:solidFill>
                  <a:srgbClr val="ff3300"/>
                </a:solidFill>
                <a:latin typeface="Bodoni MT Black"/>
              </a:rPr>
              <a:t>建筑物</a:t>
            </a:r>
            <a:r>
              <a:rPr b="1" lang="zh-CN" sz="2000" spc="-1" strike="noStrike">
                <a:solidFill>
                  <a:srgbClr val="ff3300"/>
                </a:solidFill>
                <a:latin typeface="Bodoni MT Black"/>
              </a:rPr>
              <a:t>) </a:t>
            </a:r>
            <a:r>
              <a:rPr b="1" lang="zh-CN" sz="2000" spc="-1" strike="noStrike">
                <a:solidFill>
                  <a:srgbClr val="ff3300"/>
                </a:solidFill>
                <a:latin typeface="Bodoni MT Black"/>
              </a:rPr>
              <a:t>被拆毁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Bodoni MT Black"/>
              </a:rPr>
              <a:t>Lots of city walls were pulled down for new roads.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Bodoni MT Black"/>
              </a:rPr>
              <a:t>为了修公路，大量的城墙被拆毁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Bodoni MT Black"/>
              </a:rPr>
              <a:t>2. be cleaned… </a:t>
            </a:r>
            <a:r>
              <a:rPr b="1" lang="zh-CN" sz="2000" spc="-1" strike="noStrike">
                <a:solidFill>
                  <a:srgbClr val="ff3300"/>
                </a:solidFill>
                <a:latin typeface="Bodoni MT Black"/>
              </a:rPr>
              <a:t>被弄干静……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Bodoni MT Black"/>
              </a:rPr>
              <a:t>Food must be cleaned carefully.</a:t>
            </a:r>
            <a:r>
              <a:rPr b="1" lang="zh-CN" sz="2000" spc="-1" strike="noStrike">
                <a:solidFill>
                  <a:srgbClr val="0033cc"/>
                </a:solidFill>
                <a:latin typeface="Bodoni MT Black"/>
              </a:rPr>
              <a:t>食物必须仔细地弄干净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Bodoni MT Black"/>
              </a:rPr>
              <a:t>3. be  made up of … </a:t>
            </a:r>
            <a:r>
              <a:rPr b="1" lang="zh-CN" sz="2000" spc="-1" strike="noStrike">
                <a:solidFill>
                  <a:srgbClr val="ff3300"/>
                </a:solidFill>
                <a:latin typeface="Bodoni MT Black"/>
              </a:rPr>
              <a:t>由……组成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Bodoni MT Black"/>
              </a:rPr>
              <a:t>The area is made up of 16 buildings.</a:t>
            </a:r>
            <a:r>
              <a:rPr b="1" lang="zh-CN" sz="2000" spc="-1" strike="noStrike">
                <a:solidFill>
                  <a:srgbClr val="0033cc"/>
                </a:solidFill>
                <a:latin typeface="Bodoni MT Black"/>
              </a:rPr>
              <a:t>这个地区由</a:t>
            </a:r>
            <a:r>
              <a:rPr b="1" lang="zh-CN" sz="2000" spc="-1" strike="noStrike">
                <a:solidFill>
                  <a:srgbClr val="0033cc"/>
                </a:solidFill>
                <a:latin typeface="Bodoni MT Black"/>
              </a:rPr>
              <a:t>16</a:t>
            </a:r>
            <a:r>
              <a:rPr b="1" lang="zh-CN" sz="2000" spc="-1" strike="noStrike">
                <a:solidFill>
                  <a:srgbClr val="0033cc"/>
                </a:solidFill>
                <a:latin typeface="Bodoni MT Black"/>
              </a:rPr>
              <a:t>栋大楼组成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Bodoni MT Black"/>
              </a:rPr>
              <a:t>4. be listed in… </a:t>
            </a:r>
            <a:r>
              <a:rPr b="1" lang="zh-CN" sz="2000" spc="-1" strike="noStrike">
                <a:solidFill>
                  <a:srgbClr val="ff3300"/>
                </a:solidFill>
                <a:latin typeface="Bodoni MT Black"/>
              </a:rPr>
              <a:t>被列入……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Bodoni MT Black"/>
              </a:rPr>
              <a:t>Your name is listed in the list.</a:t>
            </a:r>
            <a:r>
              <a:rPr b="1" lang="zh-CN" sz="2000" spc="-1" strike="noStrike">
                <a:solidFill>
                  <a:srgbClr val="0033cc"/>
                </a:solidFill>
                <a:latin typeface="Bodoni MT Black"/>
              </a:rPr>
              <a:t>你的名字被列入了这个表中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Bodoni MT Black"/>
              </a:rPr>
              <a:t>5. be covered with …</a:t>
            </a:r>
            <a:r>
              <a:rPr b="1" lang="zh-CN" sz="2000" spc="-1" strike="noStrike">
                <a:solidFill>
                  <a:srgbClr val="ff3300"/>
                </a:solidFill>
                <a:latin typeface="Bodoni MT Black"/>
              </a:rPr>
              <a:t>被……所覆盖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Bodoni MT Black"/>
              </a:rPr>
              <a:t>The mountain is covered with forest. </a:t>
            </a:r>
            <a:r>
              <a:rPr b="1" lang="zh-CN" sz="2000" spc="-1" strike="noStrike">
                <a:solidFill>
                  <a:srgbClr val="0033cc"/>
                </a:solidFill>
                <a:latin typeface="Bodoni MT Black"/>
              </a:rPr>
              <a:t>这座山被森林覆盖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Bodoni MT Black"/>
              </a:rPr>
              <a:t>6. be worn out </a:t>
            </a:r>
            <a:r>
              <a:rPr b="1" lang="zh-CN" sz="2000" spc="-1" strike="noStrike">
                <a:solidFill>
                  <a:srgbClr val="ff3300"/>
                </a:solidFill>
                <a:latin typeface="Bodoni MT Black"/>
              </a:rPr>
              <a:t>被耗尽，被用坏，被穿破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Bodoni MT Black"/>
              </a:rPr>
              <a:t>My patience was worn out. </a:t>
            </a:r>
            <a:r>
              <a:rPr b="1" lang="zh-CN" sz="2000" spc="-1" strike="noStrike">
                <a:solidFill>
                  <a:srgbClr val="0033cc"/>
                </a:solidFill>
                <a:latin typeface="Bodoni MT Black"/>
              </a:rPr>
              <a:t>我的耐心被耗尽了。</a:t>
            </a:r>
            <a:r>
              <a:rPr b="1" lang="zh-CN" sz="2000" spc="-1" strike="noStrike">
                <a:solidFill>
                  <a:srgbClr val="0033cc"/>
                </a:solidFill>
                <a:latin typeface="Bodoni MT Black"/>
              </a:rPr>
              <a:t>/</a:t>
            </a:r>
            <a:r>
              <a:rPr b="1" lang="zh-CN" sz="2000" spc="-1" strike="noStrike">
                <a:solidFill>
                  <a:srgbClr val="0033cc"/>
                </a:solidFill>
                <a:latin typeface="Bodoni MT Black"/>
              </a:rPr>
              <a:t>我无法忍受了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Bodoni MT Black"/>
              </a:rPr>
              <a:t>7. be saved “</a:t>
            </a:r>
            <a:r>
              <a:rPr b="1" lang="zh-CN" sz="2000" spc="-1" strike="noStrike">
                <a:solidFill>
                  <a:srgbClr val="ff3300"/>
                </a:solidFill>
                <a:latin typeface="Bodoni MT Black"/>
              </a:rPr>
              <a:t>得救，获救”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Bodoni MT Black"/>
              </a:rPr>
              <a:t>At last Rose was saved. </a:t>
            </a:r>
            <a:r>
              <a:rPr b="1" lang="zh-CN" sz="2000" spc="-1" strike="noStrike">
                <a:solidFill>
                  <a:srgbClr val="0033cc"/>
                </a:solidFill>
                <a:latin typeface="Bodoni MT Black"/>
              </a:rPr>
              <a:t>最后， </a:t>
            </a:r>
            <a:r>
              <a:rPr b="1" lang="zh-CN" sz="2000" spc="-1" strike="noStrike">
                <a:solidFill>
                  <a:srgbClr val="0033cc"/>
                </a:solidFill>
                <a:latin typeface="Bodoni MT Black"/>
              </a:rPr>
              <a:t>Rose</a:t>
            </a:r>
            <a:r>
              <a:rPr b="1" lang="zh-CN" sz="2000" spc="-1" strike="noStrike">
                <a:solidFill>
                  <a:srgbClr val="0033cc"/>
                </a:solidFill>
                <a:latin typeface="Bodoni MT Black"/>
              </a:rPr>
              <a:t>获救了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Bodoni MT Black"/>
              </a:rPr>
              <a:t>8. be invented “</a:t>
            </a:r>
            <a:r>
              <a:rPr b="1" lang="zh-CN" sz="2000" spc="-1" strike="noStrike">
                <a:solidFill>
                  <a:srgbClr val="ff3300"/>
                </a:solidFill>
                <a:latin typeface="Bodoni MT Black"/>
              </a:rPr>
              <a:t>被发明”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Bodoni MT Black"/>
              </a:rPr>
              <a:t>TV was invented in 1939. </a:t>
            </a:r>
            <a:r>
              <a:rPr b="1" lang="zh-CN" sz="2000" spc="-1" strike="noStrike">
                <a:solidFill>
                  <a:srgbClr val="0033cc"/>
                </a:solidFill>
                <a:latin typeface="Bodoni MT Black"/>
              </a:rPr>
              <a:t>电视是在</a:t>
            </a:r>
            <a:r>
              <a:rPr b="1" lang="zh-CN" sz="2000" spc="-1" strike="noStrike">
                <a:solidFill>
                  <a:srgbClr val="0033cc"/>
                </a:solidFill>
                <a:latin typeface="Bodoni MT Black"/>
              </a:rPr>
              <a:t>1939</a:t>
            </a:r>
            <a:r>
              <a:rPr b="1" lang="zh-CN" sz="2000" spc="-1" strike="noStrike">
                <a:solidFill>
                  <a:srgbClr val="0033cc"/>
                </a:solidFill>
                <a:latin typeface="Bodoni MT Black"/>
              </a:rPr>
              <a:t>年发明的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Bodoni MT Black"/>
              </a:rPr>
              <a:t>9. be followed “</a:t>
            </a:r>
            <a:r>
              <a:rPr b="1" lang="zh-CN" sz="2000" spc="-1" strike="noStrike">
                <a:solidFill>
                  <a:srgbClr val="ff3300"/>
                </a:solidFill>
                <a:latin typeface="Bodoni MT Black"/>
              </a:rPr>
              <a:t>被跟随”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Bodoni MT Black"/>
              </a:rPr>
              <a:t>They were followed by 12 officials. </a:t>
            </a:r>
            <a:r>
              <a:rPr b="1" lang="zh-CN" sz="2000" spc="-1" strike="noStrike">
                <a:solidFill>
                  <a:srgbClr val="0033cc"/>
                </a:solidFill>
                <a:latin typeface="Bodoni MT Black"/>
              </a:rPr>
              <a:t>他们被</a:t>
            </a:r>
            <a:r>
              <a:rPr b="1" lang="zh-CN" sz="2000" spc="-1" strike="noStrike">
                <a:solidFill>
                  <a:srgbClr val="0033cc"/>
                </a:solidFill>
                <a:latin typeface="Bodoni MT Black"/>
              </a:rPr>
              <a:t>12</a:t>
            </a:r>
            <a:r>
              <a:rPr b="1" lang="zh-CN" sz="2000" spc="-1" strike="noStrike">
                <a:solidFill>
                  <a:srgbClr val="0033cc"/>
                </a:solidFill>
                <a:latin typeface="Bodoni MT Black"/>
              </a:rPr>
              <a:t>名官员跟随着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Bodoni MT Black"/>
              </a:rPr>
              <a:t>10. be destroyed “</a:t>
            </a:r>
            <a:r>
              <a:rPr b="1" lang="zh-CN" sz="2000" spc="-1" strike="noStrike">
                <a:solidFill>
                  <a:srgbClr val="ff3300"/>
                </a:solidFill>
                <a:latin typeface="Bodoni MT Black"/>
              </a:rPr>
              <a:t>被毁坏”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Bodoni MT Black"/>
              </a:rPr>
              <a:t>The old city walls were destroyed badly. </a:t>
            </a:r>
            <a:r>
              <a:rPr b="1" lang="zh-CN" sz="2000" spc="-1" strike="noStrike">
                <a:solidFill>
                  <a:srgbClr val="0033cc"/>
                </a:solidFill>
                <a:latin typeface="Bodoni MT Black"/>
              </a:rPr>
              <a:t>老城墙遭到了严重的毁坏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572"/>
                </a:solidFill>
                <a:latin typeface="Arial"/>
              </a:rPr>
              <a:t>Exercise 95-96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(   )1. Food must _______ carefully.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A. is cleaned     B. clean   C. be cleaned  D. cleaned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(   )2. The weather today is very good for a picnic, ___ too cold ____ too hot.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A. both, and   B. either, or  C. not only, but also   D. neither, nor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(   )3. We’re just ______ people.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A. usual   B. casual    C. common   D. informa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(    )4. It’s ____ expensive car that I can’t afford to buy it.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A. so    B. such   C. so an   D. such an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(   )5. There is a dog ______ the road.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A. In the middle  B. in the middle of   C. in the center   D. in the center of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(   )6. It’s very nice ____ you ____ so.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A. for, to   B. to, for     C. to, to    D. for, for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(   )7. Please keep quiet, here __________.   A. our teacher comes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B. comes our teacher  C. is coming our teacher   D. our teacher is coming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(   )8. Mary is ____ student, she often help others.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A. quite good  B. quite a good  C. a good quite   D. good a quite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(   )9. This pair of shoes ____ mine.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A. is    B. am    C. are   D. am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10. Is that a good idea? I’m not sure. (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合并为一句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I’m not sure _____________ ________ a good idea.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1280" y="549360"/>
            <a:ext cx="4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71280" y="1125360"/>
            <a:ext cx="4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1280" y="1773360"/>
            <a:ext cx="4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1280" y="234936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1280" y="2960640"/>
            <a:ext cx="4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0" y="3573360"/>
            <a:ext cx="5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4221000"/>
            <a:ext cx="5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71280" y="4797360"/>
            <a:ext cx="4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1280" y="5408640"/>
            <a:ext cx="4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908000" y="6308640"/>
            <a:ext cx="18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if / whe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924360" y="6302520"/>
            <a:ext cx="93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that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0" dur="5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0" dur="5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0" dur="5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0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8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7" dur="8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8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8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" descr="手机图片阳光小屋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 txBox="1"/>
          <p:nvPr/>
        </p:nvSpPr>
        <p:spPr>
          <a:xfrm>
            <a:off x="1523880" y="1143000"/>
            <a:ext cx="563904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Bye-bye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4"/>
          <a:stretch/>
        </p:blipFill>
        <p:spPr>
          <a:xfrm>
            <a:off x="4191120" y="3962520"/>
            <a:ext cx="3808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2" dur="286176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xercise 93-94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   )1. There _____ a fashion show at Jiefangbe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. is going to have  B. is going to be C. are going to have  D. are going to 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   )2. I don’t know how many books ___ from the school libra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. Can a student borrow B. can a student lend  C. A student can bo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   )3. _____ would you like?                                 D. a student can lea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. What other   B. What else   C. Else what    D. Other w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   )4. How wonderful! The room is ____ gla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. made from    B. made of   C. made into   D. made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   )5. --- Have you ______ Daniel Igali? – Yes. I know much about hi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. heard from   B. heard of   C. heard about   D. both B and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   )6. The room is used _____ a class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. as    B. for    C. to    D. fr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   )7. --- Do you like the music the Moonlight Sonata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--- Yes, it ____ really beautifu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. feels   B. listens  C. sounds D. h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. To read aloud is very important in English learning.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改成复合句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______ important _____ read aloud in English learn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9. The boys looks really cool in the blue jeans. 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感叹句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_______ ________ the boy looks in the blue jean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0. Lets’ meet at the school gate, ________ _______?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反意疑问句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24000" y="5373720"/>
            <a:ext cx="93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It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411280" y="537372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24000" y="598500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547640" y="598500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c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924360" y="630864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sh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148360" y="630864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w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1280" y="549360"/>
            <a:ext cx="4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1125360"/>
            <a:ext cx="5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4920" y="1736640"/>
            <a:ext cx="4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4920" y="2349360"/>
            <a:ext cx="4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4920" y="2960640"/>
            <a:ext cx="4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4920" y="3573360"/>
            <a:ext cx="4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4920" y="4184640"/>
            <a:ext cx="4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5" name=""/>
          <p:cNvGraphicFramePr/>
          <p:nvPr/>
        </p:nvGraphicFramePr>
        <p:xfrm>
          <a:off x="0" y="533520"/>
          <a:ext cx="9144000" cy="6149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33520"/>
                    <a:ext cx="9144000" cy="614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7" name=""/>
          <p:cNvSpPr/>
          <p:nvPr/>
        </p:nvSpPr>
        <p:spPr>
          <a:xfrm>
            <a:off x="2195640" y="18900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mic Sans MS"/>
              </a:rPr>
              <a:t>Unit Eight  Topic Three    Section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8" name=""/>
          <p:cNvGraphicFramePr/>
          <p:nvPr/>
        </p:nvGraphicFramePr>
        <p:xfrm>
          <a:off x="0" y="1341360"/>
          <a:ext cx="9144000" cy="36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41360"/>
                    <a:ext cx="9144000" cy="36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0" name=""/>
          <p:cNvSpPr/>
          <p:nvPr/>
        </p:nvSpPr>
        <p:spPr>
          <a:xfrm>
            <a:off x="5336280" y="274320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fash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763560" y="312408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beauti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944680" y="304812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tradi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164720" y="30481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735000" y="342900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min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649760" y="342900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cost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164360" y="34290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si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039560" y="380988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tradi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222520" y="378936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R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097320" y="380988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cost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210760" y="4495680"/>
            <a:ext cx="5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c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" descr="手机图片森林小精灵"/>
          <p:cNvPicPr/>
          <p:nvPr/>
        </p:nvPicPr>
        <p:blipFill>
          <a:blip r:embed="rId3"/>
          <a:stretch/>
        </p:blipFill>
        <p:spPr>
          <a:xfrm>
            <a:off x="6324480" y="4876920"/>
            <a:ext cx="28195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2" name=""/>
          <p:cNvGraphicFramePr/>
          <p:nvPr/>
        </p:nvGraphicFramePr>
        <p:xfrm>
          <a:off x="0" y="1197000"/>
          <a:ext cx="9144000" cy="5661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97000"/>
                    <a:ext cx="914400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4" name=""/>
          <p:cNvSpPr/>
          <p:nvPr/>
        </p:nvSpPr>
        <p:spPr>
          <a:xfrm>
            <a:off x="3061800" y="357336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hand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589080" y="357336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tradi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270160" y="609300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beauti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580720" y="649116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0" y="189000"/>
          <a:ext cx="9144000" cy="1052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189000"/>
                    <a:ext cx="9144000" cy="105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0" name=""/>
          <p:cNvGraphicFramePr/>
          <p:nvPr/>
        </p:nvGraphicFramePr>
        <p:xfrm>
          <a:off x="0" y="907920"/>
          <a:ext cx="9144000" cy="4465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07920"/>
                    <a:ext cx="9144000" cy="446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"/>
          <p:cNvSpPr/>
          <p:nvPr/>
        </p:nvSpPr>
        <p:spPr>
          <a:xfrm>
            <a:off x="1549080" y="436572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071880" y="43578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213440" y="4437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316840" y="4357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733800" y="436572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8102520" y="4365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732720" y="5661000"/>
            <a:ext cx="119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畲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661000"/>
            <a:ext cx="11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壮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181480" y="5638680"/>
            <a:ext cx="153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蒙古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258920" y="5661000"/>
            <a:ext cx="140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藏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627280" y="5661000"/>
            <a:ext cx="12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满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812000" y="5661000"/>
            <a:ext cx="13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朝鲜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age95-96 Section B Topic3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ite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Here come the mode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The model in the center of the T-shaped stage looks so beautif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a common 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It’s called a cheongs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It’s a traditional dress for Chinese wo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It’s becoming popular in the world of high fash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Another three girls= three more gir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 You know a lot about fash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Here come the model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Here come the models. </a:t>
            </a: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模特们过来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Here + v + S. her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是一个表示地点的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d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这种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以表示地点的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adv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或介词短语开头的句子，要用倒装句语序即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v + 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(S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是人称代词主格时仍然使用 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S + v.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Here comes our English teac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们的英语老师过来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There goes the bell. </a:t>
            </a: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铃响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ehind the door is a cat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门后面有一只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On the road stands a big tr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路边耸立着一棵大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Look</a:t>
            </a: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！</a:t>
            </a: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Here he comes. </a:t>
            </a: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看！他过来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 Black"/>
              </a:rPr>
              <a:t>in the center of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Tahoma"/>
              </a:rPr>
              <a:t>in the center of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…</a:t>
            </a:r>
            <a:r>
              <a:rPr b="0" lang="zh-CN" sz="2800" spc="-1" strike="noStrike">
                <a:solidFill>
                  <a:srgbClr val="cc3300"/>
                </a:solidFill>
                <a:latin typeface="Tahoma"/>
              </a:rPr>
              <a:t> “</a:t>
            </a:r>
            <a:r>
              <a:rPr b="0" lang="zh-CN" sz="2800" spc="-1" strike="noStrike">
                <a:solidFill>
                  <a:srgbClr val="cc3300"/>
                </a:solidFill>
                <a:latin typeface="Tahoma"/>
              </a:rPr>
              <a:t>在……中心”（到四面八方的距离相等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Tahoma"/>
              </a:rPr>
              <a:t>In the middle of… “</a:t>
            </a:r>
            <a:r>
              <a:rPr b="0" lang="zh-CN" sz="2800" spc="-1" strike="noStrike">
                <a:solidFill>
                  <a:srgbClr val="cc3300"/>
                </a:solidFill>
                <a:latin typeface="Tahoma"/>
              </a:rPr>
              <a:t>在……中间”</a:t>
            </a:r>
            <a:r>
              <a:rPr b="0" lang="zh-CN" sz="2800" spc="-1" strike="noStrike">
                <a:solidFill>
                  <a:srgbClr val="cc3300"/>
                </a:solidFill>
                <a:latin typeface="Tahoma"/>
              </a:rPr>
              <a:t>(</a:t>
            </a:r>
            <a:r>
              <a:rPr b="0" lang="zh-CN" sz="2800" spc="-1" strike="noStrike">
                <a:solidFill>
                  <a:srgbClr val="cc3300"/>
                </a:solidFill>
                <a:latin typeface="Tahoma"/>
              </a:rPr>
              <a:t>到两边的距离相等</a:t>
            </a:r>
            <a:r>
              <a:rPr b="0" lang="zh-CN" sz="2800" spc="-1" strike="noStrike">
                <a:solidFill>
                  <a:srgbClr val="cc33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00"/>
                </a:solidFill>
                <a:latin typeface="Tahoma"/>
              </a:rPr>
              <a:t>在口语中，这两个短语有时可以互换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00"/>
                </a:solidFill>
                <a:latin typeface="Tahoma"/>
              </a:rPr>
              <a:t>Our school is in the center of the city. =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00"/>
                </a:solidFill>
                <a:latin typeface="Tahoma"/>
              </a:rPr>
              <a:t>Our school is in the middle of the cit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00"/>
                </a:solidFill>
                <a:latin typeface="Tahoma"/>
              </a:rPr>
              <a:t>我们的学校在市中心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Tahoma"/>
              </a:rPr>
              <a:t>In the center of the stage =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Tahoma"/>
              </a:rPr>
              <a:t>In the middle of the stage </a:t>
            </a:r>
            <a:r>
              <a:rPr b="0" lang="zh-CN" sz="2800" spc="-1" strike="noStrike">
                <a:solidFill>
                  <a:srgbClr val="cc3300"/>
                </a:solidFill>
                <a:latin typeface="Tahoma"/>
              </a:rPr>
              <a:t>在舞台的中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00"/>
                </a:solidFill>
                <a:latin typeface="Tahoma"/>
              </a:rPr>
              <a:t>We have lunch in the middle of the da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00"/>
                </a:solidFill>
                <a:latin typeface="Tahoma"/>
              </a:rPr>
              <a:t>我们在中午吃午饭。</a:t>
            </a:r>
            <a:r>
              <a:rPr b="0" lang="zh-CN" sz="2800" spc="-1" strike="noStrike">
                <a:solidFill>
                  <a:srgbClr val="009900"/>
                </a:solidFill>
                <a:latin typeface="Tahoma"/>
              </a:rPr>
              <a:t>(</a:t>
            </a:r>
            <a:r>
              <a:rPr b="0" lang="zh-CN" sz="2800" spc="-1" strike="noStrike">
                <a:solidFill>
                  <a:srgbClr val="009900"/>
                </a:solidFill>
                <a:latin typeface="Tahoma"/>
              </a:rPr>
              <a:t>不能换</a:t>
            </a:r>
            <a:r>
              <a:rPr b="0" lang="zh-CN" sz="2800" spc="-1" strike="noStrike">
                <a:solidFill>
                  <a:srgbClr val="009900"/>
                </a:solidFill>
                <a:latin typeface="Tahoma"/>
              </a:rPr>
              <a:t>in the center of 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00"/>
                </a:solidFill>
                <a:latin typeface="Tahoma"/>
              </a:rPr>
              <a:t>There is a cave in the center of the mountai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00"/>
                </a:solidFill>
                <a:latin typeface="Tahoma"/>
              </a:rPr>
              <a:t>山中间有一个岩洞。 </a:t>
            </a:r>
            <a:r>
              <a:rPr b="0" lang="zh-CN" sz="2800" spc="-1" strike="noStrike">
                <a:solidFill>
                  <a:srgbClr val="009900"/>
                </a:solidFill>
                <a:latin typeface="Tahoma"/>
              </a:rPr>
              <a:t>(</a:t>
            </a:r>
            <a:r>
              <a:rPr b="0" lang="zh-CN" sz="2800" spc="-1" strike="noStrike">
                <a:solidFill>
                  <a:srgbClr val="009900"/>
                </a:solidFill>
                <a:latin typeface="Tahoma"/>
              </a:rPr>
              <a:t>不能换</a:t>
            </a:r>
            <a:r>
              <a:rPr b="0" lang="zh-CN" sz="2800" spc="-1" strike="noStrike">
                <a:solidFill>
                  <a:srgbClr val="009900"/>
                </a:solidFill>
                <a:latin typeface="Tahoma"/>
              </a:rPr>
              <a:t>in the middle of 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s</cp:lastModifiedBy>
  <dcterms:modified xsi:type="dcterms:W3CDTF">2007-06-23T09:18:10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