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7.png" ContentType="image/png"/>
  <Override PartName="/ppt/media/image23.png" ContentType="image/png"/>
  <Override PartName="/ppt/media/image3.gif" ContentType="image/gif"/>
  <Override PartName="/ppt/media/image6.png" ContentType="image/png"/>
  <Override PartName="/ppt/media/image22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.gif" ContentType="image/gif"/>
  <Override PartName="/ppt/media/image25.gif" ContentType="image/gif"/>
  <Override PartName="/ppt/media/image16.png" ContentType="image/png"/>
  <Override PartName="/ppt/media/image24.png" ContentType="image/png"/>
  <Override PartName="/ppt/media/image19.gif" ContentType="image/gi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49F-B23F-4B6E-96AE-B11E779B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B66-130D-41E5-AE7C-2F6486FB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5DB-693D-452C-BB71-77FFF480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51E-6DE5-4D3B-A5C8-F6C610DA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AF6-77D8-4E13-8909-28F83EE6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AED-2492-4012-B918-85199E5F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214-26CA-45D1-BF42-395B7CBE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D78-1440-47D3-A7B5-7E34DAD4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749-0612-4B70-A56F-CEB55254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351-506E-4D59-A037-3CB15554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C68-4FC8-4924-896A-DDC31889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EA8-2064-4EDA-9A72-0DFD34C5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C042-7942-4863-8DCB-E07740FBFD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" Target="slide12.xml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XY1700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42" name="47" descr="47.gif (6587 字节)"/>
          <p:cNvPicPr/>
          <p:nvPr/>
        </p:nvPicPr>
        <p:blipFill>
          <a:blip r:embed="rId2"/>
          <a:stretch/>
        </p:blipFill>
        <p:spPr>
          <a:xfrm>
            <a:off x="7467480" y="30492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5280" y="83808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小学语文第十二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14" descr="14.GIF (3406 字节)"/>
          <p:cNvPicPr/>
          <p:nvPr/>
        </p:nvPicPr>
        <p:blipFill>
          <a:blip r:embed="rId3"/>
          <a:stretch/>
        </p:blipFill>
        <p:spPr>
          <a:xfrm>
            <a:off x="251460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lp2" descr="">
            <a:hlinkClick r:id="rId7"/>
          </p:cNvPr>
          <p:cNvPicPr/>
          <p:nvPr/>
        </p:nvPicPr>
        <p:blipFill>
          <a:blip r:embed="rId8"/>
          <a:stretch/>
        </p:blipFill>
        <p:spPr>
          <a:xfrm flipH="1" rot="10800000">
            <a:off x="228600" y="30456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31560" y="2209680"/>
            <a:ext cx="223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詹天佑</a:t>
            </a: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90800" y="2590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（第二课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4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86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18" descr="18.GIF (1885 字节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80880" y="685800"/>
            <a:ext cx="8382240" cy="582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137160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70572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09480" y="2590560"/>
            <a:ext cx="3048120" cy="3353040"/>
            <a:chOff x="609480" y="2590560"/>
            <a:chExt cx="3048120" cy="3353040"/>
          </a:xfrm>
        </p:grpSpPr>
        <p:grpSp>
          <p:nvGrpSpPr>
            <p:cNvPr id="197" name=""/>
            <p:cNvGrpSpPr/>
            <p:nvPr/>
          </p:nvGrpSpPr>
          <p:grpSpPr>
            <a:xfrm>
              <a:off x="609480" y="2590560"/>
              <a:ext cx="3048120" cy="3353040"/>
              <a:chOff x="609480" y="2590560"/>
              <a:chExt cx="3048120" cy="3353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609480" y="2590560"/>
                <a:ext cx="0" cy="3352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9480" y="5943600"/>
                <a:ext cx="3048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09480" y="5486400"/>
              <a:ext cx="38088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9480" y="4876560"/>
            <a:ext cx="3048120" cy="1067040"/>
            <a:chOff x="609480" y="4876560"/>
            <a:chExt cx="3048120" cy="1067040"/>
          </a:xfrm>
        </p:grpSpPr>
        <p:sp>
          <p:nvSpPr>
            <p:cNvPr id="202" name=""/>
            <p:cNvSpPr/>
            <p:nvPr/>
          </p:nvSpPr>
          <p:spPr>
            <a:xfrm>
              <a:off x="609480" y="594360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09480" y="4876560"/>
              <a:ext cx="2286000" cy="1067040"/>
              <a:chOff x="609480" y="4876560"/>
              <a:chExt cx="2286000" cy="106704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09480" y="4876560"/>
                <a:ext cx="228600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43000" y="5715000"/>
                <a:ext cx="7596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601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0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12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964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2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1389600" y="1454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联系上下文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8240" y="2666880"/>
            <a:ext cx="506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为什么说京张铁路提前两年竣工，给了藐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中国的帝国主义者一个有力的回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35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0584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68000" y="56386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有　力　回　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5943600"/>
            <a:ext cx="3504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153280" y="2895120"/>
            <a:ext cx="0" cy="3048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34" descr="34.gif (3525 字节)"/>
          <p:cNvPicPr/>
          <p:nvPr/>
        </p:nvPicPr>
        <p:blipFill>
          <a:blip r:embed="rId3"/>
          <a:stretch/>
        </p:blipFill>
        <p:spPr>
          <a:xfrm>
            <a:off x="9372600" y="5638680"/>
            <a:ext cx="7542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53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0316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160" y="29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7" descr="7.GIF (1489 字节)"/>
          <p:cNvPicPr/>
          <p:nvPr/>
        </p:nvPicPr>
        <p:blipFill>
          <a:blip r:embed="rId3"/>
          <a:stretch/>
        </p:blipFill>
        <p:spPr>
          <a:xfrm>
            <a:off x="762120" y="31240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7" descr="7.GIF (1489 字节)"/>
          <p:cNvPicPr/>
          <p:nvPr/>
        </p:nvPicPr>
        <p:blipFill>
          <a:blip r:embed="rId4"/>
          <a:stretch/>
        </p:blipFill>
        <p:spPr>
          <a:xfrm>
            <a:off x="838080" y="76212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45640" y="3473280"/>
            <a:ext cx="459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了解詹天佑施工遇到的各种困难，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过具体事例体会詹天佑是“杰出的爱国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程师”这一中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22240" y="1143000"/>
            <a:ext cx="470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 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詹天佑的施工情况及提早竣工，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会他的“杰出、爱国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34640" y="22096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综合训练，发展学生动口、动手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952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深入理解课文的思想内容，激发学生热爱祖国、立志为祖国作贡献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67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7543800" y="0"/>
            <a:ext cx="1600200" cy="990720"/>
          </a:xfrm>
          <a:prstGeom prst="cloudCallout">
            <a:avLst>
              <a:gd name="adj1" fmla="val -106847"/>
              <a:gd name="adj2" fmla="val 145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谁最聪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2640" y="1908000"/>
            <a:ext cx="403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詹天佑是我国（         ）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工程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39400" y="3051000"/>
            <a:ext cx="69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持修筑的京张铁路是第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完全由我国的工程技术人员设计施工的铁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4572000"/>
            <a:ext cx="58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帝国主义（     ）（     ）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中，在全国人民殷切（    ）中，清政府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詹天佑为（          ），修筑京张铁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896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杰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944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64840" y="305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詹天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5360" y="3048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404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阻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68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要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56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嘲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4108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75000" y="556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总工程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23520" y="22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努力喔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062" descr=""/>
          <p:cNvPicPr/>
          <p:nvPr/>
        </p:nvPicPr>
        <p:blipFill>
          <a:blip r:embed="rId3"/>
          <a:stretch/>
        </p:blipFill>
        <p:spPr>
          <a:xfrm>
            <a:off x="5943600" y="38088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q4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685800" cy="407880"/>
          </a:xfrm>
          <a:prstGeom prst="rect">
            <a:avLst/>
          </a:prstGeom>
          <a:ln w="0">
            <a:noFill/>
          </a:ln>
        </p:spPr>
      </p:pic>
      <p:pic>
        <p:nvPicPr>
          <p:cNvPr id="86" name="ok3" descr=""/>
          <p:cNvPicPr/>
          <p:nvPr/>
        </p:nvPicPr>
        <p:blipFill>
          <a:blip r:embed="rId5"/>
          <a:stretch/>
        </p:blipFill>
        <p:spPr>
          <a:xfrm>
            <a:off x="9524880" y="6662880"/>
            <a:ext cx="6858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9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200400"/>
            <a:ext cx="2210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6152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36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q5" descr=""/>
          <p:cNvPicPr/>
          <p:nvPr/>
        </p:nvPicPr>
        <p:blipFill>
          <a:blip r:embed="rId3"/>
          <a:stretch/>
        </p:blipFill>
        <p:spPr>
          <a:xfrm>
            <a:off x="2286000" y="3505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3976200" y="1104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轻读课文第四自然段，试想两道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440" y="2133720"/>
            <a:ext cx="88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勘测线路时，詹天佑是怎样说、怎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、怎样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88600" y="426708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体现了他的什么精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04812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520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772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5368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2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533520" y="838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同桌讨论学习第五自然段，请用箭头试着为它们分别开凿隧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7560" y="4138560"/>
            <a:ext cx="534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山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2578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 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隧道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556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山山势高，岩层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4280" y="563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决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9760" y="4495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居庸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20680" y="5638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八达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920" y="1752480"/>
            <a:ext cx="8458200" cy="1981080"/>
            <a:chOff x="304920" y="1752480"/>
            <a:chExt cx="8458200" cy="1981080"/>
          </a:xfrm>
        </p:grpSpPr>
        <p:graphicFrame>
          <p:nvGraphicFramePr>
            <p:cNvPr id="130" name=""/>
            <p:cNvGraphicFramePr/>
            <p:nvPr/>
          </p:nvGraphicFramePr>
          <p:xfrm>
            <a:off x="304920" y="1752480"/>
            <a:ext cx="342900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752480"/>
                      <a:ext cx="34290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3657600" y="1752480"/>
            <a:ext cx="5105520" cy="19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600" y="1752480"/>
                      <a:ext cx="51055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3124080"/>
            <a:ext cx="2437920" cy="609480"/>
            <a:chOff x="609480" y="3124080"/>
            <a:chExt cx="2437920" cy="609480"/>
          </a:xfrm>
        </p:grpSpPr>
        <p:grpSp>
          <p:nvGrpSpPr>
            <p:cNvPr id="136" name=""/>
            <p:cNvGrpSpPr/>
            <p:nvPr/>
          </p:nvGrpSpPr>
          <p:grpSpPr>
            <a:xfrm>
              <a:off x="1143000" y="3200400"/>
              <a:ext cx="1904400" cy="533160"/>
              <a:chOff x="1143000" y="3200400"/>
              <a:chExt cx="1904400" cy="533160"/>
            </a:xfrm>
          </p:grpSpPr>
          <p:graphicFrame>
            <p:nvGraphicFramePr>
              <p:cNvPr id="137" name=""/>
              <p:cNvGraphicFramePr/>
              <p:nvPr/>
            </p:nvGraphicFramePr>
            <p:xfrm>
              <a:off x="2514240" y="3200400"/>
              <a:ext cx="533160" cy="533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14240" y="3200400"/>
                        <a:ext cx="533160" cy="53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9" name=""/>
              <p:cNvSpPr/>
              <p:nvPr/>
            </p:nvSpPr>
            <p:spPr>
              <a:xfrm flipH="1">
                <a:off x="2056680" y="3429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3000" y="3429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1" name="060" descr=""/>
            <p:cNvPicPr/>
            <p:nvPr/>
          </p:nvPicPr>
          <p:blipFill>
            <a:blip r:embed="rId9"/>
            <a:stretch/>
          </p:blipFill>
          <p:spPr>
            <a:xfrm>
              <a:off x="609480" y="312408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5943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95480" y="2819520"/>
            <a:ext cx="6629400" cy="1119240"/>
            <a:chOff x="2895480" y="2819520"/>
            <a:chExt cx="6629400" cy="1119240"/>
          </a:xfrm>
        </p:grpSpPr>
        <p:sp>
          <p:nvSpPr>
            <p:cNvPr id="144" name=""/>
            <p:cNvSpPr/>
            <p:nvPr/>
          </p:nvSpPr>
          <p:spPr>
            <a:xfrm flipH="1">
              <a:off x="80773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3440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638320" y="34401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030" descr=""/>
            <p:cNvPicPr/>
            <p:nvPr/>
          </p:nvPicPr>
          <p:blipFill>
            <a:blip r:embed="rId10"/>
            <a:stretch/>
          </p:blipFill>
          <p:spPr>
            <a:xfrm>
              <a:off x="8305920" y="2906640"/>
              <a:ext cx="121896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030" descr=""/>
            <p:cNvPicPr/>
            <p:nvPr/>
          </p:nvPicPr>
          <p:blipFill>
            <a:blip r:embed="rId11"/>
            <a:stretch/>
          </p:blipFill>
          <p:spPr>
            <a:xfrm>
              <a:off x="2895480" y="2819520"/>
              <a:ext cx="1143000" cy="97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867280" y="2362320"/>
            <a:ext cx="838440" cy="990000"/>
            <a:chOff x="5867280" y="2362320"/>
            <a:chExt cx="838440" cy="990000"/>
          </a:xfrm>
        </p:grpSpPr>
        <p:pic>
          <p:nvPicPr>
            <p:cNvPr id="151" name="039" descr="039.gif (4466 字节)"/>
            <p:cNvPicPr/>
            <p:nvPr/>
          </p:nvPicPr>
          <p:blipFill>
            <a:blip r:embed="rId12"/>
            <a:stretch/>
          </p:blipFill>
          <p:spPr>
            <a:xfrm>
              <a:off x="5867280" y="2362320"/>
              <a:ext cx="83844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233040" y="303984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343400" y="455616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采用从两端同时向中间凿进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8769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56991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隧道长一千一百多米，有居庸关 的三倍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6095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先从山顶往下 打一口竖井，再分别向两头开凿，两头也同时施工的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9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61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200400"/>
            <a:ext cx="129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888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65760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6748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XY1700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铁路经过青龙桥附近，坡度特别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48320" y="60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火车怎么才能爬上这样的陡坡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295280"/>
            <a:ext cx="48769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　　　　　　　　　　　　　　　　　　北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的列车到了南口就用两个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头，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一个在前边拉，一个在后边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819520"/>
            <a:ext cx="58672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过青龙桥，列车向东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前进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76720"/>
            <a:ext cx="4724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过了“人”字形线路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岔道口就倒过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733920"/>
            <a:ext cx="65088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原先推的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车头拉，原先拉的火车头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使列车折向西北前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4572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这样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来，火车上山就容易多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066680"/>
            <a:ext cx="4572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詹天佑顺着山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设计了一种“人”字形线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02:18:17Z</dcterms:created>
  <dc:creator>liangxuxi</dc:creator>
  <dc:description/>
  <dc:language>en-US</dc:language>
  <cp:lastModifiedBy>zhaofeng</cp:lastModifiedBy>
  <dcterms:modified xsi:type="dcterms:W3CDTF">2002-05-01T13:12:06Z</dcterms:modified>
  <cp:revision>161</cp:revision>
  <dc:subject/>
  <dc:title>PowerPoint 演示文稿</dc:title>
</cp:coreProperties>
</file>