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0F8-DC20-4074-997D-908CB545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1EE-8942-41F5-95F1-EE50A357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688-3771-4B52-A0B2-D57D461E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1BF-7F99-4992-A193-0DC4D190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E64-598A-4658-926C-FEF9591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C0C-9325-4D56-AD8A-19BD4716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727-7B30-44AE-A074-C80593F9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5E1-B232-447C-9B44-976D6A6E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600-72A9-44B8-99E4-DF2971E3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40C-A47A-4CC9-B8C3-1091C6B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874-BFDB-459F-BD05-7E34477B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98D-773B-4DED-A13E-5E9B80A8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DE51-3D62-4BDD-868E-AD81372898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44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685800"/>
            <a:ext cx="8382240" cy="5791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524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18" descr="18.GIF (1885 字节)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1T01:56:16Z</dcterms:created>
  <dc:creator>liangxuxi</dc:creator>
  <dc:description/>
  <dc:language>en-US</dc:language>
  <cp:lastModifiedBy>liangxuxi</cp:lastModifiedBy>
  <dcterms:modified xsi:type="dcterms:W3CDTF">2002-03-31T01:56:36Z</dcterms:modified>
  <cp:revision>1</cp:revision>
  <dc:subject/>
  <dc:title>PowerPoint 演示文稿</dc:title>
</cp:coreProperties>
</file>