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50-4E28-46E7-AFE5-838BB602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143-502B-4CBB-8C55-364929C4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677-4C1E-4B28-B84D-FCEB3DF7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D6A-218F-4F28-9A46-F29803FB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1293-202E-4953-9832-F2728FAE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8FD-F724-4E78-8EC0-5C58E435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BE35-0559-4E6C-B428-6F1DDCFB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A3B-9292-483F-B9CF-7FAC887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03B3-36FB-4F74-849E-F24550E6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07B-833C-42F6-8BA6-0BA1E6B6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BA3-3589-4922-A157-6D6C0BF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A73-4B46-4FFE-BA78-F56A588D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274-CB26-4ADC-8EDA-B4A020E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88D4-40BD-4FC3-A280-6E3E9BF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239F-5777-4DE4-9038-4D6914B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B98-D986-48E7-B9A5-92A23499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CF6C-09F6-474C-96C5-55894F28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E063-629E-41E5-9DD9-B9020388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B581-D29B-4501-AAB5-F787DA5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F058-DB71-4169-A5BB-58B5DAA0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AD15-AC15-41A9-97C8-43A1F4AA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4FD04-D9BC-426C-8CA0-FF8843F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C79-7577-494F-B28B-5791625E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1CB2-3574-4D21-97D2-3864E88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DF70-8555-45A9-9948-5EEAE57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BC8B-2524-4762-816A-9DE29AF1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8FFF-D17F-4BD8-8AF5-E2ED192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B78A-FF9C-40FB-80C2-636090E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2C07-3251-4FEC-8EF3-85A0DDF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AE82-532A-4A24-999B-3710F9C1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50CD-B7A1-45CE-AA3C-1EFF9725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E9C1-4216-4E41-A6BA-ADE08A3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6B52-7AA8-4DBE-B6CC-83723463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860-C1B6-48DD-9B70-AB98B0D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3CA9-63A3-404E-843F-5D540D7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9C68-5380-43EC-9FB7-79A689A8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6DBD-A117-4747-B224-AB9D26A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D676-0FFD-4EAB-B4D1-502ABCE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4DA3-9924-4845-82C0-0C10AF5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20B9-46D8-4183-B513-BCBA1805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EBFFA-81B0-450C-AFC0-327F5DC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9333-32BF-49ED-947F-F82C5A09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BC15-18AB-4441-88E4-EA321277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5C04-9516-413D-8479-9DB82154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083-6DA9-41F8-B489-2709F74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87A5-F870-4FBB-B950-87936791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AF93F-0DBB-4C88-A688-DB1D3638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E93E-112A-4688-A056-B964C70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0439-5C15-4C7B-BB04-1BDF71A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EB905-F85E-49B2-880C-4A7EFDC0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6055-30ED-416A-8ADB-0007B1A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001E-9CAC-415E-9DBB-23333E0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FE33-1E2E-49F9-9457-286A821C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979CF-22C9-4C8F-8749-6C2638B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63DDD-9302-41C0-B95A-4A75B43B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EC9-89EE-4D51-9D42-D6D4153F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38EA-B71C-4709-A303-70B98EC8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4C89-CE0C-41AF-9AA6-E710BB96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29248-7D6F-42F1-ADB6-63A87AC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05FE-0DE0-4642-ACB8-A8E2E3A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FB74D-13CC-4B46-A7D1-F664B34D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BD12-61C1-478E-839E-48DF6AB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FCB6D-AFF4-4C3F-9BD4-3618004C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6DC4-23F5-4FD9-AF20-044E92B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103B4-8F50-456F-A161-298D127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7578-C5A8-428B-8D0F-5308407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0C8-4BEE-4A1C-B723-BE3DBDD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13673-12E4-4E60-B312-A12FB04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6E76-272A-4FE4-BF39-498F12BC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B03E-A1F9-4BA4-9B98-2EE720E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E220-D0DF-418B-A7C8-7076C14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B681-05B5-4F8B-9833-36D5C9AB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F989-0AF4-41E7-857A-2CB7F8D1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DCAC-39EF-4DD4-84EC-0754BF5A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FEDB-CF03-4140-9AE6-5AA7EAC7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1ABB9-5FA3-4F81-AEAC-A8EA1E37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EEC70-43A1-4EFE-94EF-26AD234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1E9-933C-4CC2-BB91-CF7B480B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3C02-2876-4C93-B0D2-A74C84E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58B1-40FE-48D5-8739-D67DB60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D844-74CB-48C2-A6D2-DB8642E9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B3F4-3DB2-4310-89E3-D344A94C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EBD5-96D8-41DD-AE4F-A0A6B6CB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C613C-B6F2-43BE-9C31-44BA7A78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87CA-0738-477A-82F5-8128591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4F54B-AC9A-4864-A91C-F4032D6F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ECB9E-E869-4DC2-B746-BD15A5C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41A08-1656-4868-8805-AC5F314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12C-AE63-4FBC-8D7B-0E4F44AB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8113-7704-4A7C-BF20-C4CD8C27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45EB-FBDF-4A42-96C1-D43C347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2235-142C-4FF6-89F1-85A0457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7C325-B353-4546-9F2F-26AB9AE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6FFB2-E84D-46E8-BFE2-C47DEB7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AB2B-F255-465F-BEDA-29361BD7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AA92-07DC-4611-92DF-21E577BA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97E4-52B4-422E-95EE-80E186FCD4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4BD5-20A1-45C8-9E9E-CA991C0658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C2FA-2166-4D31-BFF9-4F85459DE4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6AD2-9F59-4CB4-870C-4013D940C22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027F-8251-46E4-8DF5-EDDD514E483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3DA-8D1D-40A3-9499-C9CE90AEA8C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B45-B6ED-4635-95F2-891ADC5F606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38C-4B53-43CC-ACDF-7E7B48DCCA3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8.xml"/><Relationship Id="rId3" Type="http://schemas.openxmlformats.org/officeDocument/2006/relationships/slide" Target="slide208.xml"/><Relationship Id="rId4" Type="http://schemas.openxmlformats.org/officeDocument/2006/relationships/slide" Target="slide208.xml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手机图片夏天到了~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2120" y="3809880"/>
            <a:ext cx="3733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B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84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common: adj.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普遍的”， 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We’re just comm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们只是普通人（平头老百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eongsams were common dresses in Dynasty Q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旗袍在清朝是平常的服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ks in China are comm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园在中国是公有土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common knowledge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常识，众所周知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It’s common knowledge that China is a larg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中国是一个大国，这是常识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众所周知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mon: u.n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普通” “共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in common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共用的” ，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They have nothing in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们毫无共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common with other young people I hate getting up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其他年轻人一样，我也不喜欢早起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华文琥珀"/>
              </a:rPr>
              <a:t>be called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576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be called … “(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)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叫做…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She is called Lily. = She is Lily. = Her name is Lil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她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Li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再次复习所学的被动结构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90656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kill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杀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sav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拯救，获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pulled dow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拆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invent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发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up of 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1" lang="zh-CN" sz="1800" spc="-1" strike="noStrike">
                <a:solidFill>
                  <a:srgbClr val="0099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worn out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用坏，被穿破，被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listed i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列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destroy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破坏，被毁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follow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跟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lean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弄干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ook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煮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of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手机图片快乐每一天"/>
          <p:cNvPicPr/>
          <p:nvPr/>
        </p:nvPicPr>
        <p:blipFill>
          <a:blip r:embed="rId2"/>
          <a:stretch/>
        </p:blipFill>
        <p:spPr>
          <a:xfrm>
            <a:off x="6400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2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2" action="ppaction://hlinksldjump"/>
              </a:rPr>
              <a:t>be + p.p.(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3" action="ppaction://hlinksldjump"/>
              </a:rPr>
              <a:t>过去分词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4" action="ppaction://hlinksldjump"/>
              </a:rPr>
              <a:t>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504360"/>
            <a:ext cx="9144000" cy="630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. be pulled down (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建筑物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)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拆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Lots of city walls were pulled down for new road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为了修公路，大量的城墙被拆毁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2. be cleaned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弄干静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Food must be cleaned carefully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食物必须仔细地弄干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3. be  made up of 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由……组成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area is made up of 16 buildings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个地区由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6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栋大楼组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4. be listed in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列入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Your name is listed in the list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你的名字被列入了这个表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5. be covered with …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……所覆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mountain is covered with fores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座山被森林覆盖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6. be worn out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耗尽，被用坏，被穿破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My patience was worn ou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的耐心被耗尽了。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无法忍受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7. be sav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得救，获救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At last Rose was saved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最后，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Rose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获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8. be invent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发明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V was invented in 1939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电视是在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939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年发明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9. be follow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跟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y were followed by 12 officials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他们被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名官员跟随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0. be destroy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毁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old city walls were destroyed badly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老城墙遭到了严重的毁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Exercise 95-96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1. Food must _______ careful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cleaned     B. clean   C. be cleaned  D. clean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2. The weather today is very good for a picnic, ___ too cold ____ too ho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both, and   B. either, or  C. not only, but also   D. neither, n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3. We’re just ______ peopl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usual   B. casual    C. common   D. inform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 )4. It’s ____ expensive car that I can’t afford to buy i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so    B. such   C. so an   D. such 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5. There is a dog ______ the road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n the middle  B. in the middle of   C. in the center   D. in the center o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6. It’s very nice ____ you ____ so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for, to   B. to, for     C. to, to    D. for, f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7. Please keep quiet, here __________.   A. our teacher com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B. comes our teacher  C. is coming our teacher   D. our teacher is com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8. Mary is ____ student, she often help othe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quite good  B. quite a good  C. a good quite   D. good a qu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9. This pair of shoes ____ min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   B. am    C. are   D. a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0. Is that a good idea? I’m not sure. 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合并为一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I’m not sure _____________ ________ a good idea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280" y="1125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" y="17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" y="23493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573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210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280" y="4797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280" y="54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8000" y="6308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f / wh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63025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手机图片阳光小屋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523880" y="1143000"/>
            <a:ext cx="5639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86176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ercise 93-9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1. There _____ a fashion show at Jiefangb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is going to have  B. is going to be C. are going to have  D. are going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2. I don’t know how many books ___ from the school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Can a student borrow B. can a student lend  C. A student can b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3. _____ would you like?                                 D. a student can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at other   B. What else   C. Else what    D. Other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4. How wonderful! The room is ____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made from    B. made of   C. made into   D. mad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5. --- Have you ______ Daniel Igali? – Yes. I know much abou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heard from   B. heard of   C. heard about   D. both B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6. The room is used _____ a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as    B. for    C. to    D.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7. --- Do you like the music the Moonlight Sona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 Yes, it ____ really beauti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feels   B. listens  C. sounds D. 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 To read aloud is very important in English learning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改成复合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 important _____ read aloud in English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 The boys looks really cool in the blue jeans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叹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 ________ the boy looks in the blue jea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. Lets’ meet at the school gate, ________ _______?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意疑问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5373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98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598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630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630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125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0" y="1736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0" y="23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0" y="35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920" y="4184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533520"/>
          <a:ext cx="9144000" cy="61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61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2195640" y="189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Unit Eight  Topic Three    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1341360"/>
          <a:ext cx="914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336280" y="2743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3560" y="3124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4680" y="3048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720" y="3048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350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n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9760" y="3429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436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9560" y="3809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2252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7320" y="3809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10760" y="44956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手机图片森林小精灵"/>
          <p:cNvPicPr/>
          <p:nvPr/>
        </p:nvPicPr>
        <p:blipFill>
          <a:blip r:embed="rId3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061800" y="3573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9080" y="3573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6093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720" y="6491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189000"/>
          <a:ext cx="914400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9000"/>
                    <a:ext cx="91440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907920"/>
          <a:ext cx="9144000" cy="44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91440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4908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1880" y="4357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3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168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3380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0252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32720" y="566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畲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661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壮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5638680"/>
            <a:ext cx="15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蒙古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5661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藏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5661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0" y="566100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95-96 Section B Topic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ere come th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model in the center of the T-shaped stage looks so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common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t’s called a cheong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t’s a traditional dress for Chinese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t’s becoming popular in the world of high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nother three girls= three mor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You know a lot about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ere come the mode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come the model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模特们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+ v + S. 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表示地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以表示地点的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介词短语开头的句子，要用倒装句语序即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v + 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是人称代词主格时仍然使用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S + v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comes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英语老师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There goes the bell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铃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hind the door is a cat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后面有一只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On the road stands a big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路边耸立着一棵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ok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he come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！他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in the center o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心”（到四面八方的距离相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…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间”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到两边的距离相等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在口语中，这两个短语有时可以互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center of the city.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middle of the 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的学校在市中心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 the stage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 the stage 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舞台的中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We have lunch in the middle of the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在中午吃午饭。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center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There is a cave in the center of the mount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山中间有一个岩洞。 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middle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6-23T09:18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