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9.png" ContentType="image/png"/>
  <Override PartName="/ppt/media/image1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A61-7835-441D-A21F-F63878A5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AF5-0E8F-4B15-83B1-3933B281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9D1-61D7-4351-8427-A1E8D6C5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919-97BF-4F0C-9C19-482B3B6F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FAF5-C72F-49C8-9DF9-FAA17BA4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7735-5AC3-4493-8CE1-B35C10E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0C20-1FB4-4DB3-93A7-196DCA20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F334-C4A2-4693-9734-3411348D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8AD2-223B-4986-9300-831F01E5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0EBB-3EFE-4EFC-A83B-5328A090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1760-5411-4871-989E-69CF81D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3C3-E038-49CF-9F4B-257A9675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1530-D149-4819-B330-6C25565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9B6F-8C5D-43CF-9F92-84E8D081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5F82-130E-43D7-987E-969B2F16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C99C-3BA0-4078-A7F0-CAC0316C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1DAC-20C9-4669-B002-E7D6F877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0674-DA6B-44B7-9DAD-04C78862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25D2-6BBA-472F-8072-79588F5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2F99-A89E-46A9-906C-4B4C6B83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ECB48-DCB6-46B7-B5C0-9A59A62A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F275-7E40-4C5C-B1C9-39C6A415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ED4-7B45-4003-8A75-D7FB41D7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EB4E8-DAEB-47CE-A8D2-19CD4F83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31F1-2E61-4CEF-B6A3-A00C350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E82F-7CA8-479F-BE3D-2DE54A76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126E-8EFF-450E-A1E2-CDB5DD23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27B8-8012-4537-9F01-C8B5E486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F8DC-4A4C-4B34-B3B7-B44D7977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29EB-CF99-439B-A8CD-1708BDC0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C91AE-24D7-4B98-8287-E8E8990B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C740-D631-4EC2-8408-7E85919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E494-9B11-4348-937B-5B331942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D2B-B0EA-4FB6-BDCD-0DA1CA41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AACD-BF7F-4431-995E-291601E4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D778F-06A8-4FDD-9B56-B9795D7C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0357-5619-4D33-B736-5D29D162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FAD1C-0536-4483-9C13-A78A546C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AD6BD-A608-491E-A4DA-C6E9DB67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F5956-E401-4966-A062-2C91805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B343-44D8-42EF-9301-7C102CB5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7A653-FA6C-4322-9F7D-A20DA269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E6D7-210A-49CB-AD91-CC674685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2C323-7EC0-4383-9B7A-CFDDCCD2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5C2-ECBA-41D8-9DB2-004CC230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BC7D3-10BA-41B0-ACA8-BACF3777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3AAE3-749E-42AF-BEB8-31FF2EF7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1207-737C-4E3D-BA60-D3063D76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543B-19EF-4D36-9E4D-1519968C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2277-FAF6-41D1-B48E-C36431A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50961-2DFD-4B93-8927-2A6F753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A98D1-4195-4F69-A22D-5124560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880D-CB6B-489B-804B-E670E39B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217A2-4428-44EC-99B5-76D08AD9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C8A19-BD24-4598-B3B0-38261F01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4E9-0841-45D9-8D8F-F9C9D247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9E57-50DF-4F89-A2E8-F0ABA2DF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AD026-3F46-4AC0-9102-0143C6B8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41EC-4975-4722-B85F-04230007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E41E4-AA86-4A73-90B5-1DFF18C5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C08B-28D8-4472-8F3E-86079D8A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475B-E3CF-4B20-8376-E0752D30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E6F5A-EF7A-4BFB-BFEE-AF0D7D67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F2DAD-E892-4FF0-BED3-F82B0249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8CDBE-4CAD-4D48-A1A8-41F69E1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75D3-8F78-46B2-8AF1-0C6C3473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EFF-987B-4560-AE6E-9655FD8C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64C9-23EC-4DC1-8D44-524B68F3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1F95C-C99B-42FF-9ECF-5DF2C11F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D7D7B-675A-49BE-841F-FB81D814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1758D-C181-49CD-8216-1AB7B880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A64CB-B570-47B1-AD99-30B42856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20689-D2C4-40C7-A5D2-71D4A555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9757F-C6F3-4998-B0B9-FAAD7E75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33105-F605-4271-854D-11155C41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41A5-1138-4870-8D6D-AB224ADC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47C0-639D-4813-9B1E-61C4E48B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464-BEB8-44C4-BB03-2716A8DB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B35FB-28F2-49CD-BFE0-F0B6FCAF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459D4-03F5-49BA-93F9-871CFD7B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FFE9-326D-4A1A-8E6A-03B0231A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C1B8-950D-4C08-A632-5922959A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2CC81-36EE-47C0-B5AD-2E23CB4A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30F70-DAC6-41B4-815D-90D2F93C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A56BE-57D3-4D72-BA6B-4B49166C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3B62B-BF78-4685-8AFA-1DE87EAA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1A611-DC6F-4BAE-9443-C7B57F9C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EEB3D-F3B6-4592-B60B-3AF8722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1C7-FD87-4CD7-9CF5-B4C9AF1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DCAA7-3C57-4D31-86D9-234A650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D61B7-76F4-4FD1-9B96-82F1990D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05360-0F8A-43E5-B443-A5F5097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A4B0B-E829-4E3C-8E2E-6635AABD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910B2-00A9-45A5-9F23-2841803F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85FA5-DC36-41AC-A4CB-7598F4C6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DD65A-5066-4C98-BA07-CF45E4FD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EB23-5B71-44B0-8CF8-3DF6C6C97D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54E8-AA38-4C3D-89AB-157DA758DC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A73F-FD27-4CA9-9880-EDF50576E2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F8DC-27D9-4AC8-82B2-B4FCF521829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5A49-04BA-4F3F-A250-C1836B919C3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687A-3A1A-4E90-9930-8366D2DC9DF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CAEF-67D6-41A3-8A4E-A9E2D739A0BA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4378-D760-4382-B1F6-F0A1C246C9E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8.xml"/><Relationship Id="rId3" Type="http://schemas.openxmlformats.org/officeDocument/2006/relationships/slide" Target="slide208.xml"/><Relationship Id="rId4" Type="http://schemas.openxmlformats.org/officeDocument/2006/relationships/slide" Target="slide208.xml"/><Relationship Id="rId5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手机图片夏天到了~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762120" y="3809880"/>
            <a:ext cx="37335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ction B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84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omm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common: adj. 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普遍的”， “共同的”，“公有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We’re just commo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我们只是普通人（平头老百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eongsams were common dresses in Dynasty Q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旗袍在清朝是平常的服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ks in China are common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园在中国是公有土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common knowledge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常识，众所周知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It’s common knowledge that China is a larg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中国是一个大国，这是常识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众所周知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mmon: u.n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普通” “共通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in common 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共用的” ，“共同的”，“公有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They have nothing in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他们毫无共同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 common with other young people I hate getting up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其他年轻人一样，我也不喜欢早起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华文琥珀"/>
              </a:rPr>
              <a:t>be called 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576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be called … “(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被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)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叫做…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She is called Lily. = She is Lily. = Her name is Lil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她叫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Li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再次复习所学的被动结构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906560"/>
            <a:ext cx="914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kill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杀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sav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拯救，获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pulled down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拆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invent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发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made up of 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由</a:t>
            </a:r>
            <a:r>
              <a:rPr b="1" lang="zh-CN" sz="1800" spc="-1" strike="noStrike">
                <a:solidFill>
                  <a:srgbClr val="009900"/>
                </a:solidFill>
                <a:latin typeface="Comic Sans MS"/>
              </a:rPr>
              <a:t>……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worn out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用坏，被穿破，被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listed in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列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destroy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破坏，被毁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follow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跟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lean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弄干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ook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煮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made of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由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手机图片快乐每一天"/>
          <p:cNvPicPr/>
          <p:nvPr/>
        </p:nvPicPr>
        <p:blipFill>
          <a:blip r:embed="rId2"/>
          <a:stretch/>
        </p:blipFill>
        <p:spPr>
          <a:xfrm>
            <a:off x="6400800" y="4038480"/>
            <a:ext cx="2743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424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2" action="ppaction://hlinksldjump"/>
              </a:rPr>
              <a:t>be + p.p.(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3" action="ppaction://hlinksldjump"/>
              </a:rPr>
              <a:t>过去分词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4" action="ppaction://hlinksldjump"/>
              </a:rPr>
              <a:t>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504360"/>
            <a:ext cx="9144000" cy="6309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1. be pulled down (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建筑物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)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拆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Lots of city walls were pulled down for new road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为了修公路，大量的城墙被拆毁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2. be cleaned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弄干静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Food must be cleaned carefully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食物必须仔细地弄干净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3. be  made up of 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由……组成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area is made up of 16 buildings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这个地区由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6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栋大楼组成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4. be listed in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列入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Your name is listed in the list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你的名字被列入了这个表中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5. be covered with …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……所覆盖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mountain is covered with forest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这座山被森林覆盖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6. be worn out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耗尽，被用坏，被穿破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My patience was worn out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我的耐心被耗尽了。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/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我无法忍受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7. be sav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得救，获救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At last Rose was saved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最后，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Rose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获救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8. be invent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发明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V was invented in 1939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电视是在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939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年发明的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9. be follow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跟随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y were followed by 12 officials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他们被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2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名官员跟随着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10. be destroy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毁坏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old city walls were destroyed badly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老城墙遭到了严重的毁坏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Exercise 95-96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1. Food must _______ carefully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s cleaned     B. clean   C. be cleaned  D. cleaned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2. The weather today is very good for a picnic, ___ too cold ____ too hot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both, and   B. either, or  C. not only, but also   D. neither, no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3. We’re just ______ peopl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usual   B. casual    C. common   D. informa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 )4. It’s ____ expensive car that I can’t afford to buy it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so    B. such   C. so an   D. such a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5. There is a dog ______ the road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n the middle  B. in the middle of   C. in the center   D. in the center of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6. It’s very nice ____ you ____ so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for, to   B. to, for     C. to, to    D. for, fo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7. Please keep quiet, here __________.   A. our teacher comes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B. comes our teacher  C. is coming our teacher   D. our teacher is comin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8. Mary is ____ student, she often help other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quite good  B. quite a good  C. a good quite   D. good a qui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9. This pair of shoes ____ min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s    B. am    C. are   D. a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10. Is that a good idea? I’m not sure. (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合并为一句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I’m not sure _____________ ________ a good idea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280" y="5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280" y="1125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280" y="177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280" y="234936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280" y="2960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573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22100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280" y="4797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280" y="5408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08000" y="63086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f / wh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63025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手机图片阳光小屋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1523880" y="1143000"/>
            <a:ext cx="5639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-bye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4191120" y="3962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86176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ercise 93-9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1. There _____ a fashion show at Jiefangb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is going to have  B. is going to be C. are going to have  D. are going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2. I don’t know how many books ___ from the school lib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Can a student borrow B. can a student lend  C. A student can b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3. _____ would you like?                                 D. a student can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What other   B. What else   C. Else what    D. Other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4. How wonderful! The room is ____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made from    B. made of   C. made into   D. mad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5. --- Have you ______ Daniel Igali? – Yes. I know much abou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heard from   B. heard of   C. heard about   D. both B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6. The room is used _____ a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as    B. for    C. to    D.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7. --- Do you like the music the Moonlight Sonat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 Yes, it ____ really beauti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feels   B. listens  C. sounds D. h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. To read aloud is very important in English learning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改成复合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 important _____ read aloud in English lear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. The boys looks really cool in the blue jeans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感叹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_ ________ the boy looks in the blue jea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. Lets’ meet at the school gate, ________ _______?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意疑问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53737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11280" y="537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598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7640" y="5985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6308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48360" y="6308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280" y="5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125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920" y="1736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920" y="23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0" y="2960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920" y="357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920" y="4184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0" y="533520"/>
          <a:ext cx="9144000" cy="61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9144000" cy="61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2195640" y="189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Unit Eight  Topic Three    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0" y="1341360"/>
          <a:ext cx="9144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336280" y="27432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3560" y="31240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44680" y="3048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720" y="3048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35000" y="3429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in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9760" y="3429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6436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9560" y="38098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2252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7320" y="3809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10760" y="44956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手机图片森林小精灵"/>
          <p:cNvPicPr/>
          <p:nvPr/>
        </p:nvPicPr>
        <p:blipFill>
          <a:blip r:embed="rId3"/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3061800" y="3573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nd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89080" y="35733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70160" y="6093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720" y="64911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189000"/>
          <a:ext cx="9144000" cy="105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89000"/>
                    <a:ext cx="91440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0" y="907920"/>
          <a:ext cx="9144000" cy="44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914400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49080" y="4365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71880" y="4357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1344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1684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33800" y="4365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10252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732720" y="5661000"/>
            <a:ext cx="11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畲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6610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壮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5638680"/>
            <a:ext cx="15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蒙古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5661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藏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27280" y="566100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满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812000" y="566100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朝鲜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ge95-96 Section B Topic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ere come th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model in the center of the T-shaped stage looks so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 common 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t’s called a cheongs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t’s a traditional dress for Chinese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t’s becoming popular in the world of high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Another three girls= three more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You know a lot about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ere come the mode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Here come the models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模特们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+ v + S. 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一个表示地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以表示地点的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adv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或介词短语开头的句子，要用倒装句语序即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v + 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是人称代词主格时仍然使用 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S + v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comes our English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的英语老师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There goes the bell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铃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hind the door is a cat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门后面有一只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On the road stands a big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路边耸立着一棵大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ok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Here he comes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看！他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in the center of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center of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…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 “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……中心”（到四面八方的距离相等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middle of… “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……中间”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到两边的距离相等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在口语中，这两个短语有时可以互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Our school is in the center of the city.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Our school is in the middle of the c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我们的学校在市中心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center of the stage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middle of the stage 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舞台的中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We have lunch in the middle of the 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我们在中午吃午饭。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不能换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in the center of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There is a cave in the center of the mount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山中间有一个岩洞。 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不能换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in the middle of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s</cp:lastModifiedBy>
  <dcterms:modified xsi:type="dcterms:W3CDTF">2007-06-23T09:18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