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4B3-1CB7-4B3B-BF30-A006B226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E8B-C134-4798-AD7F-574AA3F5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A9F-821C-4539-8215-13EB664C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4E8-35A8-409C-A9A6-9600FFD7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F8E-7117-429F-B454-8901264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66D-4DCB-45B4-B39F-E380200A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826-175F-4B89-A14B-E791EEDE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D1A-AA57-4458-ACDC-7EA05CDA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2D9-D428-48A4-8BFC-FFAF63DC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0D9-0262-4CE6-A515-85319E9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38A-E1E2-4E9B-A8C6-DE9EBF92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C91-97D9-44C3-911E-6F1A5AC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B22C-1936-4C7D-90E4-64CEECA6B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0640" y="2990880"/>
            <a:ext cx="16437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桂林山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3080" y="48769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广东省阳春市第三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初一〈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11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〉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徐奕成    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7240" y="19080"/>
            <a:ext cx="50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人们都说：“桂林山水甲天下。”我们乘着木船荡漾在漓江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来观赏桂林的山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5720" y="826920"/>
            <a:ext cx="569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看见过波澜壮阔的大海，玩赏过水平如镜的西湖，却没有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漓江样的水。漓江水真静啊，静得让你感觉不到它在流动；漓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的水真清啊，清得可以看见江底的沙石；漓江的水真绿啊，绿得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佛那是一块无暇的翡翠。船桨激起的微波扩散出一道道水纹，才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你感觉到船在前进，岸在后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0800" y="2655720"/>
            <a:ext cx="570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攀登过峰峦雄伟的泰山，游览过红叶似火的香山，却从没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桂林着一带的山。桂林的山真奇啊，一座座拔地而起，各不相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老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巨象，像骆驼，奇峰罗列，形态万千；桂林的山真秀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翠绿的屏障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象新生的竹笋，色彩明丽，倒映水中；桂林的山真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啊，危峰兀立怪石嶙峋，好像一不小心就会栽倒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65720" y="4484520"/>
            <a:ext cx="56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这样的山围绕着这样的水，这样的水倒映着这样的山，在加上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中云雾迷蒙，山间绿树红花，江上竹筏小舟，让你感觉到像是走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了连绵不断的画卷，真是“舟行碧波上，人在画中游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6172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桂林简介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9000" y="6172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思考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·</a:t>
            </a: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10280" y="61722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57600" y="56386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桂林风光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生字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    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世界著名的风景游览城市，有着举世无双的喀斯特地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这里的山，平地拔起，千姿百态；漓江的水，蜿蜒曲折，明洁如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；山多有洞，洞幽景奇，瑰丽壮观；洞中怪石，鬼斧神工，琳琅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目，于是形成了“山青、水秀、洞奇、石美”的桂林“四绝”，而自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就有“山水甲天下”的赞誉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一座文化古城。两千多年的历史，使它具有丰厚的文化底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秦始皇统一思想国后，设置桂林郡，开凿灵渠，沟通湘江和漓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从此便成为南通海域，北达中原的重镇。宋代以后，它一直是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西政治、经济、文化的中心，号称“西南会府”，直到新中国建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漫长的岁月里，桂林的奇山秀水吸引着无数的文人墨客，使他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写下了许多脍炙人口的诗篇和文章，刻下了两千余件石刻和壁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另外，历史还在这里留下了许多古迹遗址。这些独特的人文景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使桂林得到了“游山如读史，看山如观画”的赞美。抗日战争时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成为中国著名的文化城，众多的爱国作家、艺术家会集在这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谱写出抗日文化的新篇章。悠久的历史，为这块古老而美丽的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地孕育了富饶的文化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    千百年来，桂林一直是人们旅游观光的宝地。现在，一个以桂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市为中心，包含周围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个县的风景区已经形成。这里有浩瀚苍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原始森林，雄奇险峻的峰峦幽谷，激流奔腾的溪泉瀑布，天下奇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的高山梯田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......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这一片神奇的土地上，生活着壮、瑶、苗、侗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仫佬、毛难等十多个少数民族。大桂林的自然风光、民族风情、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史文化、深深地吸引着中外游客以及国家元首纷至踏来，流连忘返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77724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67040" y="271440"/>
            <a:ext cx="55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思考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有感情地朗读课文，背诵课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最后一段，联系全文，想一想桂林山水的特点，然后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自己的话说一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了本课，你可能被文中的桂林山水的美深深感染。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吟一首诗或写几句话，表达自己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△  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选当地的一处风景，想一想它有什么特点，然后写一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可以选用课文的句式和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81480" y="5562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3505320" cy="257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477120" y="358128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629400" y="571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solidFill>
                    <a:srgbClr val="00ff00"/>
                  </a:solidFill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一页</a:t>
            </a:r>
            <a:endParaRPr b="0" lang="en-US" sz="2400" spc="1" strike="noStrike">
              <a:ln w="0">
                <a:solidFill>
                  <a:srgbClr val="00ff00"/>
                </a:solidFill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2469960" y="626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0047139735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200471310289" descr=""/>
          <p:cNvPicPr/>
          <p:nvPr/>
        </p:nvPicPr>
        <p:blipFill>
          <a:blip r:embed="rId2"/>
          <a:stretch/>
        </p:blipFill>
        <p:spPr>
          <a:xfrm>
            <a:off x="3809880" y="0"/>
            <a:ext cx="3745080" cy="2689200"/>
          </a:xfrm>
          <a:prstGeom prst="rect">
            <a:avLst/>
          </a:prstGeom>
          <a:ln w="0">
            <a:noFill/>
          </a:ln>
        </p:spPr>
      </p:pic>
      <p:pic>
        <p:nvPicPr>
          <p:cNvPr id="67" name="200471316643" descr=""/>
          <p:cNvPicPr/>
          <p:nvPr/>
        </p:nvPicPr>
        <p:blipFill>
          <a:blip r:embed="rId3"/>
          <a:stretch/>
        </p:blipFill>
        <p:spPr>
          <a:xfrm>
            <a:off x="0" y="281952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68" name="200471376153" descr=""/>
          <p:cNvPicPr/>
          <p:nvPr/>
        </p:nvPicPr>
        <p:blipFill>
          <a:blip r:embed="rId4"/>
          <a:stretch/>
        </p:blipFill>
        <p:spPr>
          <a:xfrm>
            <a:off x="3809880" y="28195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6019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78080" y="304920"/>
            <a:ext cx="1005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        lán          xiá      f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波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壮阔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暇       翡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uán      zhàng       fá        mi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峦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 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筏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绵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4648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9:33:30Z</dcterms:created>
  <dc:creator>Guset</dc:creator>
  <dc:description/>
  <dc:language>en-US</dc:language>
  <cp:lastModifiedBy>Guset</cp:lastModifiedBy>
  <dcterms:modified xsi:type="dcterms:W3CDTF">2004-09-19T06:28:30Z</dcterms:modified>
  <cp:revision>5</cp:revision>
  <dc:subject/>
  <dc:title>PowerPoint 演示文稿</dc:title>
</cp:coreProperties>
</file>