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0BB-FE41-4B15-B85C-6DBB49C2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207-2891-43F1-9C8A-2027D0E6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8E9-88A9-4184-A6A0-413CFA3B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C98-C22F-4358-B8E9-F7D8CD38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E8B8-27CD-4057-AF2A-E8555C39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DFD-FB0F-447D-88D8-F4F9398B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67A2-5A59-49F2-A95B-9F9223EF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779-868A-432E-B015-F7297227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CC3-DDB2-42CC-9D31-FA99FDA5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175-6C01-45EA-8317-CF86F410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359-49D9-4F1E-90F3-008567E0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442-AC1E-4920-8358-951A5445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8ECC-7595-4F49-859C-F66D20D2E4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91440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黑体"/>
              </a:rPr>
              <a:t>瀑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15000" y="2743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水从峭壁上流下来，远远望去，好象是一匹白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瀑布" descr=""/>
          <p:cNvPicPr/>
          <p:nvPr/>
        </p:nvPicPr>
        <p:blipFill>
          <a:blip r:embed="rId1"/>
          <a:stretch/>
        </p:blipFill>
        <p:spPr>
          <a:xfrm>
            <a:off x="0" y="0"/>
            <a:ext cx="5800680" cy="157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914400"/>
            <a:ext cx="329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FJ1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hgsyj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32600" y="685800"/>
            <a:ext cx="3911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隶书"/>
              </a:rPr>
              <a:t>中华名瀑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黄果树瀑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huangguo4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89240" y="762120"/>
            <a:ext cx="41547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隶书"/>
              </a:rPr>
              <a:t>中华名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黄果树瀑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598720" y="1066680"/>
            <a:ext cx="35452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隶书"/>
              </a:rPr>
              <a:t>中华名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壶口瀑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户口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989240" y="1143000"/>
            <a:ext cx="4154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隶书"/>
              </a:rPr>
              <a:t>中华名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庐山三叠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三叠泉" descr=""/>
          <p:cNvPicPr/>
          <p:nvPr/>
        </p:nvPicPr>
        <p:blipFill>
          <a:blip r:embed="rId1"/>
          <a:stretch/>
        </p:blipFill>
        <p:spPr>
          <a:xfrm>
            <a:off x="32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珍珠谈" descr=""/>
          <p:cNvPicPr/>
          <p:nvPr/>
        </p:nvPicPr>
        <p:blipFill>
          <a:blip r:embed="rId1"/>
          <a:stretch/>
        </p:blipFill>
        <p:spPr>
          <a:xfrm>
            <a:off x="0" y="1531800"/>
            <a:ext cx="9144000" cy="5326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隶书"/>
              </a:rPr>
              <a:t>中华名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珍珠滩瀑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泥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11440" y="533520"/>
            <a:ext cx="41547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cc"/>
                </a:solidFill>
                <a:latin typeface="Times New Roman"/>
                <a:ea typeface="隶书"/>
              </a:rPr>
              <a:t>世界名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尼加拉瓜瀑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尼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46360" y="0"/>
            <a:ext cx="505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cc"/>
                </a:solidFill>
                <a:latin typeface="Times New Roman"/>
                <a:ea typeface="隶书"/>
              </a:rPr>
              <a:t>世界名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尼加拉瓜瀑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7:08:26Z</dcterms:created>
  <dc:creator>jinlizhi</dc:creator>
  <dc:description/>
  <dc:language>en-US</dc:language>
  <cp:lastModifiedBy>jinlizhi</cp:lastModifiedBy>
  <dcterms:modified xsi:type="dcterms:W3CDTF">2001-10-25T09:01:01Z</dcterms:modified>
  <cp:revision>7</cp:revision>
  <dc:subject/>
  <dc:title>PowerPoint 演示文稿</dc:title>
</cp:coreProperties>
</file>