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92028-33B0-4881-B778-C4B4966C3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21AE-8742-4784-BE68-6589883AC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A813-4990-4309-8BD4-62E0AD647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BE46-FD70-40B7-BAB7-61596009C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4682-930C-433E-9CA1-111B5C235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3083-1348-4099-91D6-AE7B7B0BBC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6CA1D-6C91-4FD1-9540-9F07483C4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3B359-993B-40E8-826C-15B7B624F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E4C4-53D5-4527-83FB-F4F20873F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6040-954E-4B5D-9ABA-E6272E44F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01BE-866C-4F3A-886C-BB6A05BFE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0A6F4-49E5-4322-8022-E7192EB9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83D42-116F-4C5B-B4B5-EE6DBAAD15D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248520" y="914400"/>
            <a:ext cx="25146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Times New Roman"/>
                <a:ea typeface="黑体"/>
              </a:rPr>
              <a:t>瀑布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715000" y="2743200"/>
            <a:ext cx="342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水从峭壁上流下来，远远望去，好象是一匹白布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瀑布" descr=""/>
          <p:cNvPicPr/>
          <p:nvPr/>
        </p:nvPicPr>
        <p:blipFill>
          <a:blip r:embed="rId1"/>
          <a:stretch/>
        </p:blipFill>
        <p:spPr>
          <a:xfrm>
            <a:off x="0" y="0"/>
            <a:ext cx="5800680" cy="157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371600" y="914400"/>
            <a:ext cx="32925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FJ12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ffbf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hgsyj" descr=""/>
          <p:cNvPicPr/>
          <p:nvPr/>
        </p:nvPicPr>
        <p:blipFill>
          <a:blip r:embed="rId1"/>
          <a:stretch/>
        </p:blipFill>
        <p:spPr>
          <a:xfrm>
            <a:off x="0" y="0"/>
            <a:ext cx="701028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232600" y="685800"/>
            <a:ext cx="391140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Times New Roman"/>
                <a:ea typeface="隶书"/>
              </a:rPr>
              <a:t>中华名瀑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黄果树瀑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huangguo4" descr=""/>
          <p:cNvPicPr/>
          <p:nvPr/>
        </p:nvPicPr>
        <p:blipFill>
          <a:blip r:embed="rId1"/>
          <a:stretch/>
        </p:blipFill>
        <p:spPr>
          <a:xfrm>
            <a:off x="0" y="0"/>
            <a:ext cx="609588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4989240" y="762120"/>
            <a:ext cx="415476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Times New Roman"/>
                <a:ea typeface="隶书"/>
              </a:rPr>
              <a:t>中华名瀑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黄果树瀑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5598720" y="1066680"/>
            <a:ext cx="354528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Times New Roman"/>
                <a:ea typeface="隶书"/>
              </a:rPr>
              <a:t>中华名瀑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壶口瀑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户口" descr=""/>
          <p:cNvPicPr/>
          <p:nvPr/>
        </p:nvPicPr>
        <p:blipFill>
          <a:blip r:embed="rId1"/>
          <a:stretch/>
        </p:blipFill>
        <p:spPr>
          <a:xfrm>
            <a:off x="0" y="0"/>
            <a:ext cx="678168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989240" y="1143000"/>
            <a:ext cx="415476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Times New Roman"/>
                <a:ea typeface="隶书"/>
              </a:rPr>
              <a:t>中华名瀑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       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庐山三叠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三叠泉" descr=""/>
          <p:cNvPicPr/>
          <p:nvPr/>
        </p:nvPicPr>
        <p:blipFill>
          <a:blip r:embed="rId1"/>
          <a:stretch/>
        </p:blipFill>
        <p:spPr>
          <a:xfrm>
            <a:off x="32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珍珠谈" descr=""/>
          <p:cNvPicPr/>
          <p:nvPr/>
        </p:nvPicPr>
        <p:blipFill>
          <a:blip r:embed="rId1"/>
          <a:stretch/>
        </p:blipFill>
        <p:spPr>
          <a:xfrm>
            <a:off x="0" y="1531800"/>
            <a:ext cx="9144000" cy="53262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80880" y="0"/>
            <a:ext cx="7925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Times New Roman"/>
                <a:ea typeface="隶书"/>
              </a:rPr>
              <a:t>中华名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珍珠滩瀑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泥" descr=""/>
          <p:cNvPicPr/>
          <p:nvPr/>
        </p:nvPicPr>
        <p:blipFill>
          <a:blip r:embed="rId1"/>
          <a:stretch/>
        </p:blipFill>
        <p:spPr>
          <a:xfrm>
            <a:off x="0" y="0"/>
            <a:ext cx="579132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4411440" y="533520"/>
            <a:ext cx="41547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66cc"/>
                </a:solidFill>
                <a:latin typeface="Times New Roman"/>
                <a:ea typeface="隶书"/>
              </a:rPr>
              <a:t>世界名瀑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         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</a:rPr>
              <a:t>尼加拉瓜瀑布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尼" descr=""/>
          <p:cNvPicPr/>
          <p:nvPr/>
        </p:nvPicPr>
        <p:blipFill>
          <a:blip r:embed="rId1"/>
          <a:stretch/>
        </p:blipFill>
        <p:spPr>
          <a:xfrm>
            <a:off x="0" y="1752480"/>
            <a:ext cx="9144000" cy="51055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746360" y="0"/>
            <a:ext cx="5057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66cc"/>
                </a:solidFill>
                <a:latin typeface="Times New Roman"/>
                <a:ea typeface="隶书"/>
              </a:rPr>
              <a:t>世界名瀑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zh-CN" sz="3600" spc="-1" strike="noStrike">
                <a:solidFill>
                  <a:srgbClr val="006600"/>
                </a:solidFill>
                <a:latin typeface="Times New Roman"/>
              </a:rPr>
              <a:t>尼加拉瓜瀑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25T07:08:26Z</dcterms:created>
  <dc:creator>jinlizhi</dc:creator>
  <dc:description/>
  <dc:language>en-US</dc:language>
  <cp:lastModifiedBy>jinlizhi</cp:lastModifiedBy>
  <dcterms:modified xsi:type="dcterms:W3CDTF">2001-10-25T09:01:01Z</dcterms:modified>
  <cp:revision>7</cp:revision>
  <dc:subject/>
  <dc:title>PowerPoint 演示文稿</dc:title>
</cp:coreProperties>
</file>