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D94-923B-42D4-825F-E08EF0EC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20A-0586-4F9F-B6D8-58CCC0F6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980-2277-46E0-8F69-D97BCAB1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A88-6C5A-476A-BE02-2182E2A7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587D-C77D-413C-A7AD-0847C827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0D4F-9DA7-42B9-9C4A-9E171998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E5EB-3C5E-4B2D-A90D-24FF49C9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5279-B658-41DE-BFD6-39F84B3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0640-5AFD-4336-A89A-0AE7298D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5810-76BB-4B5A-9FBA-EE6624D0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BFC5-27C9-4D8C-B620-8F279D4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B6B0-AE4F-4C20-B242-DADD35E5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91D6-C02F-4F33-91CC-65424CB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DCF-022C-4CE4-8C53-E517B807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162E-2D82-4CCD-A022-57046B3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4569-6566-4C14-9C27-780CEE4B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A7D8-A01F-41EB-8C9A-E5BE96C7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84C4-673F-44CD-AF4D-4FAED63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85A-AD7E-4DE1-B8A6-BF9452CE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476-D6F1-41C2-9B26-D087A282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092-8E21-4EFE-9B4C-073E3E3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773-668B-4F7C-BDB1-10F2D1B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030-9F29-4297-B020-AE11C55B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B42-F7A3-40A0-81BC-8A0E0A7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D06-AE8A-4856-B8FD-7EC5F6607F71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A78F-71F8-4C2B-9696-7295BC2A9978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mzp1_1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146320" cy="3352680"/>
          </a:xfrm>
          <a:prstGeom prst="rect">
            <a:avLst/>
          </a:prstGeom>
          <a:ln w="0">
            <a:noFill/>
          </a:ln>
        </p:spPr>
      </p:pic>
      <p:pic>
        <p:nvPicPr>
          <p:cNvPr id="208" name="pmzp1_2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040200" cy="4114800"/>
          </a:xfrm>
          <a:prstGeom prst="rect">
            <a:avLst/>
          </a:prstGeom>
          <a:ln w="0">
            <a:noFill/>
          </a:ln>
        </p:spPr>
      </p:pic>
      <p:pic>
        <p:nvPicPr>
          <p:cNvPr id="209" name="pmzp1_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1797120" cy="327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52578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绿色北京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-2" descr=""/>
          <p:cNvPicPr/>
          <p:nvPr/>
        </p:nvPicPr>
        <p:blipFill>
          <a:blip r:embed="rId1"/>
          <a:stretch/>
        </p:blipFill>
        <p:spPr>
          <a:xfrm>
            <a:off x="1066680" y="1554120"/>
            <a:ext cx="6934320" cy="379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8108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马术、跑步、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838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3" descr=""/>
          <p:cNvPicPr/>
          <p:nvPr/>
        </p:nvPicPr>
        <p:blipFill>
          <a:blip r:embed="rId1"/>
          <a:stretch/>
        </p:blipFill>
        <p:spPr>
          <a:xfrm>
            <a:off x="1523880" y="1436760"/>
            <a:ext cx="5943600" cy="4091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71600" y="5715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垒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垒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2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752480" y="5562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游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英东游泳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10240" cy="353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676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马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京乡村赛马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2-1" descr=""/>
          <p:cNvPicPr/>
          <p:nvPr/>
        </p:nvPicPr>
        <p:blipFill>
          <a:blip r:embed="rId1"/>
          <a:stretch/>
        </p:blipFill>
        <p:spPr>
          <a:xfrm>
            <a:off x="1066680" y="1522440"/>
            <a:ext cx="7086600" cy="37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524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990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工人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zgA1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15080" cy="1965240"/>
          </a:xfrm>
          <a:prstGeom prst="rect">
            <a:avLst/>
          </a:prstGeom>
          <a:ln w="0">
            <a:noFill/>
          </a:ln>
        </p:spPr>
      </p:pic>
      <p:pic>
        <p:nvPicPr>
          <p:cNvPr id="330" name="zgA2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915080" cy="1943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165440" y="1143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3480" y="388620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平视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257800"/>
            <a:ext cx="5715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　　　比赛项目：体操（蹦床）、乒乓球、击剑、现代五项（击剑、射击）、摔跤、羽毛球、体操（艺术体操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6960" y="1752480"/>
            <a:ext cx="91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中国国际展览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2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263840" cy="2525760"/>
          </a:xfrm>
          <a:prstGeom prst="rect">
            <a:avLst/>
          </a:prstGeom>
          <a:ln w="0">
            <a:noFill/>
          </a:ln>
        </p:spPr>
      </p:pic>
      <p:pic>
        <p:nvPicPr>
          <p:cNvPr id="336" name="2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4915080" cy="3075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791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外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12200" y="4648320"/>
            <a:ext cx="91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内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田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410080" y="23623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80060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" descr=""/>
          <p:cNvPicPr/>
          <p:nvPr/>
        </p:nvPicPr>
        <p:blipFill>
          <a:blip r:embed="rId1"/>
          <a:stretch/>
        </p:blipFill>
        <p:spPr>
          <a:xfrm>
            <a:off x="1066680" y="1308240"/>
            <a:ext cx="6248520" cy="386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体操（体操）、手球（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91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324480" cy="430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9072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游泳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638680"/>
            <a:ext cx="944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游泳（游泳、跳水、花样游泳、水球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1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828800" y="571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曲棍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曲棍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windworks" descr=""/>
          <p:cNvPicPr/>
          <p:nvPr/>
        </p:nvPicPr>
        <p:blipFill>
          <a:blip r:embed="rId1"/>
          <a:stretch/>
        </p:blipFill>
        <p:spPr>
          <a:xfrm>
            <a:off x="4572000" y="558720"/>
            <a:ext cx="358128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sun%27power" descr=""/>
          <p:cNvPicPr/>
          <p:nvPr/>
        </p:nvPicPr>
        <p:blipFill>
          <a:blip r:embed="rId2"/>
          <a:stretch/>
        </p:blipFill>
        <p:spPr>
          <a:xfrm>
            <a:off x="3809880" y="3595680"/>
            <a:ext cx="3353040" cy="2529000"/>
          </a:xfrm>
          <a:prstGeom prst="rect">
            <a:avLst/>
          </a:prstGeom>
          <a:ln w="0">
            <a:noFill/>
          </a:ln>
        </p:spPr>
      </p:pic>
      <p:pic>
        <p:nvPicPr>
          <p:cNvPr id="213" name="fire-e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隶书"/>
              </a:rPr>
              <a:t>火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风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3000" y="36320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太阳能的利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20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705720" cy="3898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网球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网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52" descr=""/>
          <p:cNvPicPr/>
          <p:nvPr/>
        </p:nvPicPr>
        <p:blipFill>
          <a:blip r:embed="rId1"/>
          <a:stretch/>
        </p:blipFill>
        <p:spPr>
          <a:xfrm>
            <a:off x="2114640" y="1766880"/>
            <a:ext cx="4914720" cy="3325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914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黑体"/>
              </a:rPr>
              <a:t>奥林匹克水上运动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556272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比赛项目：赛艇、皮划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4" descr=""/>
          <p:cNvPicPr/>
          <p:nvPr/>
        </p:nvPicPr>
        <p:blipFill>
          <a:blip r:embed="rId1"/>
          <a:stretch/>
        </p:blipFill>
        <p:spPr>
          <a:xfrm>
            <a:off x="2114640" y="2320920"/>
            <a:ext cx="4914720" cy="2217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83808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Times New Roman"/>
                <a:ea typeface="华文新魏"/>
              </a:rPr>
              <a:t>首体院体育馆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0292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比赛项目：柔道、跆拳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qingdao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3322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66680" y="982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国际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qingdao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86400" cy="3571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10666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Kaoya_lt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4419720" cy="2740320"/>
          </a:xfrm>
          <a:prstGeom prst="rect">
            <a:avLst/>
          </a:prstGeom>
          <a:ln w="0">
            <a:noFill/>
          </a:ln>
        </p:spPr>
      </p:pic>
      <p:pic>
        <p:nvPicPr>
          <p:cNvPr id="366" name="Shuan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19360" cy="3202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14400" y="38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北京烤鸭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1523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北京风味菜肴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gg05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308320" cy="2936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1" name="gg11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gg08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gg01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005320" y="205740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  <a:ea typeface="隶书"/>
              </a:rPr>
              <a:t>绿色食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893960" y="1477800"/>
            <a:ext cx="5357880" cy="3902040"/>
            <a:chOff x="1893960" y="1477800"/>
            <a:chExt cx="5357880" cy="3902040"/>
          </a:xfrm>
        </p:grpSpPr>
        <p:sp>
          <p:nvSpPr>
            <p:cNvPr id="379" name=""/>
            <p:cNvSpPr/>
            <p:nvPr/>
          </p:nvSpPr>
          <p:spPr>
            <a:xfrm>
              <a:off x="1893960" y="1477800"/>
              <a:ext cx="535788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93960" y="1477800"/>
              <a:ext cx="470520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77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1" name="mingpintu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943600" cy="303048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1893960" y="1187280"/>
            <a:ext cx="5357880" cy="4483080"/>
            <a:chOff x="1893960" y="1187280"/>
            <a:chExt cx="5357880" cy="4483080"/>
          </a:xfrm>
        </p:grpSpPr>
        <p:sp>
          <p:nvSpPr>
            <p:cNvPr id="383" name=""/>
            <p:cNvSpPr/>
            <p:nvPr/>
          </p:nvSpPr>
          <p:spPr>
            <a:xfrm>
              <a:off x="1893960" y="1187280"/>
              <a:ext cx="53578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3960" y="1187280"/>
              <a:ext cx="47052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86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5" name="ghtu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4343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cademy Engraved LET"/>
                <a:ea typeface="华文彩云"/>
              </a:rPr>
              <a:t>购物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国家大剧院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-1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03212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1-2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103824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1-3" descr=""/>
          <p:cNvPicPr/>
          <p:nvPr/>
        </p:nvPicPr>
        <p:blipFill>
          <a:blip r:embed="rId3"/>
          <a:stretch/>
        </p:blipFill>
        <p:spPr>
          <a:xfrm>
            <a:off x="765000" y="914400"/>
            <a:ext cx="1086120" cy="1752480"/>
          </a:xfrm>
          <a:prstGeom prst="rect">
            <a:avLst/>
          </a:prstGeom>
          <a:ln w="0">
            <a:noFill/>
          </a:ln>
        </p:spPr>
      </p:pic>
      <p:pic>
        <p:nvPicPr>
          <p:cNvPr id="221" name="1-4" descr=""/>
          <p:cNvPicPr/>
          <p:nvPr/>
        </p:nvPicPr>
        <p:blipFill>
          <a:blip r:embed="rId4"/>
          <a:stretch/>
        </p:blipFill>
        <p:spPr>
          <a:xfrm>
            <a:off x="5867280" y="990720"/>
            <a:ext cx="944640" cy="1523880"/>
          </a:xfrm>
          <a:prstGeom prst="rect">
            <a:avLst/>
          </a:prstGeom>
          <a:ln w="0">
            <a:noFill/>
          </a:ln>
        </p:spPr>
      </p:pic>
      <p:pic>
        <p:nvPicPr>
          <p:cNvPr id="222" name="1-5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1-6" descr=""/>
          <p:cNvPicPr/>
          <p:nvPr/>
        </p:nvPicPr>
        <p:blipFill>
          <a:blip r:embed="rId6"/>
          <a:stretch/>
        </p:blipFill>
        <p:spPr>
          <a:xfrm>
            <a:off x="6019920" y="480060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1-7" descr=""/>
          <p:cNvPicPr/>
          <p:nvPr/>
        </p:nvPicPr>
        <p:blipFill>
          <a:blip r:embed="rId7"/>
          <a:stretch/>
        </p:blipFill>
        <p:spPr>
          <a:xfrm>
            <a:off x="4267080" y="480060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1-8" descr=""/>
          <p:cNvPicPr/>
          <p:nvPr/>
        </p:nvPicPr>
        <p:blipFill>
          <a:blip r:embed="rId8"/>
          <a:stretch/>
        </p:blipFill>
        <p:spPr>
          <a:xfrm>
            <a:off x="4191120" y="28954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1-9" descr=""/>
          <p:cNvPicPr/>
          <p:nvPr/>
        </p:nvPicPr>
        <p:blipFill>
          <a:blip r:embed="rId9"/>
          <a:stretch/>
        </p:blipFill>
        <p:spPr>
          <a:xfrm>
            <a:off x="2590920" y="4876920"/>
            <a:ext cx="8413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1-10" descr=""/>
          <p:cNvPicPr/>
          <p:nvPr/>
        </p:nvPicPr>
        <p:blipFill>
          <a:blip r:embed="rId10"/>
          <a:stretch/>
        </p:blipFill>
        <p:spPr>
          <a:xfrm>
            <a:off x="990720" y="4800600"/>
            <a:ext cx="80964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2-1" descr=""/>
          <p:cNvPicPr/>
          <p:nvPr/>
        </p:nvPicPr>
        <p:blipFill>
          <a:blip r:embed="rId11"/>
          <a:stretch/>
        </p:blipFill>
        <p:spPr>
          <a:xfrm>
            <a:off x="762120" y="2895480"/>
            <a:ext cx="1057320" cy="1676520"/>
          </a:xfrm>
          <a:prstGeom prst="rect">
            <a:avLst/>
          </a:prstGeom>
          <a:ln w="0">
            <a:noFill/>
          </a:ln>
        </p:spPr>
      </p:pic>
      <p:pic>
        <p:nvPicPr>
          <p:cNvPr id="229" name="2-2" descr=""/>
          <p:cNvPicPr/>
          <p:nvPr/>
        </p:nvPicPr>
        <p:blipFill>
          <a:blip r:embed="rId12"/>
          <a:stretch/>
        </p:blipFill>
        <p:spPr>
          <a:xfrm>
            <a:off x="2438280" y="2895480"/>
            <a:ext cx="1049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4241880" y="2852640"/>
            <a:ext cx="507960" cy="360"/>
            <a:chOff x="4241880" y="2852640"/>
            <a:chExt cx="507960" cy="360"/>
          </a:xfrm>
        </p:grpSpPr>
        <p:sp>
          <p:nvSpPr>
            <p:cNvPr id="231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鞠义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磐河战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董卓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连环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吕布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凤仪亭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典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濮阳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粉白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雉尾小生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用于武夫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奸臣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有勇无谋，骄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气宇轩昂之猛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豹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打曹豹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纪灵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辕门射戟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操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许褚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大白粉块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红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粉白脸细眉长目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心有红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见武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间勾反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黄额光套红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雷叙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胡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文丑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诛文丑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颜良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白马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武丑十字门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色歪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额部造型生动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下巴有满点髭茬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线条复杂，巧妙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斜蝠纹由鼻贯顶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495680" y="2852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5160" y="914400"/>
            <a:ext cx="549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8120" y="182880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京剧脸谱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xwzx_asgh_03_06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5880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288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xwzx_asgh_03_10" descr=""/>
          <p:cNvPicPr/>
          <p:nvPr/>
        </p:nvPicPr>
        <p:blipFill>
          <a:blip r:embed="rId1"/>
          <a:stretch/>
        </p:blipFill>
        <p:spPr>
          <a:xfrm>
            <a:off x="228600" y="-457200"/>
            <a:ext cx="8610480" cy="5937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2880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xwzx_asgh_02_06" descr=""/>
          <p:cNvPicPr/>
          <p:nvPr/>
        </p:nvPicPr>
        <p:blipFill>
          <a:blip r:embed="rId1"/>
          <a:stretch/>
        </p:blipFill>
        <p:spPr>
          <a:xfrm>
            <a:off x="1828800" y="434880"/>
            <a:ext cx="5486400" cy="5989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4600" y="6094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体育场馆分布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xwzx_asgh_04_06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4618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54100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运村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09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2860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航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02:53:11Z</dcterms:created>
  <dc:creator>chenfei</dc:creator>
  <dc:description/>
  <dc:language>en-US</dc:language>
  <cp:lastModifiedBy>chenfei</cp:lastModifiedBy>
  <dcterms:modified xsi:type="dcterms:W3CDTF">2001-12-30T14:29:30Z</dcterms:modified>
  <cp:revision>30</cp:revision>
  <dc:subject/>
  <dc:title>PowerPoint 演示文稿</dc:title>
</cp:coreProperties>
</file>