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904-5542-48B0-89AE-ECFADB6A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BD6-0C5F-4EC4-94AA-C4EE1503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2C9-E481-49AD-BE85-23B5BE93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D67-3879-4F0F-B369-78353C0C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342-27A5-40DF-B71A-A05F97D2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CEA-229B-481F-ACF7-162D31C7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A4E-BD79-404F-8214-16B82EC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3AB-0A87-411C-B06C-DF398325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9AF-5482-4C0E-A47C-F60FBF42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A07-F042-4B8A-9219-8650903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136-F1A0-4A1F-A1DA-5DF63293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C2E-47BB-45DF-AB70-7E50C8D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1496-A456-4310-97B9-8C637D9E4F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9144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黑体"/>
              </a:rPr>
              <a:t>瀑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2743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水从峭壁上流下来，远远望去，好象是一匹白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瀑布" descr=""/>
          <p:cNvPicPr/>
          <p:nvPr/>
        </p:nvPicPr>
        <p:blipFill>
          <a:blip r:embed="rId1"/>
          <a:stretch/>
        </p:blipFill>
        <p:spPr>
          <a:xfrm>
            <a:off x="0" y="0"/>
            <a:ext cx="5800680" cy="157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914400"/>
            <a:ext cx="329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J1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hgsyj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32600" y="685800"/>
            <a:ext cx="3911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黄果树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huangguo4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89240" y="762120"/>
            <a:ext cx="41547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黄果树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598720" y="1066680"/>
            <a:ext cx="3545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壶口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户口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989240" y="1143000"/>
            <a:ext cx="4154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庐山三叠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三叠泉" descr=""/>
          <p:cNvPicPr/>
          <p:nvPr/>
        </p:nvPicPr>
        <p:blipFill>
          <a:blip r:embed="rId1"/>
          <a:stretch/>
        </p:blipFill>
        <p:spPr>
          <a:xfrm>
            <a:off x="32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珍珠谈" descr=""/>
          <p:cNvPicPr/>
          <p:nvPr/>
        </p:nvPicPr>
        <p:blipFill>
          <a:blip r:embed="rId1"/>
          <a:stretch/>
        </p:blipFill>
        <p:spPr>
          <a:xfrm>
            <a:off x="0" y="1531800"/>
            <a:ext cx="9144000" cy="532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珍珠滩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泥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1440" y="533520"/>
            <a:ext cx="41547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cc"/>
                </a:solidFill>
                <a:latin typeface="Times New Roman"/>
                <a:ea typeface="隶书"/>
              </a:rPr>
              <a:t>世界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尼加拉瓜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尼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46360" y="0"/>
            <a:ext cx="505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cc"/>
                </a:solidFill>
                <a:latin typeface="Times New Roman"/>
                <a:ea typeface="隶书"/>
              </a:rPr>
              <a:t>世界名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尼加拉瓜瀑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7:08:26Z</dcterms:created>
  <dc:creator>jinlizhi</dc:creator>
  <dc:description/>
  <dc:language>en-US</dc:language>
  <cp:lastModifiedBy>jinlizhi</cp:lastModifiedBy>
  <dcterms:modified xsi:type="dcterms:W3CDTF">2001-10-25T09:01:01Z</dcterms:modified>
  <cp:revision>7</cp:revision>
  <dc:subject/>
  <dc:title>PowerPoint 演示文稿</dc:title>
</cp:coreProperties>
</file>