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6E2-18E0-4051-BDA0-3856009C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4AA-4EF7-4E9B-86B8-01E789A9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CAA-B7C1-4887-A2FC-FB5BE4FC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992-67C9-400A-B87E-1575BE89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40B-5A6C-43C5-9FCB-F71FEA03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AF6-2B4B-4695-A1CE-417656D2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0AB-3A2C-4DD9-9B8E-AB469694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77A-B31A-4FE9-AE97-263C91D2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951-32DA-405A-AF5D-29F6611D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C88-0F7C-4DDD-8074-8726F23F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E3E-320A-4EB9-AA25-19AA89C0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CD6-95DD-4C3C-9566-796B4D03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DF4E-A176-475C-89F2-4B6821E4A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1828800"/>
            <a:ext cx="3886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蔬菜</a:t>
            </a:r>
            <a:endParaRPr b="0" lang="en-US" sz="2400" spc="1" strike="noStrike">
              <a:ln w="19080">
                <a:solidFill>
                  <a:srgbClr val="99cc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876920" y="53341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设计者  ：苏静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895840" cy="1778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45" name="s4" descr=""/>
          <p:cNvPicPr/>
          <p:nvPr/>
        </p:nvPicPr>
        <p:blipFill>
          <a:blip r:embed="rId3"/>
          <a:stretch/>
        </p:blipFill>
        <p:spPr>
          <a:xfrm>
            <a:off x="6019920" y="457200"/>
            <a:ext cx="2361960" cy="1643040"/>
          </a:xfrm>
          <a:prstGeom prst="rect">
            <a:avLst/>
          </a:prstGeom>
          <a:ln w="0">
            <a:noFill/>
          </a:ln>
        </p:spPr>
      </p:pic>
      <p:pic>
        <p:nvPicPr>
          <p:cNvPr id="46" name="s5" descr=""/>
          <p:cNvPicPr/>
          <p:nvPr/>
        </p:nvPicPr>
        <p:blipFill>
          <a:blip r:embed="rId4"/>
          <a:stretch/>
        </p:blipFill>
        <p:spPr>
          <a:xfrm>
            <a:off x="1143000" y="3530520"/>
            <a:ext cx="2971800" cy="2413080"/>
          </a:xfrm>
          <a:prstGeom prst="rect">
            <a:avLst/>
          </a:prstGeom>
          <a:ln w="0">
            <a:noFill/>
          </a:ln>
        </p:spPr>
      </p:pic>
      <p:pic>
        <p:nvPicPr>
          <p:cNvPr id="47" name="s6" descr=""/>
          <p:cNvPicPr/>
          <p:nvPr/>
        </p:nvPicPr>
        <p:blipFill>
          <a:blip r:embed="rId5"/>
          <a:stretch/>
        </p:blipFill>
        <p:spPr>
          <a:xfrm>
            <a:off x="4800600" y="4038480"/>
            <a:ext cx="3263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438640" cy="149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133720" cy="1419120"/>
          </a:xfrm>
          <a:prstGeom prst="rect">
            <a:avLst/>
          </a:prstGeom>
          <a:ln w="0">
            <a:noFill/>
          </a:ln>
        </p:spPr>
      </p:pic>
      <p:pic>
        <p:nvPicPr>
          <p:cNvPr id="50" name="s4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190476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s5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19494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s6" descr=""/>
          <p:cNvPicPr/>
          <p:nvPr/>
        </p:nvPicPr>
        <p:blipFill>
          <a:blip r:embed="rId5"/>
          <a:stretch/>
        </p:blipFill>
        <p:spPr>
          <a:xfrm>
            <a:off x="5257800" y="2514600"/>
            <a:ext cx="2514600" cy="1171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962520"/>
            <a:ext cx="792504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萝卜、莴笋、白菜、黄花菜、扁豆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蔬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962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萝卜、莴笋、白菜、黄花菜、扁豆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都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蔬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蔬菜，有的吃根，有的吃茎，有的吃叶子，有的吃花，还有的吃果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5720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蔬菜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根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茎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叶子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花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还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果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9907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家菜园里种了许多菜，有的发芽了，有的长叶了，还有的开花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课后，同学们在操场上，有的（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的（ ），还有的（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2666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08:27:55Z</dcterms:created>
  <dc:creator>4</dc:creator>
  <dc:description/>
  <dc:language>en-US</dc:language>
  <cp:lastModifiedBy>4</cp:lastModifiedBy>
  <dcterms:modified xsi:type="dcterms:W3CDTF">2000-06-19T10:00:20Z</dcterms:modified>
  <cp:revision>12</cp:revision>
  <dc:subject/>
  <dc:title>没有幻灯片标题</dc:title>
</cp:coreProperties>
</file>