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6.gif" ContentType="image/gif"/>
  <Override PartName="/ppt/media/image7.gif" ContentType="image/gif"/>
  <Override PartName="/ppt/media/image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547F-5EC6-4732-9601-FF1E0AE646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D26-22C1-40BE-A16A-48C7F5B8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5BC-3559-45D0-B1CF-623D20CB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C90-97CB-4119-8FD6-CE1DA6A0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1D8-0B12-4377-BFB8-164A0ABE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54A-E4F1-41F1-9675-0D01C6B9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DC9-9FFC-435D-A17C-8C8A7D5D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552-65D6-48F8-8DBE-8D4539B1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FEB-70A4-4580-BA0D-71F11A01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12C-7D10-4DF3-AAAA-FD72EE08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A68-65F6-487B-92FD-78486ACA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32B-D20B-4312-A994-356C19E9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3AC-AB47-4D07-9650-BBE9A2CE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FED1-0AEC-4AAD-BE14-51F26BA560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师范大学出版社小学语文二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429000"/>
            <a:ext cx="7056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手捧空花盆的孩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1674720"/>
            <a:ext cx="7993080" cy="518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国王用什么办法来挑选未来的国王？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9640" y="549360"/>
            <a:ext cx="8209080" cy="10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国王给每个孩子发了一粒花籽，让他们种在自己的花盆里。三个月后，国王将根据种花的成绩来挑选未来的国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两种种花的情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第一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孩子们一齐来到国王面前，他们一个个都捧着一盆花，有红的，有黄的，有白的，都很美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042920" y="1341360"/>
            <a:ext cx="7129440" cy="23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孩子们可能会想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0" y="2565360"/>
            <a:ext cx="35593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？？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167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三个月过去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孩子们一齐来到国王面前，他们一个个都捧着一盆花，有红的，有黄的，有白的，都很美丽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两种种花的情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第二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国王走过去，问他：“孩子，你怎么捧着个空花盆呀？”孩子哭起来了，说：“我把花籽种在花盆里，每天用心浇水，可是花籽怎么也不发芽。我――我只好捧着空花盆来了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71640" y="333360"/>
            <a:ext cx="2520720" cy="1224000"/>
          </a:xfrm>
          <a:prstGeom prst="ellipse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国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628640"/>
            <a:ext cx="6840360" cy="1729080"/>
          </a:xfrm>
          <a:prstGeom prst="cloudCallout">
            <a:avLst>
              <a:gd name="adj1" fmla="val 33152"/>
              <a:gd name="adj2" fmla="val 53763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皱起了眉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2708280"/>
            <a:ext cx="647640" cy="1512720"/>
          </a:xfrm>
          <a:custGeom>
            <a:avLst/>
            <a:gdLst>
              <a:gd name="textAreaLeft" fmla="*/ 86760 w 647640"/>
              <a:gd name="textAreaRight" fmla="*/ 560880 w 64764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508640"/>
            <a:ext cx="8893080" cy="1512720"/>
          </a:xfrm>
          <a:prstGeom prst="cloudCallout">
            <a:avLst>
              <a:gd name="adj1" fmla="val 17976"/>
              <a:gd name="adj2" fmla="val -73925"/>
            </a:avLst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听了高兴地笑起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765000"/>
            <a:ext cx="863640" cy="1225800"/>
          </a:xfrm>
          <a:custGeom>
            <a:avLst/>
            <a:gdLst>
              <a:gd name="textAreaLeft" fmla="*/ 115560 w 863640"/>
              <a:gd name="textAreaRight" fmla="*/ 748080 w 863640"/>
              <a:gd name="textAreaTop" fmla="*/ 217440 h 1225800"/>
              <a:gd name="textAreaBottom" fmla="*/ 770400 h 122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69" stAng="-5400000" swAng="5400000"/>
                <a:lnTo>
                  <a:pt x="21600" y="9741"/>
                </a:lnTo>
                <a:arcTo wR="21600" hR="7669" stAng="0" swAng="2808822"/>
                <a:lnTo>
                  <a:pt x="6829" y="21207"/>
                </a:lnTo>
                <a:lnTo>
                  <a:pt x="0" y="16374"/>
                </a:lnTo>
                <a:lnTo>
                  <a:pt x="6829" y="10755"/>
                </a:lnTo>
                <a:lnTo>
                  <a:pt x="6829" y="14945"/>
                </a:lnTo>
                <a:arcTo wR="21600" hR="7669" stAng="2808822" swAng="-2642542"/>
                <a:lnTo>
                  <a:pt x="21402" y="8705"/>
                </a:lnTo>
                <a:arcTo wR="21600" hR="7669" stAng="-166280" swAng="-5233720"/>
                <a:close/>
              </a:path>
              <a:path fill="darkenLess" w="21600" h="21600">
                <a:moveTo>
                  <a:pt x="0" y="0"/>
                </a:moveTo>
                <a:arcTo wR="21600" hR="7669" stAng="-5400000" swAng="5400000"/>
                <a:lnTo>
                  <a:pt x="21600" y="9741"/>
                </a:lnTo>
                <a:arcTo wR="21600" hR="7669" stAng="0" swAng="-166280"/>
                <a:lnTo>
                  <a:pt x="21402" y="8705"/>
                </a:lnTo>
                <a:arcTo wR="21600" hR="7669" stAng="-166280" swAng="-5233720"/>
                <a:close/>
              </a:path>
            </a:pathLst>
          </a:cu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可是，国王看着这些孩子，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却皱起了眉头，一句话也不说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边走边看，忽然看见一个孩子手里捧着一个空花盆，低头站在那里，显得很伤心。国王走过去，问他：“孩子，你怎么捧着个空花盆呀？”孩子哭起来了，说：“我把花籽种在花盆里，每天用心浇水，可是花籽怎么也不发芽。我――我只好捧着空花盆来了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国王听了，高兴地笑起来。他说：“找到了！找到了！我就是要找一个诚实的孩子做国王，这个孩子就是你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43520" cy="4753080"/>
          </a:xfrm>
          <a:prstGeom prst="rect">
            <a:avLst/>
          </a:prstGeom>
          <a:gradFill rotWithShape="0">
            <a:gsLst>
              <a:gs pos="0">
                <a:srgbClr val="55261c"/>
              </a:gs>
              <a:gs pos="50000">
                <a:srgbClr val="dcebf5"/>
              </a:gs>
              <a:gs pos="100000">
                <a:srgbClr val="55261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捧鲜花的孩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不诚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1699920"/>
            <a:ext cx="4032360" cy="4753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捧空花盆的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诚实守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品德高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1204200" y="2835360"/>
            <a:ext cx="2305080" cy="1476360"/>
          </a:xfrm>
          <a:custGeom>
            <a:avLst/>
            <a:gdLst>
              <a:gd name="textAreaLeft" fmla="*/ 360000 w 2305080"/>
              <a:gd name="textAreaRight" fmla="*/ 2134080 w 2305080"/>
              <a:gd name="textAreaTop" fmla="*/ 536400 h 1476360"/>
              <a:gd name="textAreaBottom" fmla="*/ 939960 h 1476360"/>
            </a:gdLst>
            <a:ahLst/>
            <a:rect l="textAreaLeft" t="textAreaTop" r="textAreaRight" b="textAreaBottom"/>
            <a:pathLst>
              <a:path w="21600" h="21600">
                <a:moveTo>
                  <a:pt x="3375" y="7850"/>
                </a:moveTo>
                <a:lnTo>
                  <a:pt x="15723" y="7850"/>
                </a:lnTo>
                <a:lnTo>
                  <a:pt x="15723" y="0"/>
                </a:lnTo>
                <a:lnTo>
                  <a:pt x="21600" y="10800"/>
                </a:lnTo>
                <a:lnTo>
                  <a:pt x="15723" y="21600"/>
                </a:lnTo>
                <a:lnTo>
                  <a:pt x="15723" y="13750"/>
                </a:lnTo>
                <a:lnTo>
                  <a:pt x="3375" y="13750"/>
                </a:lnTo>
                <a:close/>
              </a:path>
              <a:path w="21600" h="21600">
                <a:moveTo>
                  <a:pt x="0" y="7850"/>
                </a:moveTo>
                <a:lnTo>
                  <a:pt x="675" y="7850"/>
                </a:lnTo>
                <a:lnTo>
                  <a:pt x="675" y="13750"/>
                </a:lnTo>
                <a:lnTo>
                  <a:pt x="0" y="13750"/>
                </a:lnTo>
                <a:close/>
              </a:path>
              <a:path w="21600" h="21600">
                <a:moveTo>
                  <a:pt x="1350" y="7850"/>
                </a:moveTo>
                <a:lnTo>
                  <a:pt x="2700" y="7850"/>
                </a:lnTo>
                <a:lnTo>
                  <a:pt x="2700" y="13750"/>
                </a:lnTo>
                <a:lnTo>
                  <a:pt x="1350" y="1375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5255280" y="2529720"/>
            <a:ext cx="1873440" cy="1512720"/>
          </a:xfrm>
          <a:custGeom>
            <a:avLst/>
            <a:gdLst>
              <a:gd name="textAreaLeft" fmla="*/ 292680 w 1873440"/>
              <a:gd name="textAreaRight" fmla="*/ 1741680 w 1873440"/>
              <a:gd name="textAreaTop" fmla="*/ 542880 h 1512720"/>
              <a:gd name="textAreaBottom" fmla="*/ 969840 h 1512720"/>
            </a:gdLst>
            <a:ahLst/>
            <a:rect l="textAreaLeft" t="textAreaTop" r="textAreaRight" b="textAreaBottom"/>
            <a:pathLst>
              <a:path w="21600" h="21600">
                <a:moveTo>
                  <a:pt x="3375" y="7751"/>
                </a:moveTo>
                <a:lnTo>
                  <a:pt x="16218" y="7751"/>
                </a:lnTo>
                <a:lnTo>
                  <a:pt x="16218" y="0"/>
                </a:lnTo>
                <a:lnTo>
                  <a:pt x="21600" y="10800"/>
                </a:lnTo>
                <a:lnTo>
                  <a:pt x="16218" y="21600"/>
                </a:lnTo>
                <a:lnTo>
                  <a:pt x="16218" y="13849"/>
                </a:lnTo>
                <a:lnTo>
                  <a:pt x="3375" y="13849"/>
                </a:lnTo>
                <a:close/>
              </a:path>
              <a:path w="21600" h="21600">
                <a:moveTo>
                  <a:pt x="0" y="7751"/>
                </a:moveTo>
                <a:lnTo>
                  <a:pt x="675" y="7751"/>
                </a:lnTo>
                <a:lnTo>
                  <a:pt x="675" y="13849"/>
                </a:lnTo>
                <a:lnTo>
                  <a:pt x="0" y="13849"/>
                </a:lnTo>
                <a:close/>
              </a:path>
              <a:path w="21600" h="21600">
                <a:moveTo>
                  <a:pt x="1350" y="7751"/>
                </a:moveTo>
                <a:lnTo>
                  <a:pt x="2700" y="7751"/>
                </a:lnTo>
                <a:lnTo>
                  <a:pt x="2700" y="13849"/>
                </a:lnTo>
                <a:lnTo>
                  <a:pt x="1350" y="1384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1727280" cy="177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655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89000"/>
            <a:ext cx="8713800" cy="6480000"/>
          </a:xfrm>
          <a:prstGeom prst="rect">
            <a:avLst/>
          </a:prstGeom>
          <a:noFill/>
          <a:ln w="7632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848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1052640"/>
            <a:ext cx="8136000" cy="1191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原来，国王发给孩子们的花籽是煮过的，怎么可能发芽、开花呢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51272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611280" y="1916280"/>
            <a:ext cx="813744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在你的生活中，你认为谁是诚实的人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flipH="1">
            <a:off x="5867280" y="4581360"/>
            <a:ext cx="2619360" cy="20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Arial"/>
                <a:ea typeface="隶书"/>
              </a:rPr>
              <a:t>请你说一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踢球时，我打碎了邻居家的玻璃，没人看见，我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　　　　　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659640" y="4005360"/>
            <a:ext cx="1293840" cy="180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900000" y="1989000"/>
            <a:ext cx="712944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 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再见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4869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手捧空花盆的孩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请你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挑选　　聚集　　花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根据　　成绩　　手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显得　　浇水　　煮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孩子　　诚实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皱起了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41128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看谁读得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6868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孩　　挑　　选　　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浇　　诚　　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232000" cy="237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2333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看谁读得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     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实      显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232000" cy="237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2333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看谁读得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16000" y="2781000"/>
            <a:ext cx="3754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232000" cy="237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2333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2286000"/>
          <a:ext cx="43135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43135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80880" y="2133720"/>
            <a:ext cx="41911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挑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0" y="2286000"/>
          <a:ext cx="431316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86000"/>
                    <a:ext cx="43131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724280" y="2362320"/>
            <a:ext cx="41911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选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5120" y="4046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我会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2133720"/>
            <a:ext cx="3024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3300"/>
                </a:solidFill>
                <a:latin typeface="Arial"/>
                <a:ea typeface="楷体_GB2312"/>
              </a:rPr>
              <a:t>扌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2349360"/>
            <a:ext cx="4176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3300"/>
                </a:solidFill>
                <a:latin typeface="Arial"/>
                <a:ea typeface="楷体_GB2312"/>
              </a:rPr>
              <a:t>辶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748720" cy="5256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从前有个国王，年纪很老了。他想他挑选一个孩子当未来的国王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7T14:07:42Z</dcterms:created>
  <dc:creator>zhang</dc:creator>
  <dc:description/>
  <dc:language>en-US</dc:language>
  <cp:lastModifiedBy>hexj</cp:lastModifiedBy>
  <dcterms:modified xsi:type="dcterms:W3CDTF">2005-12-19T07:59:23Z</dcterms:modified>
  <cp:revision>16</cp:revision>
  <dc:subject/>
  <dc:title>北京市师范大学出版社小学语文二年级上册</dc:title>
</cp:coreProperties>
</file>