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8.gif" ContentType="image/gif"/>
  <Override PartName="/ppt/media/image6.gif" ContentType="image/gif"/>
  <Override PartName="/ppt/media/image7.gif" ContentType="image/gif"/>
  <Override PartName="/ppt/media/image9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9CC69-B0FD-4D3A-A88D-8752D3C491A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16E3-7915-4523-985B-67C51DD55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9278-B6B7-4BE4-A8AB-EB9CB0FF4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773C-050B-424C-B192-59DE4471A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D26D-8F83-430D-A150-29E22E181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D93F-51C0-46B5-A091-C3F90591A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2FA1-EC65-4C01-8D8E-02065FB1A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EE2E-79B5-4AFB-8234-6A47992EE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C350-51A8-49B0-AFED-336CFA746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17EE-1FBB-4866-A2C6-3F7B29CF0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61F6-A6FE-49D8-BB28-E2144F49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E5B5-9C58-4702-8A78-7875D514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49EF-2763-4C3F-BAEC-28670DA9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48D22-3906-460B-ADD0-6DA15A1FE7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3534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北京师范大学出版社小学语文二年级上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87280" y="3429000"/>
            <a:ext cx="7056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Arial"/>
                <a:ea typeface="楷体_GB2312"/>
              </a:rPr>
              <a:t>手捧空花盆的孩子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569080" cy="62643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9640" y="1674720"/>
            <a:ext cx="7993080" cy="518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 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国王用什么办法来挑选未来的国王？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39640" y="549360"/>
            <a:ext cx="8209080" cy="10083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国王给每个孩子发了一粒花籽，让他们种在自己的花盆里。三个月后，国王将根据种花的成绩来挑选未来的国王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隶书"/>
              </a:rPr>
              <a:t>两种种花的情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第一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楷体_GB2312"/>
              </a:rPr>
              <a:t>孩子们一齐来到国王面前，他们一个个都捧着一盆花，有红的，有黄的，有白的，都很美丽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1042920" y="1341360"/>
            <a:ext cx="7129440" cy="235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 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孩子们可能会想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0" y="2565360"/>
            <a:ext cx="355932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？？？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61672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楷体_GB2312"/>
              </a:rPr>
              <a:t>三个月过去了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楷体_GB2312"/>
              </a:rPr>
              <a:t>孩子们一齐来到国王面前，他们一个个都捧着一盆花，有红的，有黄的，有白的，都很美丽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楷体_GB2312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隶书"/>
              </a:rPr>
              <a:t>两种种花的情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第二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国王走过去，问他：“孩子，你怎么捧着个空花盆呀？”孩子哭起来了，说：“我把花籽种在花盆里，每天用心浇水，可是花籽怎么也不发芽。我――我只好捧着空花盆来了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971640" y="333360"/>
            <a:ext cx="2520720" cy="1224000"/>
          </a:xfrm>
          <a:prstGeom prst="ellipse">
            <a:avLst/>
          </a:prstGeom>
          <a:noFill/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黑体"/>
              </a:rPr>
              <a:t>国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1628640"/>
            <a:ext cx="6840360" cy="1729080"/>
          </a:xfrm>
          <a:prstGeom prst="cloudCallout">
            <a:avLst>
              <a:gd name="adj1" fmla="val 33152"/>
              <a:gd name="adj2" fmla="val 53763"/>
            </a:avLst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皱起了眉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6720" y="2708280"/>
            <a:ext cx="647640" cy="1512720"/>
          </a:xfrm>
          <a:custGeom>
            <a:avLst/>
            <a:gdLst>
              <a:gd name="textAreaLeft" fmla="*/ 86760 w 647640"/>
              <a:gd name="textAreaRight" fmla="*/ 560880 w 647640"/>
              <a:gd name="textAreaTop" fmla="*/ 264600 h 1512720"/>
              <a:gd name="textAreaBottom" fmla="*/ 109692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0920" y="4508640"/>
            <a:ext cx="8893080" cy="1512720"/>
          </a:xfrm>
          <a:prstGeom prst="cloudCallout">
            <a:avLst>
              <a:gd name="adj1" fmla="val 17976"/>
              <a:gd name="adj2" fmla="val -73925"/>
            </a:avLst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听了高兴地笑起来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92360" y="765000"/>
            <a:ext cx="863640" cy="1225800"/>
          </a:xfrm>
          <a:custGeom>
            <a:avLst/>
            <a:gdLst>
              <a:gd name="textAreaLeft" fmla="*/ 115560 w 863640"/>
              <a:gd name="textAreaRight" fmla="*/ 748080 w 863640"/>
              <a:gd name="textAreaTop" fmla="*/ 217440 h 1225800"/>
              <a:gd name="textAreaBottom" fmla="*/ 770400 h 122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669" stAng="-5400000" swAng="5400000"/>
                <a:lnTo>
                  <a:pt x="21600" y="9741"/>
                </a:lnTo>
                <a:arcTo wR="21600" hR="7669" stAng="0" swAng="2808822"/>
                <a:lnTo>
                  <a:pt x="6829" y="21207"/>
                </a:lnTo>
                <a:lnTo>
                  <a:pt x="0" y="16374"/>
                </a:lnTo>
                <a:lnTo>
                  <a:pt x="6829" y="10755"/>
                </a:lnTo>
                <a:lnTo>
                  <a:pt x="6829" y="14945"/>
                </a:lnTo>
                <a:arcTo wR="21600" hR="7669" stAng="2808822" swAng="-2642542"/>
                <a:lnTo>
                  <a:pt x="21402" y="8705"/>
                </a:lnTo>
                <a:arcTo wR="21600" hR="7669" stAng="-166280" swAng="-5233720"/>
                <a:close/>
              </a:path>
              <a:path fill="darkenLess" w="21600" h="21600">
                <a:moveTo>
                  <a:pt x="0" y="0"/>
                </a:moveTo>
                <a:arcTo wR="21600" hR="7669" stAng="-5400000" swAng="5400000"/>
                <a:lnTo>
                  <a:pt x="21600" y="9741"/>
                </a:lnTo>
                <a:arcTo wR="21600" hR="7669" stAng="0" swAng="-166280"/>
                <a:lnTo>
                  <a:pt x="21402" y="8705"/>
                </a:lnTo>
                <a:arcTo wR="21600" hR="7669" stAng="-166280" swAng="-5233720"/>
                <a:close/>
              </a:path>
            </a:pathLst>
          </a:custGeom>
          <a:solidFill>
            <a:srgbClr val="bbe0e3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561636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可是，国王看着这些孩子，</a:t>
            </a:r>
            <a:r>
              <a:rPr b="1" lang="zh-CN" sz="40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却皱起了眉头，一句话也不说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他边走边看，忽然看见一个孩子手里捧着一个空花盆，低头站在那里，显得很伤心。国王走过去，问他：“孩子，你怎么捧着个空花盆呀？”孩子哭起来了，说：“我把花籽种在花盆里，每天用心浇水，可是花籽怎么也不发芽。我――我只好捧着空花盆来了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561636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国王听了，高兴地笑起来。他说：“找到了！找到了！我就是要找一个诚实的孩子做国王，这个孩子就是你！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4043520" cy="4753080"/>
          </a:xfrm>
          <a:prstGeom prst="rect">
            <a:avLst/>
          </a:prstGeom>
          <a:gradFill rotWithShape="0">
            <a:gsLst>
              <a:gs pos="0">
                <a:srgbClr val="55261c"/>
              </a:gs>
              <a:gs pos="50000">
                <a:srgbClr val="dcebf5"/>
              </a:gs>
              <a:gs pos="100000">
                <a:srgbClr val="55261c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捧鲜花的孩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不诚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2920" y="1699920"/>
            <a:ext cx="4032360" cy="475308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50000">
                <a:srgbClr val="156b13"/>
              </a:gs>
              <a:gs pos="100000">
                <a:srgbClr val="ddebcf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捧空花盆的孩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诚实守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品德高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1204200" y="2835360"/>
            <a:ext cx="2305080" cy="1476360"/>
          </a:xfrm>
          <a:custGeom>
            <a:avLst/>
            <a:gdLst>
              <a:gd name="textAreaLeft" fmla="*/ 360000 w 2305080"/>
              <a:gd name="textAreaRight" fmla="*/ 2134080 w 2305080"/>
              <a:gd name="textAreaTop" fmla="*/ 536400 h 1476360"/>
              <a:gd name="textAreaBottom" fmla="*/ 939960 h 1476360"/>
            </a:gdLst>
            <a:ahLst/>
            <a:rect l="textAreaLeft" t="textAreaTop" r="textAreaRight" b="textAreaBottom"/>
            <a:pathLst>
              <a:path w="21600" h="21600">
                <a:moveTo>
                  <a:pt x="3375" y="7850"/>
                </a:moveTo>
                <a:lnTo>
                  <a:pt x="15723" y="7850"/>
                </a:lnTo>
                <a:lnTo>
                  <a:pt x="15723" y="0"/>
                </a:lnTo>
                <a:lnTo>
                  <a:pt x="21600" y="10800"/>
                </a:lnTo>
                <a:lnTo>
                  <a:pt x="15723" y="21600"/>
                </a:lnTo>
                <a:lnTo>
                  <a:pt x="15723" y="13750"/>
                </a:lnTo>
                <a:lnTo>
                  <a:pt x="3375" y="13750"/>
                </a:lnTo>
                <a:close/>
              </a:path>
              <a:path w="21600" h="21600">
                <a:moveTo>
                  <a:pt x="0" y="7850"/>
                </a:moveTo>
                <a:lnTo>
                  <a:pt x="675" y="7850"/>
                </a:lnTo>
                <a:lnTo>
                  <a:pt x="675" y="13750"/>
                </a:lnTo>
                <a:lnTo>
                  <a:pt x="0" y="13750"/>
                </a:lnTo>
                <a:close/>
              </a:path>
              <a:path w="21600" h="21600">
                <a:moveTo>
                  <a:pt x="1350" y="7850"/>
                </a:moveTo>
                <a:lnTo>
                  <a:pt x="2700" y="7850"/>
                </a:lnTo>
                <a:lnTo>
                  <a:pt x="2700" y="13750"/>
                </a:lnTo>
                <a:lnTo>
                  <a:pt x="1350" y="1375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5255280" y="2529720"/>
            <a:ext cx="1873440" cy="1512720"/>
          </a:xfrm>
          <a:custGeom>
            <a:avLst/>
            <a:gdLst>
              <a:gd name="textAreaLeft" fmla="*/ 292680 w 1873440"/>
              <a:gd name="textAreaRight" fmla="*/ 1741680 w 1873440"/>
              <a:gd name="textAreaTop" fmla="*/ 542880 h 1512720"/>
              <a:gd name="textAreaBottom" fmla="*/ 969840 h 1512720"/>
            </a:gdLst>
            <a:ahLst/>
            <a:rect l="textAreaLeft" t="textAreaTop" r="textAreaRight" b="textAreaBottom"/>
            <a:pathLst>
              <a:path w="21600" h="21600">
                <a:moveTo>
                  <a:pt x="3375" y="7751"/>
                </a:moveTo>
                <a:lnTo>
                  <a:pt x="16218" y="7751"/>
                </a:lnTo>
                <a:lnTo>
                  <a:pt x="16218" y="0"/>
                </a:lnTo>
                <a:lnTo>
                  <a:pt x="21600" y="10800"/>
                </a:lnTo>
                <a:lnTo>
                  <a:pt x="16218" y="21600"/>
                </a:lnTo>
                <a:lnTo>
                  <a:pt x="16218" y="13849"/>
                </a:lnTo>
                <a:lnTo>
                  <a:pt x="3375" y="13849"/>
                </a:lnTo>
                <a:close/>
              </a:path>
              <a:path w="21600" h="21600">
                <a:moveTo>
                  <a:pt x="0" y="7751"/>
                </a:moveTo>
                <a:lnTo>
                  <a:pt x="675" y="7751"/>
                </a:lnTo>
                <a:lnTo>
                  <a:pt x="675" y="13849"/>
                </a:lnTo>
                <a:lnTo>
                  <a:pt x="0" y="13849"/>
                </a:lnTo>
                <a:close/>
              </a:path>
              <a:path w="21600" h="21600">
                <a:moveTo>
                  <a:pt x="1350" y="7751"/>
                </a:moveTo>
                <a:lnTo>
                  <a:pt x="2700" y="7751"/>
                </a:lnTo>
                <a:lnTo>
                  <a:pt x="2700" y="13849"/>
                </a:lnTo>
                <a:lnTo>
                  <a:pt x="1350" y="13849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948360" y="0"/>
            <a:ext cx="1727280" cy="1773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16556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9280" y="189000"/>
            <a:ext cx="8713800" cy="6480000"/>
          </a:xfrm>
          <a:prstGeom prst="rect">
            <a:avLst/>
          </a:prstGeom>
          <a:noFill/>
          <a:ln w="76320">
            <a:solidFill>
              <a:srgbClr val="ff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78483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39640" y="1052640"/>
            <a:ext cx="8136000" cy="11912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原来，国王发给孩子们的花籽是煮过的，怎么可能发芽、开花呢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1512720" cy="20890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611280" y="1916280"/>
            <a:ext cx="8137440" cy="32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在你的生活中，你认为谁是诚实的人？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 flipH="1">
            <a:off x="5867280" y="4581360"/>
            <a:ext cx="2619360" cy="20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3300"/>
                </a:solidFill>
                <a:latin typeface="Arial"/>
                <a:ea typeface="隶书"/>
              </a:rPr>
              <a:t>请你说一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5000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　　踢球时，我打碎了邻居家的玻璃，没人看见，我</a:t>
            </a:r>
            <a:r>
              <a:rPr b="1" lang="zh-CN" sz="5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　　　　　　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659640" y="4005360"/>
            <a:ext cx="1293840" cy="1800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042920" y="4437000"/>
            <a:ext cx="1584360" cy="1440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900000" y="1989000"/>
            <a:ext cx="7129440" cy="396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华文新魏"/>
              </a:rPr>
              <a:t> </a:t>
            </a:r>
            <a:endParaRPr b="1" i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华文新魏"/>
              </a:rPr>
              <a:t>再见</a:t>
            </a:r>
            <a:endParaRPr b="1" i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11280" y="486900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手捧空花盆的孩子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请你读一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挑选　　聚集　　花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根据　　成绩　　手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显得　　浇水　　煮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孩子　　诚实　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皱起了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2411280" cy="13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24000" y="274320"/>
            <a:ext cx="476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看谁读得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6868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孩　　挑　　选　　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浇　　诚　　实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2232000" cy="2374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588000" y="4508640"/>
            <a:ext cx="233388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24000" y="274320"/>
            <a:ext cx="476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看谁读得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2781000"/>
            <a:ext cx="821844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      </a:t>
            </a:r>
            <a:r>
              <a:rPr b="1" lang="zh-CN" sz="9600" spc="-1" strike="noStrike">
                <a:solidFill>
                  <a:srgbClr val="ff3300"/>
                </a:solidFill>
                <a:latin typeface="Arial"/>
                <a:ea typeface="楷体_GB2312"/>
              </a:rPr>
              <a:t>实      显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2232000" cy="2374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588000" y="4508640"/>
            <a:ext cx="233388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24000" y="274320"/>
            <a:ext cx="476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看谁读得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916000" y="2781000"/>
            <a:ext cx="375444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Arial"/>
                <a:ea typeface="楷体_GB2312"/>
              </a:rPr>
              <a:t>  </a:t>
            </a:r>
            <a:r>
              <a:rPr b="1" lang="zh-CN" sz="9600" spc="-1" strike="noStrike">
                <a:solidFill>
                  <a:srgbClr val="ff3300"/>
                </a:solidFill>
                <a:latin typeface="Arial"/>
                <a:ea typeface="楷体_GB2312"/>
              </a:rPr>
              <a:t>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2232000" cy="2374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588000" y="4508640"/>
            <a:ext cx="233388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380880" y="2286000"/>
          <a:ext cx="431352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86000"/>
                    <a:ext cx="431352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380880" y="2133720"/>
            <a:ext cx="419112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挑</a:t>
            </a:r>
            <a:endParaRPr b="0" lang="en-US" sz="2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572000" y="2286000"/>
          <a:ext cx="4313160" cy="441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286000"/>
                    <a:ext cx="431316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4724280" y="2362320"/>
            <a:ext cx="419112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选</a:t>
            </a:r>
            <a:endParaRPr b="0" lang="en-US" sz="2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55120" y="404640"/>
            <a:ext cx="182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隶书"/>
              </a:rPr>
              <a:t>我会写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9280" y="2133720"/>
            <a:ext cx="302436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0" spc="-1" strike="noStrike">
                <a:solidFill>
                  <a:srgbClr val="ff3300"/>
                </a:solidFill>
                <a:latin typeface="Arial"/>
                <a:ea typeface="楷体_GB2312"/>
              </a:rPr>
              <a:t>扌</a:t>
            </a:r>
            <a:endParaRPr b="0" lang="en-US" sz="2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932360" y="2349360"/>
            <a:ext cx="417672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0" spc="-1" strike="noStrike">
                <a:solidFill>
                  <a:srgbClr val="ff3300"/>
                </a:solidFill>
                <a:latin typeface="Arial"/>
                <a:ea typeface="楷体_GB2312"/>
              </a:rPr>
              <a:t>辶</a:t>
            </a:r>
            <a:endParaRPr b="0" lang="en-US" sz="2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95280" y="980640"/>
            <a:ext cx="8748720" cy="52563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楷体_GB2312"/>
              </a:rPr>
              <a:t>从前有个国王，年纪很老了。他想他挑选一个孩子当未来的国王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7T14:07:42Z</dcterms:created>
  <dc:creator>zhang</dc:creator>
  <dc:description/>
  <dc:language>en-US</dc:language>
  <cp:lastModifiedBy>hexj</cp:lastModifiedBy>
  <dcterms:modified xsi:type="dcterms:W3CDTF">2005-12-19T07:59:23Z</dcterms:modified>
  <cp:revision>16</cp:revision>
  <dc:subject/>
  <dc:title>北京市师范大学出版社小学语文二年级上册</dc:title>
</cp:coreProperties>
</file>