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B2A5-78C8-449A-8C8E-AA21AB527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5AD9-5DF1-4F7E-A39E-D8D77FA8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9234-EA3F-4411-B8C2-DBA1A81E7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4A5A-823E-4771-A7FF-441576EC1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75D3-035F-4B50-A020-3DAFEEE1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410D-EF80-4D6B-87D6-FCF9C3E1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F2AA-10FA-46FD-B65A-92065D81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B6BF-6EF0-48B4-8270-F0DE9C7A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B12C-120F-40AE-A946-51C80180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279A-C71D-4669-A669-BA7A757C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6898-710C-4DCE-96E2-91092E2D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BA2E-77F6-45E2-B928-0EC97C43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D630-00C4-4703-A233-45E8C04B4D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26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＊桂花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7197840" y="53352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桂花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7197840" y="137160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小桂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firstslide"/>
          </p:cNvPr>
          <p:cNvSpPr/>
          <p:nvPr/>
        </p:nvSpPr>
        <p:spPr>
          <a:xfrm>
            <a:off x="7197840" y="42670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21578" y="3837"/>
                </a:moveTo>
                <a:lnTo>
                  <a:pt x="24155" y="6448"/>
                </a:ln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lnTo>
                  <a:pt x="28541" y="10800"/>
                </a:lnTo>
                <a:lnTo>
                  <a:pt x="26888" y="10800"/>
                </a:lnTo>
                <a:lnTo>
                  <a:pt x="26888" y="17989"/>
                </a:lnTo>
                <a:lnTo>
                  <a:pt x="16269" y="17989"/>
                </a:lnTo>
                <a:lnTo>
                  <a:pt x="16269" y="10800"/>
                </a:lnTo>
                <a:lnTo>
                  <a:pt x="14615" y="10800"/>
                </a:lnTo>
                <a:close/>
              </a:path>
              <a:path fill="darkenLess" w="43157" h="21600">
                <a:moveTo>
                  <a:pt x="24155" y="6448"/>
                </a:move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close/>
              </a:path>
              <a:path fill="darkenLess" w="43157" h="21600">
                <a:moveTo>
                  <a:pt x="20656" y="14299"/>
                </a:moveTo>
                <a:lnTo>
                  <a:pt x="22501" y="14299"/>
                </a:lnTo>
                <a:lnTo>
                  <a:pt x="22501" y="17989"/>
                </a:lnTo>
                <a:lnTo>
                  <a:pt x="26888" y="17989"/>
                </a:lnTo>
                <a:lnTo>
                  <a:pt x="26888" y="10800"/>
                </a:lnTo>
                <a:lnTo>
                  <a:pt x="16269" y="10800"/>
                </a:lnTo>
                <a:lnTo>
                  <a:pt x="16269" y="17989"/>
                </a:lnTo>
                <a:lnTo>
                  <a:pt x="20656" y="1798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97840" y="233856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摇花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97840" y="33526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14572" y="8406"/>
                </a:moveTo>
                <a:lnTo>
                  <a:pt x="19002" y="8406"/>
                </a:lnTo>
                <a:lnTo>
                  <a:pt x="23424" y="3794"/>
                </a:lnTo>
                <a:lnTo>
                  <a:pt x="23424" y="17806"/>
                </a:lnTo>
                <a:lnTo>
                  <a:pt x="19002" y="13194"/>
                </a:lnTo>
                <a:lnTo>
                  <a:pt x="14572" y="13194"/>
                </a:lnTo>
                <a:close/>
              </a:path>
              <a:path fill="darken" w="43157" h="21600">
                <a:moveTo>
                  <a:pt x="25077" y="10800"/>
                </a:moveTo>
                <a:lnTo>
                  <a:pt x="28585" y="10800"/>
                </a:lnTo>
              </a:path>
              <a:path fill="darken" w="43157" h="21600">
                <a:moveTo>
                  <a:pt x="25077" y="8406"/>
                </a:moveTo>
                <a:lnTo>
                  <a:pt x="28585" y="5639"/>
                </a:lnTo>
              </a:path>
              <a:path fill="darken" w="43157" h="21600">
                <a:moveTo>
                  <a:pt x="25077" y="13194"/>
                </a:moveTo>
                <a:lnTo>
                  <a:pt x="28585" y="1596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桂花4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6019920" cy="5639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8" name="">
            <a:hlinkClick r:id="rId3" action="ppaction://hlinksldjump"/>
          </p:cNvPr>
          <p:cNvSpPr/>
          <p:nvPr/>
        </p:nvSpPr>
        <p:spPr>
          <a:xfrm>
            <a:off x="7197840" y="53352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桂花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4" action="ppaction://hlinksldjump"/>
          </p:cNvPr>
          <p:cNvSpPr/>
          <p:nvPr/>
        </p:nvSpPr>
        <p:spPr>
          <a:xfrm>
            <a:off x="7197840" y="137160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小桂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firstslide"/>
          </p:cNvPr>
          <p:cNvSpPr/>
          <p:nvPr/>
        </p:nvSpPr>
        <p:spPr>
          <a:xfrm>
            <a:off x="7197840" y="42670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21578" y="3837"/>
                </a:moveTo>
                <a:lnTo>
                  <a:pt x="24155" y="6448"/>
                </a:ln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lnTo>
                  <a:pt x="28541" y="10800"/>
                </a:lnTo>
                <a:lnTo>
                  <a:pt x="26888" y="10800"/>
                </a:lnTo>
                <a:lnTo>
                  <a:pt x="26888" y="17989"/>
                </a:lnTo>
                <a:lnTo>
                  <a:pt x="16269" y="17989"/>
                </a:lnTo>
                <a:lnTo>
                  <a:pt x="16269" y="10800"/>
                </a:lnTo>
                <a:lnTo>
                  <a:pt x="14615" y="10800"/>
                </a:lnTo>
                <a:close/>
              </a:path>
              <a:path fill="darkenLess" w="43157" h="21600">
                <a:moveTo>
                  <a:pt x="24155" y="6448"/>
                </a:move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close/>
              </a:path>
              <a:path fill="darkenLess" w="43157" h="21600">
                <a:moveTo>
                  <a:pt x="20656" y="14299"/>
                </a:moveTo>
                <a:lnTo>
                  <a:pt x="22501" y="14299"/>
                </a:lnTo>
                <a:lnTo>
                  <a:pt x="22501" y="17989"/>
                </a:lnTo>
                <a:lnTo>
                  <a:pt x="26888" y="17989"/>
                </a:lnTo>
                <a:lnTo>
                  <a:pt x="26888" y="10800"/>
                </a:lnTo>
                <a:lnTo>
                  <a:pt x="16269" y="10800"/>
                </a:lnTo>
                <a:lnTo>
                  <a:pt x="16269" y="17989"/>
                </a:lnTo>
                <a:lnTo>
                  <a:pt x="20656" y="1798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97840" y="233856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摇花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97840" y="33526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14572" y="8406"/>
                </a:moveTo>
                <a:lnTo>
                  <a:pt x="19002" y="8406"/>
                </a:lnTo>
                <a:lnTo>
                  <a:pt x="23424" y="3794"/>
                </a:lnTo>
                <a:lnTo>
                  <a:pt x="23424" y="17806"/>
                </a:lnTo>
                <a:lnTo>
                  <a:pt x="19002" y="13194"/>
                </a:lnTo>
                <a:lnTo>
                  <a:pt x="14572" y="13194"/>
                </a:lnTo>
                <a:close/>
              </a:path>
              <a:path fill="darken" w="43157" h="21600">
                <a:moveTo>
                  <a:pt x="25077" y="10800"/>
                </a:moveTo>
                <a:lnTo>
                  <a:pt x="28585" y="10800"/>
                </a:lnTo>
              </a:path>
              <a:path fill="darken" w="43157" h="21600">
                <a:moveTo>
                  <a:pt x="25077" y="8406"/>
                </a:moveTo>
                <a:lnTo>
                  <a:pt x="28585" y="5639"/>
                </a:lnTo>
              </a:path>
              <a:path fill="darken" w="43157" h="21600">
                <a:moveTo>
                  <a:pt x="25077" y="13194"/>
                </a:moveTo>
                <a:lnTo>
                  <a:pt x="28585" y="1596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桂花1" descr=""/>
          <p:cNvPicPr/>
          <p:nvPr/>
        </p:nvPicPr>
        <p:blipFill>
          <a:blip r:embed="rId2"/>
          <a:stretch/>
        </p:blipFill>
        <p:spPr>
          <a:xfrm>
            <a:off x="584280" y="685800"/>
            <a:ext cx="2997000" cy="4343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4" name="桂花2" descr=""/>
          <p:cNvPicPr/>
          <p:nvPr/>
        </p:nvPicPr>
        <p:blipFill>
          <a:blip r:embed="rId3"/>
          <a:stretch/>
        </p:blipFill>
        <p:spPr>
          <a:xfrm>
            <a:off x="3733920" y="2133720"/>
            <a:ext cx="289548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5" name="">
            <a:hlinkClick r:id="rId4" action="ppaction://hlinksldjump"/>
          </p:cNvPr>
          <p:cNvSpPr/>
          <p:nvPr/>
        </p:nvSpPr>
        <p:spPr>
          <a:xfrm>
            <a:off x="7197840" y="53352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桂花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5" action="ppaction://hlinksldjump"/>
          </p:cNvPr>
          <p:cNvSpPr/>
          <p:nvPr/>
        </p:nvSpPr>
        <p:spPr>
          <a:xfrm>
            <a:off x="7197840" y="137160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小桂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" action="ppaction://hlinkshowjump?jump=firstslide"/>
          </p:cNvPr>
          <p:cNvSpPr/>
          <p:nvPr/>
        </p:nvSpPr>
        <p:spPr>
          <a:xfrm>
            <a:off x="7197840" y="42670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21578" y="3837"/>
                </a:moveTo>
                <a:lnTo>
                  <a:pt x="24155" y="6448"/>
                </a:ln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lnTo>
                  <a:pt x="28541" y="10800"/>
                </a:lnTo>
                <a:lnTo>
                  <a:pt x="26888" y="10800"/>
                </a:lnTo>
                <a:lnTo>
                  <a:pt x="26888" y="17989"/>
                </a:lnTo>
                <a:lnTo>
                  <a:pt x="16269" y="17989"/>
                </a:lnTo>
                <a:lnTo>
                  <a:pt x="16269" y="10800"/>
                </a:lnTo>
                <a:lnTo>
                  <a:pt x="14615" y="10800"/>
                </a:lnTo>
                <a:close/>
              </a:path>
              <a:path fill="darkenLess" w="43157" h="21600">
                <a:moveTo>
                  <a:pt x="24155" y="6448"/>
                </a:move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close/>
              </a:path>
              <a:path fill="darkenLess" w="43157" h="21600">
                <a:moveTo>
                  <a:pt x="20656" y="14299"/>
                </a:moveTo>
                <a:lnTo>
                  <a:pt x="22501" y="14299"/>
                </a:lnTo>
                <a:lnTo>
                  <a:pt x="22501" y="17989"/>
                </a:lnTo>
                <a:lnTo>
                  <a:pt x="26888" y="17989"/>
                </a:lnTo>
                <a:lnTo>
                  <a:pt x="26888" y="10800"/>
                </a:lnTo>
                <a:lnTo>
                  <a:pt x="16269" y="10800"/>
                </a:lnTo>
                <a:lnTo>
                  <a:pt x="16269" y="17989"/>
                </a:lnTo>
                <a:lnTo>
                  <a:pt x="20656" y="1798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6" action="ppaction://hlinksldjump"/>
          </p:cNvPr>
          <p:cNvSpPr/>
          <p:nvPr/>
        </p:nvSpPr>
        <p:spPr>
          <a:xfrm>
            <a:off x="7197840" y="233856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摇花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197840" y="33526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14572" y="8406"/>
                </a:moveTo>
                <a:lnTo>
                  <a:pt x="19002" y="8406"/>
                </a:lnTo>
                <a:lnTo>
                  <a:pt x="23424" y="3794"/>
                </a:lnTo>
                <a:lnTo>
                  <a:pt x="23424" y="17806"/>
                </a:lnTo>
                <a:lnTo>
                  <a:pt x="19002" y="13194"/>
                </a:lnTo>
                <a:lnTo>
                  <a:pt x="14572" y="13194"/>
                </a:lnTo>
                <a:close/>
              </a:path>
              <a:path fill="darken" w="43157" h="21600">
                <a:moveTo>
                  <a:pt x="25077" y="10800"/>
                </a:moveTo>
                <a:lnTo>
                  <a:pt x="28585" y="10800"/>
                </a:lnTo>
              </a:path>
              <a:path fill="darken" w="43157" h="21600">
                <a:moveTo>
                  <a:pt x="25077" y="8406"/>
                </a:moveTo>
                <a:lnTo>
                  <a:pt x="28585" y="5639"/>
                </a:lnTo>
              </a:path>
              <a:path fill="darken" w="43157" h="21600">
                <a:moveTo>
                  <a:pt x="25077" y="13194"/>
                </a:moveTo>
                <a:lnTo>
                  <a:pt x="28585" y="1596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guihua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5943600" cy="5639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197840" y="33526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14572" y="8406"/>
                </a:moveTo>
                <a:lnTo>
                  <a:pt x="19002" y="8406"/>
                </a:lnTo>
                <a:lnTo>
                  <a:pt x="23424" y="3794"/>
                </a:lnTo>
                <a:lnTo>
                  <a:pt x="23424" y="17806"/>
                </a:lnTo>
                <a:lnTo>
                  <a:pt x="19002" y="13194"/>
                </a:lnTo>
                <a:lnTo>
                  <a:pt x="14572" y="13194"/>
                </a:lnTo>
                <a:close/>
              </a:path>
              <a:path fill="darken" w="43157" h="21600">
                <a:moveTo>
                  <a:pt x="25077" y="10800"/>
                </a:moveTo>
                <a:lnTo>
                  <a:pt x="28585" y="10800"/>
                </a:lnTo>
              </a:path>
              <a:path fill="darken" w="43157" h="21600">
                <a:moveTo>
                  <a:pt x="25077" y="8406"/>
                </a:moveTo>
                <a:lnTo>
                  <a:pt x="28585" y="5639"/>
                </a:lnTo>
              </a:path>
              <a:path fill="darken" w="43157" h="21600">
                <a:moveTo>
                  <a:pt x="25077" y="13194"/>
                </a:moveTo>
                <a:lnTo>
                  <a:pt x="28585" y="1596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7197840" y="53352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桂花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7197840" y="137160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小桂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5" action="ppaction://hlinksldjump"/>
          </p:cNvPr>
          <p:cNvSpPr/>
          <p:nvPr/>
        </p:nvSpPr>
        <p:spPr>
          <a:xfrm>
            <a:off x="7197840" y="233856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摇花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firstslide"/>
          </p:cNvPr>
          <p:cNvSpPr/>
          <p:nvPr/>
        </p:nvSpPr>
        <p:spPr>
          <a:xfrm>
            <a:off x="7197840" y="42670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21578" y="3837"/>
                </a:moveTo>
                <a:lnTo>
                  <a:pt x="24155" y="6448"/>
                </a:ln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lnTo>
                  <a:pt x="28541" y="10800"/>
                </a:lnTo>
                <a:lnTo>
                  <a:pt x="26888" y="10800"/>
                </a:lnTo>
                <a:lnTo>
                  <a:pt x="26888" y="17989"/>
                </a:lnTo>
                <a:lnTo>
                  <a:pt x="16269" y="17989"/>
                </a:lnTo>
                <a:lnTo>
                  <a:pt x="16269" y="10800"/>
                </a:lnTo>
                <a:lnTo>
                  <a:pt x="14615" y="10800"/>
                </a:lnTo>
                <a:close/>
              </a:path>
              <a:path fill="darkenLess" w="43157" h="21600">
                <a:moveTo>
                  <a:pt x="24155" y="6448"/>
                </a:move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close/>
              </a:path>
              <a:path fill="darkenLess" w="43157" h="21600">
                <a:moveTo>
                  <a:pt x="20656" y="14299"/>
                </a:moveTo>
                <a:lnTo>
                  <a:pt x="22501" y="14299"/>
                </a:lnTo>
                <a:lnTo>
                  <a:pt x="22501" y="17989"/>
                </a:lnTo>
                <a:lnTo>
                  <a:pt x="26888" y="17989"/>
                </a:lnTo>
                <a:lnTo>
                  <a:pt x="26888" y="10800"/>
                </a:lnTo>
                <a:lnTo>
                  <a:pt x="16269" y="10800"/>
                </a:lnTo>
                <a:lnTo>
                  <a:pt x="16269" y="17989"/>
                </a:lnTo>
                <a:lnTo>
                  <a:pt x="20656" y="1798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2" action="ppaction://hlinksldjump"/>
          </p:cNvPr>
          <p:cNvSpPr/>
          <p:nvPr/>
        </p:nvSpPr>
        <p:spPr>
          <a:xfrm>
            <a:off x="7197840" y="53352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桂花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3" action="ppaction://hlinksldjump"/>
          </p:cNvPr>
          <p:cNvSpPr/>
          <p:nvPr/>
        </p:nvSpPr>
        <p:spPr>
          <a:xfrm>
            <a:off x="7197840" y="137160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小桂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firstslide"/>
          </p:cNvPr>
          <p:cNvSpPr/>
          <p:nvPr/>
        </p:nvSpPr>
        <p:spPr>
          <a:xfrm>
            <a:off x="7197840" y="42670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21578" y="3837"/>
                </a:moveTo>
                <a:lnTo>
                  <a:pt x="24155" y="6448"/>
                </a:ln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lnTo>
                  <a:pt x="28541" y="10800"/>
                </a:lnTo>
                <a:lnTo>
                  <a:pt x="26888" y="10800"/>
                </a:lnTo>
                <a:lnTo>
                  <a:pt x="26888" y="17989"/>
                </a:lnTo>
                <a:lnTo>
                  <a:pt x="16269" y="17989"/>
                </a:lnTo>
                <a:lnTo>
                  <a:pt x="16269" y="10800"/>
                </a:lnTo>
                <a:lnTo>
                  <a:pt x="14615" y="10800"/>
                </a:lnTo>
                <a:close/>
              </a:path>
              <a:path fill="darkenLess" w="43157" h="21600">
                <a:moveTo>
                  <a:pt x="24155" y="6448"/>
                </a:move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close/>
              </a:path>
              <a:path fill="darkenLess" w="43157" h="21600">
                <a:moveTo>
                  <a:pt x="20656" y="14299"/>
                </a:moveTo>
                <a:lnTo>
                  <a:pt x="22501" y="14299"/>
                </a:lnTo>
                <a:lnTo>
                  <a:pt x="22501" y="17989"/>
                </a:lnTo>
                <a:lnTo>
                  <a:pt x="26888" y="17989"/>
                </a:lnTo>
                <a:lnTo>
                  <a:pt x="26888" y="10800"/>
                </a:lnTo>
                <a:lnTo>
                  <a:pt x="16269" y="10800"/>
                </a:lnTo>
                <a:lnTo>
                  <a:pt x="16269" y="17989"/>
                </a:lnTo>
                <a:lnTo>
                  <a:pt x="20656" y="1798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4" action="ppaction://hlinksldjump"/>
          </p:cNvPr>
          <p:cNvSpPr/>
          <p:nvPr/>
        </p:nvSpPr>
        <p:spPr>
          <a:xfrm>
            <a:off x="7197840" y="233856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摇花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97840" y="33526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14572" y="8406"/>
                </a:moveTo>
                <a:lnTo>
                  <a:pt x="19002" y="8406"/>
                </a:lnTo>
                <a:lnTo>
                  <a:pt x="23424" y="3794"/>
                </a:lnTo>
                <a:lnTo>
                  <a:pt x="23424" y="17806"/>
                </a:lnTo>
                <a:lnTo>
                  <a:pt x="19002" y="13194"/>
                </a:lnTo>
                <a:lnTo>
                  <a:pt x="14572" y="13194"/>
                </a:lnTo>
                <a:close/>
              </a:path>
              <a:path fill="darken" w="43157" h="21600">
                <a:moveTo>
                  <a:pt x="25077" y="10800"/>
                </a:moveTo>
                <a:lnTo>
                  <a:pt x="28585" y="10800"/>
                </a:lnTo>
              </a:path>
              <a:path fill="darken" w="43157" h="21600">
                <a:moveTo>
                  <a:pt x="25077" y="8406"/>
                </a:moveTo>
                <a:lnTo>
                  <a:pt x="28585" y="5639"/>
                </a:lnTo>
              </a:path>
              <a:path fill="darken" w="43157" h="21600">
                <a:moveTo>
                  <a:pt x="25077" y="13194"/>
                </a:moveTo>
                <a:lnTo>
                  <a:pt x="28585" y="1596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2T10:01:12Z</dcterms:created>
  <dc:creator>jiawh</dc:creator>
  <dc:description/>
  <dc:language>en-US</dc:language>
  <cp:lastModifiedBy>jiawh</cp:lastModifiedBy>
  <dcterms:modified xsi:type="dcterms:W3CDTF">2003-04-23T02:08:27Z</dcterms:modified>
  <cp:revision>16</cp:revision>
  <dc:subject/>
  <dc:title>26＊桂花雨</dc:title>
</cp:coreProperties>
</file>