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1E57-9F27-4F90-BEBB-693A3D7FD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82F3-7BB9-44BB-B411-77493EA62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90FA6-1DC5-40B7-B2FA-52EFCB833C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13F-56A5-4873-8014-9B1ADEA44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8EBA0-CFFE-4B4F-969B-B561999CD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92A30-9A51-4554-8DB4-8585E2D5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F6F5C-B70D-4550-8B2E-233423C48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534-1F94-4088-B5A2-345740D5F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89E3-F33D-483A-AFBF-C259E1201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3F6F1-EFAD-4793-8BA1-46D54E054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CB171-A5E1-4515-95EC-E7E6E0AA3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910D-12B5-4E7A-96EC-68FFA8AAF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4B7091-B114-49CF-8690-5D51D3FC082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4.xml"/><Relationship Id="rId7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" Target="slide2.xml"/><Relationship Id="rId4" Type="http://schemas.openxmlformats.org/officeDocument/2006/relationships/slide" Target="slide3.xml"/><Relationship Id="rId5" Type="http://schemas.openxmlformats.org/officeDocument/2006/relationships/slide" Target="slide4.xml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slide" Target="slide3.xml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26</a:t>
            </a:r>
            <a:r>
              <a:rPr b="0" lang="zh-CN" sz="5400" spc="-1" strike="noStrike">
                <a:solidFill>
                  <a:srgbClr val="000000"/>
                </a:solidFill>
                <a:latin typeface="黑体"/>
                <a:ea typeface="黑体"/>
              </a:rPr>
              <a:t>＊桂花雨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3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桂花4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6019920" cy="5639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48" name="">
            <a:hlinkClick r:id="rId3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>
            <a:hlinkClick r:id="rId4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桂花1" descr=""/>
          <p:cNvPicPr/>
          <p:nvPr/>
        </p:nvPicPr>
        <p:blipFill>
          <a:blip r:embed="rId2"/>
          <a:stretch/>
        </p:blipFill>
        <p:spPr>
          <a:xfrm>
            <a:off x="584280" y="685800"/>
            <a:ext cx="2997000" cy="434340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4" name="桂花2" descr=""/>
          <p:cNvPicPr/>
          <p:nvPr/>
        </p:nvPicPr>
        <p:blipFill>
          <a:blip r:embed="rId3"/>
          <a:stretch/>
        </p:blipFill>
        <p:spPr>
          <a:xfrm>
            <a:off x="3733920" y="2133720"/>
            <a:ext cx="2895480" cy="411480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>
            <a:hlinkClick r:id="rId6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guihua" descr=""/>
          <p:cNvPicPr/>
          <p:nvPr/>
        </p:nvPicPr>
        <p:blipFill>
          <a:blip r:embed="rId2"/>
          <a:stretch/>
        </p:blipFill>
        <p:spPr>
          <a:xfrm>
            <a:off x="609480" y="609480"/>
            <a:ext cx="5943600" cy="563904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>
            <a:hlinkClick r:id="rId3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>
            <a:hlinkClick r:id="rId4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>
            <a:hlinkClick r:id="rId5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rId2" action="ppaction://hlinksldjump"/>
          </p:cNvPr>
          <p:cNvSpPr/>
          <p:nvPr/>
        </p:nvSpPr>
        <p:spPr>
          <a:xfrm>
            <a:off x="7197840" y="53352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桂花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>
            <a:hlinkClick r:id="rId3" action="ppaction://hlinksldjump"/>
          </p:cNvPr>
          <p:cNvSpPr/>
          <p:nvPr/>
        </p:nvSpPr>
        <p:spPr>
          <a:xfrm>
            <a:off x="7197840" y="137160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小桂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>
            <a:hlinkClick r:id="" action="ppaction://hlinkshowjump?jump=firstslide"/>
          </p:cNvPr>
          <p:cNvSpPr/>
          <p:nvPr/>
        </p:nvSpPr>
        <p:spPr>
          <a:xfrm>
            <a:off x="7197840" y="42670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21578" y="3837"/>
                </a:moveTo>
                <a:lnTo>
                  <a:pt x="24155" y="6448"/>
                </a:ln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lnTo>
                  <a:pt x="28541" y="10800"/>
                </a:lnTo>
                <a:lnTo>
                  <a:pt x="26888" y="10800"/>
                </a:lnTo>
                <a:lnTo>
                  <a:pt x="26888" y="17989"/>
                </a:lnTo>
                <a:lnTo>
                  <a:pt x="16269" y="17989"/>
                </a:lnTo>
                <a:lnTo>
                  <a:pt x="16269" y="10800"/>
                </a:lnTo>
                <a:lnTo>
                  <a:pt x="14615" y="10800"/>
                </a:lnTo>
                <a:close/>
              </a:path>
              <a:path fill="darkenLess" w="43157" h="21600">
                <a:moveTo>
                  <a:pt x="24155" y="6448"/>
                </a:moveTo>
                <a:lnTo>
                  <a:pt x="24155" y="4707"/>
                </a:lnTo>
                <a:lnTo>
                  <a:pt x="25930" y="4707"/>
                </a:lnTo>
                <a:lnTo>
                  <a:pt x="25930" y="8224"/>
                </a:lnTo>
                <a:close/>
              </a:path>
              <a:path fill="darkenLess" w="43157" h="21600">
                <a:moveTo>
                  <a:pt x="20656" y="14299"/>
                </a:moveTo>
                <a:lnTo>
                  <a:pt x="22501" y="14299"/>
                </a:lnTo>
                <a:lnTo>
                  <a:pt x="22501" y="17989"/>
                </a:lnTo>
                <a:lnTo>
                  <a:pt x="26888" y="17989"/>
                </a:lnTo>
                <a:lnTo>
                  <a:pt x="26888" y="10800"/>
                </a:lnTo>
                <a:lnTo>
                  <a:pt x="16269" y="10800"/>
                </a:lnTo>
                <a:lnTo>
                  <a:pt x="16269" y="17989"/>
                </a:lnTo>
                <a:lnTo>
                  <a:pt x="20656" y="17989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>
            <a:hlinkClick r:id="rId4" action="ppaction://hlinksldjump"/>
          </p:cNvPr>
          <p:cNvSpPr/>
          <p:nvPr/>
        </p:nvSpPr>
        <p:spPr>
          <a:xfrm>
            <a:off x="7197840" y="2338560"/>
            <a:ext cx="1079280" cy="53964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39640"/>
              <a:gd name="textAreaBottom" fmla="*/ 504720 h 539640"/>
            </a:gdLst>
            <a:ahLst/>
            <a:rect l="textAreaLeft" t="textAreaTop" r="textAreaRight" b="textAreaBottom"/>
            <a:pathLst>
              <a:path w="43186" h="21600">
                <a:moveTo>
                  <a:pt x="0" y="0"/>
                </a:moveTo>
                <a:lnTo>
                  <a:pt x="43186" y="0"/>
                </a:lnTo>
                <a:lnTo>
                  <a:pt x="43186" y="21600"/>
                </a:lnTo>
                <a:lnTo>
                  <a:pt x="0" y="21600"/>
                </a:lnTo>
                <a:close/>
              </a:path>
              <a:path fill="lightenLess" w="43186" h="21600">
                <a:moveTo>
                  <a:pt x="0" y="0"/>
                </a:moveTo>
                <a:lnTo>
                  <a:pt x="43186" y="0"/>
                </a:lnTo>
                <a:lnTo>
                  <a:pt x="41786" y="1400"/>
                </a:lnTo>
                <a:lnTo>
                  <a:pt x="1400" y="1400"/>
                </a:lnTo>
                <a:close/>
              </a:path>
              <a:path fill="darken" w="43186" h="21600">
                <a:moveTo>
                  <a:pt x="43186" y="0"/>
                </a:moveTo>
                <a:lnTo>
                  <a:pt x="43186" y="21600"/>
                </a:lnTo>
                <a:lnTo>
                  <a:pt x="41786" y="20200"/>
                </a:lnTo>
                <a:lnTo>
                  <a:pt x="41786" y="1400"/>
                </a:lnTo>
                <a:close/>
              </a:path>
              <a:path fill="darkenLess" w="43186" h="21600">
                <a:moveTo>
                  <a:pt x="431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6" y="20200"/>
                </a:lnTo>
                <a:close/>
              </a:path>
              <a:path fill="lighten" w="431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摇花乐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197840" y="3352680"/>
            <a:ext cx="1079280" cy="540000"/>
          </a:xfrm>
          <a:custGeom>
            <a:avLst/>
            <a:gdLst>
              <a:gd name="textAreaLeft" fmla="*/ 34920 w 1079280"/>
              <a:gd name="textAreaRight" fmla="*/ 1044360 w 1079280"/>
              <a:gd name="textAreaTop" fmla="*/ 34920 h 540000"/>
              <a:gd name="textAreaBottom" fmla="*/ 505080 h 540000"/>
            </a:gdLst>
            <a:ahLst/>
            <a:rect l="textAreaLeft" t="textAreaTop" r="textAreaRight" b="textAreaBottom"/>
            <a:pathLst>
              <a:path w="43157" h="21600">
                <a:moveTo>
                  <a:pt x="0" y="0"/>
                </a:moveTo>
                <a:lnTo>
                  <a:pt x="43157" y="0"/>
                </a:lnTo>
                <a:lnTo>
                  <a:pt x="43157" y="21600"/>
                </a:lnTo>
                <a:lnTo>
                  <a:pt x="0" y="21600"/>
                </a:lnTo>
                <a:close/>
              </a:path>
              <a:path fill="lightenLess" w="43157" h="21600">
                <a:moveTo>
                  <a:pt x="0" y="0"/>
                </a:moveTo>
                <a:lnTo>
                  <a:pt x="43157" y="0"/>
                </a:lnTo>
                <a:lnTo>
                  <a:pt x="41757" y="1400"/>
                </a:lnTo>
                <a:lnTo>
                  <a:pt x="1400" y="1400"/>
                </a:lnTo>
                <a:close/>
              </a:path>
              <a:path fill="darken" w="43157" h="21600">
                <a:moveTo>
                  <a:pt x="43157" y="0"/>
                </a:moveTo>
                <a:lnTo>
                  <a:pt x="43157" y="21600"/>
                </a:lnTo>
                <a:lnTo>
                  <a:pt x="41757" y="20200"/>
                </a:lnTo>
                <a:lnTo>
                  <a:pt x="41757" y="1400"/>
                </a:lnTo>
                <a:close/>
              </a:path>
              <a:path fill="darkenLess" w="43157" h="21600">
                <a:moveTo>
                  <a:pt x="4315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57" y="20200"/>
                </a:lnTo>
                <a:close/>
              </a:path>
              <a:path fill="lighten" w="4315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57" h="21600">
                <a:moveTo>
                  <a:pt x="14572" y="8406"/>
                </a:moveTo>
                <a:lnTo>
                  <a:pt x="19002" y="8406"/>
                </a:lnTo>
                <a:lnTo>
                  <a:pt x="23424" y="3794"/>
                </a:lnTo>
                <a:lnTo>
                  <a:pt x="23424" y="17806"/>
                </a:lnTo>
                <a:lnTo>
                  <a:pt x="19002" y="13194"/>
                </a:lnTo>
                <a:lnTo>
                  <a:pt x="14572" y="13194"/>
                </a:lnTo>
                <a:close/>
              </a:path>
              <a:path fill="darken" w="43157" h="21600">
                <a:moveTo>
                  <a:pt x="25077" y="10800"/>
                </a:moveTo>
                <a:lnTo>
                  <a:pt x="28585" y="10800"/>
                </a:lnTo>
              </a:path>
              <a:path fill="darken" w="43157" h="21600">
                <a:moveTo>
                  <a:pt x="25077" y="8406"/>
                </a:moveTo>
                <a:lnTo>
                  <a:pt x="28585" y="5639"/>
                </a:lnTo>
              </a:path>
              <a:path fill="darken" w="43157" h="21600">
                <a:moveTo>
                  <a:pt x="25077" y="13194"/>
                </a:moveTo>
                <a:lnTo>
                  <a:pt x="28585" y="15961"/>
                </a:ln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2T10:01:12Z</dcterms:created>
  <dc:creator>jiawh</dc:creator>
  <dc:description/>
  <dc:language>en-US</dc:language>
  <cp:lastModifiedBy>jiawh</cp:lastModifiedBy>
  <dcterms:modified xsi:type="dcterms:W3CDTF">2003-04-23T02:08:27Z</dcterms:modified>
  <cp:revision>16</cp:revision>
  <dc:subject/>
  <dc:title>26＊桂花雨</dc:title>
</cp:coreProperties>
</file>