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3F5-CB8B-4E34-B3EE-0B6DA83D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7DC-272E-45F8-AA2A-9C921FD6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CD2-4503-4CCC-B75E-71497BDD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4CF-9C66-4E41-93FA-1E9B062D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494-3401-4B1B-8C78-A525F8C3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8A8-0B95-4E63-8E8E-6DC9A269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619-6E33-4A68-B015-7923868B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0C1-3857-47FB-9902-D2C70ECB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AAA-061F-4D3E-AD08-17452B1C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9C6-1206-4102-B81E-B7D8490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39D-2C88-46EB-A40F-77914D3A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134-4847-46D4-86EE-A55F10E7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CFAC-0E85-45ED-A557-F79CF0E30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1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990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2362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黄    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98108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90880" y="400680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百    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1800360" cy="213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1985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1887480"/>
            <a:ext cx="5410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   雀   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鹰   鹂   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5120" y="1600200"/>
            <a:ext cx="5410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   牢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林   嬉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6002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38760" y="15876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124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38760" y="3124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71800" y="228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保护动物要牢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孔雀锦鸡是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雄鹰翱翔在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天空雁群会写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丛林深处有老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228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六，我拍六，黄鹂百灵唱不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七，我拍七，竹林熊猫在嬉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八，我拍八，大小动物都有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九，我拍九，人和动物是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十，我拍十，保护动物是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2480" y="533520"/>
            <a:ext cx="4953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       牢    拍       护保       物鸡       猫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5029200" cy="354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动物是我们的朋友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3716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应该保护动物，保护动物就是保护我们人类自己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51444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填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226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    ） 户（    ） 己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（    ） 护（    ） 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从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314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花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3314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保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窗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48480" y="329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日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4848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668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动物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蟋蟀夜里叫叽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房檐底下有春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蝴蝶跳舞真好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蜘蛛结网捉虫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蜜蜂采蜜真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46700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9640" y="1892160"/>
            <a:ext cx="1866960" cy="161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孔    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9144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六，我拍六，树上有只小斑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七，我拍七，蜻蜓像架小飞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八，我拍八，青蛙岸边叫呱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九，我拍九，鱼儿成群水里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十，我拍十，保护动物人人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668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生肖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生肖老鼠排第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牛的蹄儿分两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武松打虎上了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耳朵长的是兔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东海龙王海里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农夫错把蛇来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马羊一起做游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猴子高兴吹喇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鸡狗永远是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农家养猪是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66880" y="2286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讲卫生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早睡早起好身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晨练叫上好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早晚刷牙又洗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干干净净好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有痰不能随地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果皮碎纸不乱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勤洗澡来勤换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自己球鞋自己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饭前便后要洗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讲究卫生要坚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51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学习生活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我们从小爱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我会跳绳和踢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自己事情自己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端正姿势写好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认真听讲别马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全面发展争优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互助友爱要牢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尊老爱幼人人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预防疾病勤洗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好的习惯要保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奥运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申办奥运众心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废物装进垃圾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文明礼貌行为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科技奥运头一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申奥成功敲大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努力学习要奋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生命之树要珍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植树造林多绿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奥运会上手拉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欢迎奥运大力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43000" y="12952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编拍手歌，然后和小伙伴一起交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锦    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2438280" cy="198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32480" y="121932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雄     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819160" cy="221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8320" y="140328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黄    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981080" cy="24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百    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180036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62400" y="1523880"/>
            <a:ext cx="1986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981080" y="3886200"/>
            <a:ext cx="186696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1905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孔    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锦    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2438280" cy="198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32480" y="121932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76920" y="2057400"/>
            <a:ext cx="304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雄     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47920" y="1263600"/>
            <a:ext cx="281916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47920" y="365760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xj</cp:lastModifiedBy>
  <dcterms:modified xsi:type="dcterms:W3CDTF">2005-12-19T07:13:3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