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3E-B352-4D3C-8F36-5B930DB8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C0D-9D0D-445A-AF64-1969B85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B11-5EC9-42FF-BA67-6B53797F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8FD-B106-47D5-826D-D97344AD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C31-E415-43F3-AEE8-7458758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99C-B623-439B-A50B-71D9601C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ECD8-ACC4-405F-9C30-4881D8C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5BD-9A95-4AA4-948D-0FB0FA5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B24-9747-42E4-B28A-679B568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28A-5165-4353-B53E-26A24396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795-1EA9-4FCC-BA96-FC63A6B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87C-65C4-4055-A609-F90273C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99BB-147F-41C6-8F3D-84F787FD9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1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990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版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362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90880" y="40068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180036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1985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188748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   雀   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鹰   鹂   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600200"/>
            <a:ext cx="54100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   牢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林   嬉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16002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158760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8760" y="312408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保护动物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孔雀锦鸡是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雄鹰翱翔在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天空雁群会写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丛林深处有老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971800" y="228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识 字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黄鹂百灵唱不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竹林熊猫在嬉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大小动物都有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人和动物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52480" y="533520"/>
            <a:ext cx="4953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       牢    拍       护保       物鸡       猫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5029200" cy="354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62320" y="3808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动物是我们的朋友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13716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应该保护动物，保护动物就是保护我们人类自己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51444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填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2264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  ） 户（    ） 己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（    ） 护（    ） 记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从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314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花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3314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窗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48480" y="329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日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48480" y="2190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动物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蟋蟀夜里叫叽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房檐底下有春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蝴蝶跳舞真好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蜘蛛结网捉虫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蜜蜂采蜜真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46700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1892160"/>
            <a:ext cx="1866960" cy="161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914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六，我拍六，树上有只小斑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七，我拍七，蜻蜓像架小飞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八，我拍八，青蛙岸边叫呱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九，我拍九，鱼儿成群水里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拍十，我拍十，保护动物人人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66880" y="2286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生肖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44144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生肖老鼠排第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牛的蹄儿分两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武松打虎上了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耳朵长的是兔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东海龙王海里住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农夫错把蛇来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马羊一起做游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猴子高兴吹喇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鸡狗永远是朋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农家养猪是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66880" y="22860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讲卫生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早睡早起好身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晨练叫上好伙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早晚刷牙又洗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干干净净好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有痰不能随地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果皮碎纸不乱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勤洗澡来勤换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自己球鞋自己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饭前便后要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讲究卫生要坚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学习生活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我们从小爱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我会跳绳和踢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自己事情自己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端正姿势写好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认真听讲别马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全面发展争优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互助友爱要牢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尊老爱幼人人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预防疾病勤洗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好的习惯要保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22860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奥运拍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4479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一，我拍一，申办奥运众心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二，我拍二，废物装进垃圾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三，我拍三，文明礼貌行为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四，我拍四，科技奥运头一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五，我拍五，申奥成功敲大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38080" y="99072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六，我拍六，努力学习要奋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七，我拍七，生命之树要珍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八，我拍八，植树造林多绿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九，我拍九，奥运会上手拉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拍十，我拍十，欢迎奥运大力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3000" y="1295280"/>
            <a:ext cx="655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编拍手歌，然后和小伙伴一起交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819160" cy="2210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8320" y="140328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黄    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1981080" cy="24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343400" y="16002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百    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18003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62400" y="15238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981080" y="3886200"/>
            <a:ext cx="186696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1905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孔    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71800" y="408312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锦    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2438280" cy="1987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32480" y="121932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2057400"/>
            <a:ext cx="304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雄     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47920" y="126360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29718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xj</cp:lastModifiedBy>
  <dcterms:modified xsi:type="dcterms:W3CDTF">2005-12-19T07:13:31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