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8E7-6E58-4D47-877A-64540587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4D1-8F6B-4254-A438-AF835010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17B-0D67-4E8B-8B24-369B6532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034-D0AC-475F-9845-2C6EE9C5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54B-C466-4536-BF5B-05EF6322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D5A-6BDC-4A43-AE91-D366A989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03A-F878-4AE4-A9A8-EBEA0854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700-BC75-45D5-9145-FBF36023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D23-3DDD-4022-919E-F120D537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4E5A-163E-4421-B6B9-190209AD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62C-5EEA-46DE-8DE3-E034072D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3EB-09AA-4C68-8385-894437C8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E154-00E3-4007-BB43-8FF82122DA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＊桂花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桂花4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6019920" cy="563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桂花1" descr=""/>
          <p:cNvPicPr/>
          <p:nvPr/>
        </p:nvPicPr>
        <p:blipFill>
          <a:blip r:embed="rId2"/>
          <a:stretch/>
        </p:blipFill>
        <p:spPr>
          <a:xfrm>
            <a:off x="584280" y="685800"/>
            <a:ext cx="2997000" cy="4343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桂花2" descr=""/>
          <p:cNvPicPr/>
          <p:nvPr/>
        </p:nvPicPr>
        <p:blipFill>
          <a:blip r:embed="rId3"/>
          <a:stretch/>
        </p:blipFill>
        <p:spPr>
          <a:xfrm>
            <a:off x="3733920" y="2133720"/>
            <a:ext cx="289548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6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guihua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5943600" cy="563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0:01:12Z</dcterms:created>
  <dc:creator>jiawh</dc:creator>
  <dc:description/>
  <dc:language>en-US</dc:language>
  <cp:lastModifiedBy>jiawh</cp:lastModifiedBy>
  <dcterms:modified xsi:type="dcterms:W3CDTF">2003-04-23T02:08:27Z</dcterms:modified>
  <cp:revision>16</cp:revision>
  <dc:subject/>
  <dc:title>26＊桂花雨</dc:title>
</cp:coreProperties>
</file>