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314C-D07F-4E35-A4D4-201114201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17D1-1DE6-4A8E-ADF0-92363EA9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A35D-25C6-43B9-BAF9-EFEF1C84D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8A2A-B885-49D8-B8CD-8BEE6E5E5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C844-C489-44E6-9C5F-D72998D1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11B9-6D12-4DFF-B975-2909F9DC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1EEE-11B2-4E6A-9004-8F850E08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4A5C-E316-4300-AC30-9D4D8BD7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FEC8-9C39-4257-BF2C-1B5A38DC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F0AE-FE47-4B0F-B712-91FC190E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5536-0967-40AF-8616-69E65D08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B80F-018B-412A-853D-11866FF2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1D99-C13C-4B2C-8DFA-E0F2BA736C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26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＊桂花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7197840" y="53352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桂花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7197840" y="137160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小桂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firstslide"/>
          </p:cNvPr>
          <p:cNvSpPr/>
          <p:nvPr/>
        </p:nvSpPr>
        <p:spPr>
          <a:xfrm>
            <a:off x="7197840" y="42670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21578" y="3837"/>
                </a:moveTo>
                <a:lnTo>
                  <a:pt x="24155" y="6448"/>
                </a:ln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lnTo>
                  <a:pt x="28541" y="10800"/>
                </a:lnTo>
                <a:lnTo>
                  <a:pt x="26888" y="10800"/>
                </a:lnTo>
                <a:lnTo>
                  <a:pt x="26888" y="17989"/>
                </a:lnTo>
                <a:lnTo>
                  <a:pt x="16269" y="17989"/>
                </a:lnTo>
                <a:lnTo>
                  <a:pt x="16269" y="10800"/>
                </a:lnTo>
                <a:lnTo>
                  <a:pt x="14615" y="10800"/>
                </a:lnTo>
                <a:close/>
              </a:path>
              <a:path fill="darkenLess" w="43157" h="21600">
                <a:moveTo>
                  <a:pt x="24155" y="6448"/>
                </a:move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close/>
              </a:path>
              <a:path fill="darkenLess" w="43157" h="21600">
                <a:moveTo>
                  <a:pt x="20656" y="14299"/>
                </a:moveTo>
                <a:lnTo>
                  <a:pt x="22501" y="14299"/>
                </a:lnTo>
                <a:lnTo>
                  <a:pt x="22501" y="17989"/>
                </a:lnTo>
                <a:lnTo>
                  <a:pt x="26888" y="17989"/>
                </a:lnTo>
                <a:lnTo>
                  <a:pt x="26888" y="10800"/>
                </a:lnTo>
                <a:lnTo>
                  <a:pt x="16269" y="10800"/>
                </a:lnTo>
                <a:lnTo>
                  <a:pt x="16269" y="17989"/>
                </a:lnTo>
                <a:lnTo>
                  <a:pt x="20656" y="1798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97840" y="233856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摇花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97840" y="33526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14572" y="8406"/>
                </a:moveTo>
                <a:lnTo>
                  <a:pt x="19002" y="8406"/>
                </a:lnTo>
                <a:lnTo>
                  <a:pt x="23424" y="3794"/>
                </a:lnTo>
                <a:lnTo>
                  <a:pt x="23424" y="17806"/>
                </a:lnTo>
                <a:lnTo>
                  <a:pt x="19002" y="13194"/>
                </a:lnTo>
                <a:lnTo>
                  <a:pt x="14572" y="13194"/>
                </a:lnTo>
                <a:close/>
              </a:path>
              <a:path fill="darken" w="43157" h="21600">
                <a:moveTo>
                  <a:pt x="25077" y="10800"/>
                </a:moveTo>
                <a:lnTo>
                  <a:pt x="28585" y="10800"/>
                </a:lnTo>
              </a:path>
              <a:path fill="darken" w="43157" h="21600">
                <a:moveTo>
                  <a:pt x="25077" y="8406"/>
                </a:moveTo>
                <a:lnTo>
                  <a:pt x="28585" y="5639"/>
                </a:lnTo>
              </a:path>
              <a:path fill="darken" w="43157" h="21600">
                <a:moveTo>
                  <a:pt x="25077" y="13194"/>
                </a:moveTo>
                <a:lnTo>
                  <a:pt x="28585" y="1596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桂花4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6019920" cy="5639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7197840" y="53352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桂花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4" action="ppaction://hlinksldjump"/>
          </p:cNvPr>
          <p:cNvSpPr/>
          <p:nvPr/>
        </p:nvSpPr>
        <p:spPr>
          <a:xfrm>
            <a:off x="7197840" y="137160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小桂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firstslide"/>
          </p:cNvPr>
          <p:cNvSpPr/>
          <p:nvPr/>
        </p:nvSpPr>
        <p:spPr>
          <a:xfrm>
            <a:off x="7197840" y="42670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21578" y="3837"/>
                </a:moveTo>
                <a:lnTo>
                  <a:pt x="24155" y="6448"/>
                </a:ln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lnTo>
                  <a:pt x="28541" y="10800"/>
                </a:lnTo>
                <a:lnTo>
                  <a:pt x="26888" y="10800"/>
                </a:lnTo>
                <a:lnTo>
                  <a:pt x="26888" y="17989"/>
                </a:lnTo>
                <a:lnTo>
                  <a:pt x="16269" y="17989"/>
                </a:lnTo>
                <a:lnTo>
                  <a:pt x="16269" y="10800"/>
                </a:lnTo>
                <a:lnTo>
                  <a:pt x="14615" y="10800"/>
                </a:lnTo>
                <a:close/>
              </a:path>
              <a:path fill="darkenLess" w="43157" h="21600">
                <a:moveTo>
                  <a:pt x="24155" y="6448"/>
                </a:move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close/>
              </a:path>
              <a:path fill="darkenLess" w="43157" h="21600">
                <a:moveTo>
                  <a:pt x="20656" y="14299"/>
                </a:moveTo>
                <a:lnTo>
                  <a:pt x="22501" y="14299"/>
                </a:lnTo>
                <a:lnTo>
                  <a:pt x="22501" y="17989"/>
                </a:lnTo>
                <a:lnTo>
                  <a:pt x="26888" y="17989"/>
                </a:lnTo>
                <a:lnTo>
                  <a:pt x="26888" y="10800"/>
                </a:lnTo>
                <a:lnTo>
                  <a:pt x="16269" y="10800"/>
                </a:lnTo>
                <a:lnTo>
                  <a:pt x="16269" y="17989"/>
                </a:lnTo>
                <a:lnTo>
                  <a:pt x="20656" y="1798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97840" y="233856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摇花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97840" y="33526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14572" y="8406"/>
                </a:moveTo>
                <a:lnTo>
                  <a:pt x="19002" y="8406"/>
                </a:lnTo>
                <a:lnTo>
                  <a:pt x="23424" y="3794"/>
                </a:lnTo>
                <a:lnTo>
                  <a:pt x="23424" y="17806"/>
                </a:lnTo>
                <a:lnTo>
                  <a:pt x="19002" y="13194"/>
                </a:lnTo>
                <a:lnTo>
                  <a:pt x="14572" y="13194"/>
                </a:lnTo>
                <a:close/>
              </a:path>
              <a:path fill="darken" w="43157" h="21600">
                <a:moveTo>
                  <a:pt x="25077" y="10800"/>
                </a:moveTo>
                <a:lnTo>
                  <a:pt x="28585" y="10800"/>
                </a:lnTo>
              </a:path>
              <a:path fill="darken" w="43157" h="21600">
                <a:moveTo>
                  <a:pt x="25077" y="8406"/>
                </a:moveTo>
                <a:lnTo>
                  <a:pt x="28585" y="5639"/>
                </a:lnTo>
              </a:path>
              <a:path fill="darken" w="43157" h="21600">
                <a:moveTo>
                  <a:pt x="25077" y="13194"/>
                </a:moveTo>
                <a:lnTo>
                  <a:pt x="28585" y="1596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桂花1" descr=""/>
          <p:cNvPicPr/>
          <p:nvPr/>
        </p:nvPicPr>
        <p:blipFill>
          <a:blip r:embed="rId2"/>
          <a:stretch/>
        </p:blipFill>
        <p:spPr>
          <a:xfrm>
            <a:off x="584280" y="685800"/>
            <a:ext cx="2997000" cy="4343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4" name="桂花2" descr=""/>
          <p:cNvPicPr/>
          <p:nvPr/>
        </p:nvPicPr>
        <p:blipFill>
          <a:blip r:embed="rId3"/>
          <a:stretch/>
        </p:blipFill>
        <p:spPr>
          <a:xfrm>
            <a:off x="3733920" y="2133720"/>
            <a:ext cx="289548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5" name="">
            <a:hlinkClick r:id="rId4" action="ppaction://hlinksldjump"/>
          </p:cNvPr>
          <p:cNvSpPr/>
          <p:nvPr/>
        </p:nvSpPr>
        <p:spPr>
          <a:xfrm>
            <a:off x="7197840" y="53352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桂花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5" action="ppaction://hlinksldjump"/>
          </p:cNvPr>
          <p:cNvSpPr/>
          <p:nvPr/>
        </p:nvSpPr>
        <p:spPr>
          <a:xfrm>
            <a:off x="7197840" y="137160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小桂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" action="ppaction://hlinkshowjump?jump=firstslide"/>
          </p:cNvPr>
          <p:cNvSpPr/>
          <p:nvPr/>
        </p:nvSpPr>
        <p:spPr>
          <a:xfrm>
            <a:off x="7197840" y="42670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21578" y="3837"/>
                </a:moveTo>
                <a:lnTo>
                  <a:pt x="24155" y="6448"/>
                </a:ln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lnTo>
                  <a:pt x="28541" y="10800"/>
                </a:lnTo>
                <a:lnTo>
                  <a:pt x="26888" y="10800"/>
                </a:lnTo>
                <a:lnTo>
                  <a:pt x="26888" y="17989"/>
                </a:lnTo>
                <a:lnTo>
                  <a:pt x="16269" y="17989"/>
                </a:lnTo>
                <a:lnTo>
                  <a:pt x="16269" y="10800"/>
                </a:lnTo>
                <a:lnTo>
                  <a:pt x="14615" y="10800"/>
                </a:lnTo>
                <a:close/>
              </a:path>
              <a:path fill="darkenLess" w="43157" h="21600">
                <a:moveTo>
                  <a:pt x="24155" y="6448"/>
                </a:move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close/>
              </a:path>
              <a:path fill="darkenLess" w="43157" h="21600">
                <a:moveTo>
                  <a:pt x="20656" y="14299"/>
                </a:moveTo>
                <a:lnTo>
                  <a:pt x="22501" y="14299"/>
                </a:lnTo>
                <a:lnTo>
                  <a:pt x="22501" y="17989"/>
                </a:lnTo>
                <a:lnTo>
                  <a:pt x="26888" y="17989"/>
                </a:lnTo>
                <a:lnTo>
                  <a:pt x="26888" y="10800"/>
                </a:lnTo>
                <a:lnTo>
                  <a:pt x="16269" y="10800"/>
                </a:lnTo>
                <a:lnTo>
                  <a:pt x="16269" y="17989"/>
                </a:lnTo>
                <a:lnTo>
                  <a:pt x="20656" y="1798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6" action="ppaction://hlinksldjump"/>
          </p:cNvPr>
          <p:cNvSpPr/>
          <p:nvPr/>
        </p:nvSpPr>
        <p:spPr>
          <a:xfrm>
            <a:off x="7197840" y="233856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摇花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97840" y="33526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14572" y="8406"/>
                </a:moveTo>
                <a:lnTo>
                  <a:pt x="19002" y="8406"/>
                </a:lnTo>
                <a:lnTo>
                  <a:pt x="23424" y="3794"/>
                </a:lnTo>
                <a:lnTo>
                  <a:pt x="23424" y="17806"/>
                </a:lnTo>
                <a:lnTo>
                  <a:pt x="19002" y="13194"/>
                </a:lnTo>
                <a:lnTo>
                  <a:pt x="14572" y="13194"/>
                </a:lnTo>
                <a:close/>
              </a:path>
              <a:path fill="darken" w="43157" h="21600">
                <a:moveTo>
                  <a:pt x="25077" y="10800"/>
                </a:moveTo>
                <a:lnTo>
                  <a:pt x="28585" y="10800"/>
                </a:lnTo>
              </a:path>
              <a:path fill="darken" w="43157" h="21600">
                <a:moveTo>
                  <a:pt x="25077" y="8406"/>
                </a:moveTo>
                <a:lnTo>
                  <a:pt x="28585" y="5639"/>
                </a:lnTo>
              </a:path>
              <a:path fill="darken" w="43157" h="21600">
                <a:moveTo>
                  <a:pt x="25077" y="13194"/>
                </a:moveTo>
                <a:lnTo>
                  <a:pt x="28585" y="1596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guihua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5943600" cy="563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197840" y="33526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14572" y="8406"/>
                </a:moveTo>
                <a:lnTo>
                  <a:pt x="19002" y="8406"/>
                </a:lnTo>
                <a:lnTo>
                  <a:pt x="23424" y="3794"/>
                </a:lnTo>
                <a:lnTo>
                  <a:pt x="23424" y="17806"/>
                </a:lnTo>
                <a:lnTo>
                  <a:pt x="19002" y="13194"/>
                </a:lnTo>
                <a:lnTo>
                  <a:pt x="14572" y="13194"/>
                </a:lnTo>
                <a:close/>
              </a:path>
              <a:path fill="darken" w="43157" h="21600">
                <a:moveTo>
                  <a:pt x="25077" y="10800"/>
                </a:moveTo>
                <a:lnTo>
                  <a:pt x="28585" y="10800"/>
                </a:lnTo>
              </a:path>
              <a:path fill="darken" w="43157" h="21600">
                <a:moveTo>
                  <a:pt x="25077" y="8406"/>
                </a:moveTo>
                <a:lnTo>
                  <a:pt x="28585" y="5639"/>
                </a:lnTo>
              </a:path>
              <a:path fill="darken" w="43157" h="21600">
                <a:moveTo>
                  <a:pt x="25077" y="13194"/>
                </a:moveTo>
                <a:lnTo>
                  <a:pt x="28585" y="1596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7197840" y="53352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桂花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7197840" y="137160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小桂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7197840" y="233856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摇花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firstslide"/>
          </p:cNvPr>
          <p:cNvSpPr/>
          <p:nvPr/>
        </p:nvSpPr>
        <p:spPr>
          <a:xfrm>
            <a:off x="7197840" y="42670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21578" y="3837"/>
                </a:moveTo>
                <a:lnTo>
                  <a:pt x="24155" y="6448"/>
                </a:ln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lnTo>
                  <a:pt x="28541" y="10800"/>
                </a:lnTo>
                <a:lnTo>
                  <a:pt x="26888" y="10800"/>
                </a:lnTo>
                <a:lnTo>
                  <a:pt x="26888" y="17989"/>
                </a:lnTo>
                <a:lnTo>
                  <a:pt x="16269" y="17989"/>
                </a:lnTo>
                <a:lnTo>
                  <a:pt x="16269" y="10800"/>
                </a:lnTo>
                <a:lnTo>
                  <a:pt x="14615" y="10800"/>
                </a:lnTo>
                <a:close/>
              </a:path>
              <a:path fill="darkenLess" w="43157" h="21600">
                <a:moveTo>
                  <a:pt x="24155" y="6448"/>
                </a:move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close/>
              </a:path>
              <a:path fill="darkenLess" w="43157" h="21600">
                <a:moveTo>
                  <a:pt x="20656" y="14299"/>
                </a:moveTo>
                <a:lnTo>
                  <a:pt x="22501" y="14299"/>
                </a:lnTo>
                <a:lnTo>
                  <a:pt x="22501" y="17989"/>
                </a:lnTo>
                <a:lnTo>
                  <a:pt x="26888" y="17989"/>
                </a:lnTo>
                <a:lnTo>
                  <a:pt x="26888" y="10800"/>
                </a:lnTo>
                <a:lnTo>
                  <a:pt x="16269" y="10800"/>
                </a:lnTo>
                <a:lnTo>
                  <a:pt x="16269" y="17989"/>
                </a:lnTo>
                <a:lnTo>
                  <a:pt x="20656" y="1798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7197840" y="53352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桂花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3" action="ppaction://hlinksldjump"/>
          </p:cNvPr>
          <p:cNvSpPr/>
          <p:nvPr/>
        </p:nvSpPr>
        <p:spPr>
          <a:xfrm>
            <a:off x="7197840" y="137160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小桂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firstslide"/>
          </p:cNvPr>
          <p:cNvSpPr/>
          <p:nvPr/>
        </p:nvSpPr>
        <p:spPr>
          <a:xfrm>
            <a:off x="7197840" y="42670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21578" y="3837"/>
                </a:moveTo>
                <a:lnTo>
                  <a:pt x="24155" y="6448"/>
                </a:ln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lnTo>
                  <a:pt x="28541" y="10800"/>
                </a:lnTo>
                <a:lnTo>
                  <a:pt x="26888" y="10800"/>
                </a:lnTo>
                <a:lnTo>
                  <a:pt x="26888" y="17989"/>
                </a:lnTo>
                <a:lnTo>
                  <a:pt x="16269" y="17989"/>
                </a:lnTo>
                <a:lnTo>
                  <a:pt x="16269" y="10800"/>
                </a:lnTo>
                <a:lnTo>
                  <a:pt x="14615" y="10800"/>
                </a:lnTo>
                <a:close/>
              </a:path>
              <a:path fill="darkenLess" w="43157" h="21600">
                <a:moveTo>
                  <a:pt x="24155" y="6448"/>
                </a:move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close/>
              </a:path>
              <a:path fill="darkenLess" w="43157" h="21600">
                <a:moveTo>
                  <a:pt x="20656" y="14299"/>
                </a:moveTo>
                <a:lnTo>
                  <a:pt x="22501" y="14299"/>
                </a:lnTo>
                <a:lnTo>
                  <a:pt x="22501" y="17989"/>
                </a:lnTo>
                <a:lnTo>
                  <a:pt x="26888" y="17989"/>
                </a:lnTo>
                <a:lnTo>
                  <a:pt x="26888" y="10800"/>
                </a:lnTo>
                <a:lnTo>
                  <a:pt x="16269" y="10800"/>
                </a:lnTo>
                <a:lnTo>
                  <a:pt x="16269" y="17989"/>
                </a:lnTo>
                <a:lnTo>
                  <a:pt x="20656" y="1798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4" action="ppaction://hlinksldjump"/>
          </p:cNvPr>
          <p:cNvSpPr/>
          <p:nvPr/>
        </p:nvSpPr>
        <p:spPr>
          <a:xfrm>
            <a:off x="7197840" y="233856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摇花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97840" y="33526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14572" y="8406"/>
                </a:moveTo>
                <a:lnTo>
                  <a:pt x="19002" y="8406"/>
                </a:lnTo>
                <a:lnTo>
                  <a:pt x="23424" y="3794"/>
                </a:lnTo>
                <a:lnTo>
                  <a:pt x="23424" y="17806"/>
                </a:lnTo>
                <a:lnTo>
                  <a:pt x="19002" y="13194"/>
                </a:lnTo>
                <a:lnTo>
                  <a:pt x="14572" y="13194"/>
                </a:lnTo>
                <a:close/>
              </a:path>
              <a:path fill="darken" w="43157" h="21600">
                <a:moveTo>
                  <a:pt x="25077" y="10800"/>
                </a:moveTo>
                <a:lnTo>
                  <a:pt x="28585" y="10800"/>
                </a:lnTo>
              </a:path>
              <a:path fill="darken" w="43157" h="21600">
                <a:moveTo>
                  <a:pt x="25077" y="8406"/>
                </a:moveTo>
                <a:lnTo>
                  <a:pt x="28585" y="5639"/>
                </a:lnTo>
              </a:path>
              <a:path fill="darken" w="43157" h="21600">
                <a:moveTo>
                  <a:pt x="25077" y="13194"/>
                </a:moveTo>
                <a:lnTo>
                  <a:pt x="28585" y="1596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10:01:12Z</dcterms:created>
  <dc:creator>jiawh</dc:creator>
  <dc:description/>
  <dc:language>en-US</dc:language>
  <cp:lastModifiedBy>jiawh</cp:lastModifiedBy>
  <dcterms:modified xsi:type="dcterms:W3CDTF">2003-04-23T02:08:27Z</dcterms:modified>
  <cp:revision>16</cp:revision>
  <dc:subject/>
  <dc:title>26＊桂花雨</dc:title>
</cp:coreProperties>
</file>