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E78F-EEAF-4063-9049-9B65965C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E54-48A9-4B6A-94EC-15FBF0CB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A29-B73B-446C-886A-C0E25CB1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7CE-37E2-4924-BDA7-63DDF7EF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87C-B3AD-4DDD-AB07-F4B5549A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E65-99FC-45AF-84AF-44E9DC1A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8E3-EF30-43D9-A2C4-BD54DDFD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587-CFB2-4B0C-9433-DA1FC2BC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08F-E658-4279-9CF9-712980AE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2A4-2B2F-450E-99B4-8104641F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5AB-1F4E-4BED-8485-ADCCD3C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035-3375-4524-B621-EF50A22B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F3E2-7A93-4BC1-A500-1334C6608C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＊桂花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桂花4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6019920" cy="563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桂花1" descr=""/>
          <p:cNvPicPr/>
          <p:nvPr/>
        </p:nvPicPr>
        <p:blipFill>
          <a:blip r:embed="rId2"/>
          <a:stretch/>
        </p:blipFill>
        <p:spPr>
          <a:xfrm>
            <a:off x="584280" y="685800"/>
            <a:ext cx="299700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桂花2" descr=""/>
          <p:cNvPicPr/>
          <p:nvPr/>
        </p:nvPicPr>
        <p:blipFill>
          <a:blip r:embed="rId3"/>
          <a:stretch/>
        </p:blipFill>
        <p:spPr>
          <a:xfrm>
            <a:off x="3733920" y="2133720"/>
            <a:ext cx="28954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6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uihua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5943600" cy="563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0:01:12Z</dcterms:created>
  <dc:creator>jiawh</dc:creator>
  <dc:description/>
  <dc:language>en-US</dc:language>
  <cp:lastModifiedBy>jiawh</cp:lastModifiedBy>
  <dcterms:modified xsi:type="dcterms:W3CDTF">2003-04-23T02:08:27Z</dcterms:modified>
  <cp:revision>16</cp:revision>
  <dc:subject/>
  <dc:title>26＊桂花雨</dc:title>
</cp:coreProperties>
</file>