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93EB-DBCA-4A74-9E1C-5A4F3B19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28E-C3D2-4E4F-85D6-A900CF8C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58D-C288-4E13-82FB-FFFE85A2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AE49-AE8E-4A85-83AE-6BC0C1D0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89AB-E259-48F1-81D8-F3D2FD6D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E20-81BA-4FA8-927F-DCA205C0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B835-EB2A-43AA-B709-8F5468E6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12C-AD5F-40A3-8E77-8408451A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0461-E241-48CE-8FE6-74BB0BFF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427-A192-4F1F-9235-4E70BEC4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0485-3B99-49F0-BE32-2E4022B6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8DF-2EBC-4540-A135-E1D6C8B7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74E6-B678-4C7D-BF12-EC78BB1886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＊桂花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桂花4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6019920" cy="563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桂花1" descr=""/>
          <p:cNvPicPr/>
          <p:nvPr/>
        </p:nvPicPr>
        <p:blipFill>
          <a:blip r:embed="rId2"/>
          <a:stretch/>
        </p:blipFill>
        <p:spPr>
          <a:xfrm>
            <a:off x="584280" y="685800"/>
            <a:ext cx="2997000" cy="4343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" name="桂花2" descr=""/>
          <p:cNvPicPr/>
          <p:nvPr/>
        </p:nvPicPr>
        <p:blipFill>
          <a:blip r:embed="rId3"/>
          <a:stretch/>
        </p:blipFill>
        <p:spPr>
          <a:xfrm>
            <a:off x="3733920" y="2133720"/>
            <a:ext cx="289548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6" action="ppaction://hlinksldjump"/>
          </p:cNvPr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guihua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5943600" cy="563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4" action="ppaction://hlinksldjump"/>
          </p:cNvPr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0:01:12Z</dcterms:created>
  <dc:creator>jiawh</dc:creator>
  <dc:description/>
  <dc:language>en-US</dc:language>
  <cp:lastModifiedBy>jiawh</cp:lastModifiedBy>
  <dcterms:modified xsi:type="dcterms:W3CDTF">2003-04-23T02:08:27Z</dcterms:modified>
  <cp:revision>16</cp:revision>
  <dc:subject/>
  <dc:title>26＊桂花雨</dc:title>
</cp:coreProperties>
</file>