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811-42E6-40F3-99E3-E403DBB6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C63-6D95-4A6B-B99F-CBFE5A65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BC27-DB18-4462-96E5-DB2D2F36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DE9-8965-42D1-AB33-8902B1D4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1F8-026F-41A6-BB07-E9706D32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BAC3-AC4E-4E60-BD95-A333BA87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5880-0B4D-495D-B995-02002AC6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7F2-01CC-47D9-9619-666F2BE3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AFE0-C614-4C0E-AAE1-F1AA3EA8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428B-80BC-4110-BFFE-07824686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607-5CB4-4A78-A1D7-ACABF260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2BDA-BFCD-4026-B2C5-33D56929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962A-62CA-48F8-B1F9-F230DFF44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8fc"/>
            </a:gs>
            <a:gs pos="100000">
              <a:srgbClr val="00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09480"/>
            <a:ext cx="4343400" cy="76428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小学语文第一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52480" y="2133720"/>
            <a:ext cx="5486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2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ff"/>
                </a:solidFill>
                <a:latin typeface="隶书"/>
              </a:rPr>
              <a:t>汉语拼音总复习课件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ff00ff"/>
              </a:solidFill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：夏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4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6172200" cy="6095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7480" y="685800"/>
            <a:ext cx="1277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斑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d5" descr=""/>
          <p:cNvPicPr/>
          <p:nvPr/>
        </p:nvPicPr>
        <p:blipFill>
          <a:blip r:embed="rId1"/>
          <a:stretch/>
        </p:blipFill>
        <p:spPr>
          <a:xfrm>
            <a:off x="1905120" y="0"/>
            <a:ext cx="670536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880" y="762120"/>
            <a:ext cx="1399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猴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d6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29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9480" y="609480"/>
            <a:ext cx="13993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长颈鹿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7" descr="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8600" y="838080"/>
            <a:ext cx="13993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熊猫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d8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3160" y="533520"/>
            <a:ext cx="1399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老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d9" descr="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77200" y="762120"/>
            <a:ext cx="1399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大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3049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声母表：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62120" y="1600200"/>
            <a:ext cx="761976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b( )( )( )  d( )( )( )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9( )( )      j ( )( )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z ( ) ( )   zh( )( )( )( )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        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(  )  (   )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声母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676520"/>
            <a:ext cx="739152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  ( P ) ( m ) ( f) d ( t ) ( n ) ( l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9 ( k )  ( h )       j   ( q  ) ( x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z  ( c)  ( s )     zh ( ch ) ( sh )( r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  y  )         (  w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4572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韵母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371600"/>
            <a:ext cx="73152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隶书"/>
              </a:rPr>
              <a:t>a( )( ) i( )( 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隶书"/>
              </a:rPr>
              <a:t>ai( )( )ao( )( )ie( )( 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隶书"/>
              </a:rPr>
              <a:t>an( )( )( )( 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隶书"/>
              </a:rPr>
              <a:t>ang( )( )( )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0492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韵母表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752480"/>
            <a:ext cx="7543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( o )( e )    i( u )( u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i( ei )( ui )  ao( ou )( iu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ie( ue  )( er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n( en )( in  )( un  )( un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ng( eng  )( ing )( ong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19051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19051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43434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43434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2" descr=""/>
          <p:cNvPicPr/>
          <p:nvPr/>
        </p:nvPicPr>
        <p:blipFill>
          <a:blip r:embed="rId1"/>
          <a:stretch/>
        </p:blipFill>
        <p:spPr>
          <a:xfrm>
            <a:off x="2362320" y="0"/>
            <a:ext cx="6019560" cy="6705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362520" y="1219320"/>
            <a:ext cx="21913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丹顶鹤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3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66640" y="533520"/>
            <a:ext cx="1185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孔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10" descr=""/>
          <p:cNvPicPr/>
          <p:nvPr/>
        </p:nvPicPr>
        <p:blipFill>
          <a:blip r:embed="rId1"/>
          <a:stretch/>
        </p:blipFill>
        <p:spPr>
          <a:xfrm>
            <a:off x="1981080" y="0"/>
            <a:ext cx="7162920" cy="6629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6840" y="380880"/>
            <a:ext cx="10947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鹦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d1" descr="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5800" y="457200"/>
            <a:ext cx="1399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猩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06:39:52Z</dcterms:created>
  <dc:creator>4</dc:creator>
  <dc:description/>
  <dc:language>en-US</dc:language>
  <cp:lastModifiedBy>4</cp:lastModifiedBy>
  <dcterms:modified xsi:type="dcterms:W3CDTF">2000-01-21T02:09:20Z</dcterms:modified>
  <cp:revision>2</cp:revision>
  <dc:subject/>
  <dc:title>没有幻灯片标题</dc:title>
</cp:coreProperties>
</file>