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690-9452-4AE2-B32D-81061E6D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7DD-7C70-4EB4-8619-AEFE2D9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6AC-EC0C-4362-8298-6B0232CF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1B3-EA6E-461A-9A93-72E4DB92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730-1A60-4C4A-9D38-20CB620E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B49-771C-43BC-A9CA-05B04584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274-7143-4F41-B796-B5893141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0F6-540E-4397-9BE6-896F9888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C38-E75A-4A6F-B2DF-6D53D92E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101-C15A-4514-A4C9-5D513690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F67-1F9B-4011-9C43-45EABDC3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A3E-148B-4C06-A487-1A7C5FFE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D0BD-C8CD-4CC9-9AE1-D9503505D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8fc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09480"/>
            <a:ext cx="4343400" cy="76428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学语文第一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2133720"/>
            <a:ext cx="5486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汉语拼音总复习课件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：夏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4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6172200" cy="609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7480" y="685800"/>
            <a:ext cx="1277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斑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d5" descr=""/>
          <p:cNvPicPr/>
          <p:nvPr/>
        </p:nvPicPr>
        <p:blipFill>
          <a:blip r:embed="rId1"/>
          <a:stretch/>
        </p:blipFill>
        <p:spPr>
          <a:xfrm>
            <a:off x="1905120" y="0"/>
            <a:ext cx="67053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880" y="762120"/>
            <a:ext cx="1399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猴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6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9480" y="609480"/>
            <a:ext cx="13993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长颈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7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600" y="838080"/>
            <a:ext cx="1399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熊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8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3160" y="533520"/>
            <a:ext cx="1399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老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9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7200" y="762120"/>
            <a:ext cx="1399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大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声母表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62120" y="1600200"/>
            <a:ext cx="76197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b( )( )( )  d( )( )( )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9( )( )      j ( )( )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z ( ) ( )   zh( )( )( )( )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        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(  )  (   )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声母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676520"/>
            <a:ext cx="739152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  ( P ) ( m ) ( f) d ( t ) ( n ) ( 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 ( k )  ( h )       j   ( q  ) ( x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z  ( c)  ( s )     zh ( ch ) ( sh )( r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  y  )         (  w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4572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韵母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315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a( )( ) i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隶书"/>
              </a:rPr>
              <a:t>ai( )( )ao( )( )ie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隶书"/>
              </a:rPr>
              <a:t>an( )( )( )( 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隶书"/>
              </a:rPr>
              <a:t>ang( )( )( )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韵母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75248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( o )( e )    i( u )( u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i( ei )( ui )  ao( ou )( iu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e( ue  )( er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n( en )( in  )( un  )( un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ng( eng  )( ing )( ong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19051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9051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58128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4343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2" descr=""/>
          <p:cNvPicPr/>
          <p:nvPr/>
        </p:nvPicPr>
        <p:blipFill>
          <a:blip r:embed="rId1"/>
          <a:stretch/>
        </p:blipFill>
        <p:spPr>
          <a:xfrm>
            <a:off x="2362320" y="0"/>
            <a:ext cx="6019560" cy="6705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362520" y="1219320"/>
            <a:ext cx="2191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丹顶鹤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3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6640" y="533520"/>
            <a:ext cx="1185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孔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10" descr=""/>
          <p:cNvPicPr/>
          <p:nvPr/>
        </p:nvPicPr>
        <p:blipFill>
          <a:blip r:embed="rId1"/>
          <a:stretch/>
        </p:blipFill>
        <p:spPr>
          <a:xfrm>
            <a:off x="1981080" y="0"/>
            <a:ext cx="7162920" cy="662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6840" y="380880"/>
            <a:ext cx="10947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鹦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1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5800" y="457200"/>
            <a:ext cx="1399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猩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6:39:52Z</dcterms:created>
  <dc:creator>4</dc:creator>
  <dc:description/>
  <dc:language>en-US</dc:language>
  <cp:lastModifiedBy>4</cp:lastModifiedBy>
  <dcterms:modified xsi:type="dcterms:W3CDTF">2000-01-21T02:09:20Z</dcterms:modified>
  <cp:revision>2</cp:revision>
  <dc:subject/>
  <dc:title>没有幻灯片标题</dc:title>
</cp:coreProperties>
</file>