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40A-A128-47A7-BF97-5800C14E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66C-4E76-47EE-950A-382AC224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FC8-1057-497A-88DC-D7597B7A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BC0E-395F-4C4B-8A2B-BECC5669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ED5-DFEE-4886-8BE8-C6BC0352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8BE-8131-4CBF-AA60-F837B72A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AF3C-30C1-4DDF-8266-543378E3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42E-314B-44CE-832D-B9982B6C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C27-FA7C-49CC-8351-50358622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254-2804-4D75-91B2-E9CADDC1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7D38-A659-4F34-8F8C-C297924B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088-5555-4F7A-9506-2F5C2337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5A9D-91C4-4EFE-AA70-C7F413776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8fc"/>
            </a:gs>
            <a:gs pos="100000">
              <a:srgbClr val="00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09480"/>
            <a:ext cx="4343400" cy="76428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小学语文第一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52480" y="2133720"/>
            <a:ext cx="5486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2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ff"/>
                </a:solidFill>
                <a:latin typeface="隶书"/>
              </a:rPr>
              <a:t>汉语拼音总复习课件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ff00ff"/>
              </a:solidFill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：夏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4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6172200" cy="6095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7480" y="685800"/>
            <a:ext cx="1277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斑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d5" descr=""/>
          <p:cNvPicPr/>
          <p:nvPr/>
        </p:nvPicPr>
        <p:blipFill>
          <a:blip r:embed="rId1"/>
          <a:stretch/>
        </p:blipFill>
        <p:spPr>
          <a:xfrm>
            <a:off x="1905120" y="0"/>
            <a:ext cx="670536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880" y="762120"/>
            <a:ext cx="1399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猴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d6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29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9480" y="609480"/>
            <a:ext cx="13993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长颈鹿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7" descr="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8600" y="838080"/>
            <a:ext cx="13993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熊猫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d8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3160" y="533520"/>
            <a:ext cx="1399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老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d9" descr="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77200" y="762120"/>
            <a:ext cx="1399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大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3049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声母表：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62120" y="1600200"/>
            <a:ext cx="761976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b( )( )( )  d( )( )( )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9( )( )      j ( )( )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z ( ) ( )   zh( )( )( )( )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        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(  )  (   )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72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声母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676520"/>
            <a:ext cx="739152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  ( P ) ( m ) ( f) d ( t ) ( n ) ( l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9 ( k )  ( h )       j   ( q  ) ( x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z  ( c)  ( s )     zh ( ch ) ( sh )( r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  y  )         (  w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4572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韵母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371600"/>
            <a:ext cx="73152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隶书"/>
              </a:rPr>
              <a:t>a( )( ) i( )( 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隶书"/>
              </a:rPr>
              <a:t>ai( )( )ao( )( )ie( )( 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隶书"/>
              </a:rPr>
              <a:t>an( )( )( )( 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隶书"/>
              </a:rPr>
              <a:t>ang( )( )( )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0492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韵母表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752480"/>
            <a:ext cx="7543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( o )( e )    i( u )( u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i( ei )( ui )  ao( ou )( iu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ie( ue  )( er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n( en )( in  )( un  )( un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ng( eng  )( ing )( ong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19051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19051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43434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43434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2" descr=""/>
          <p:cNvPicPr/>
          <p:nvPr/>
        </p:nvPicPr>
        <p:blipFill>
          <a:blip r:embed="rId1"/>
          <a:stretch/>
        </p:blipFill>
        <p:spPr>
          <a:xfrm>
            <a:off x="2362320" y="0"/>
            <a:ext cx="6019560" cy="6705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362520" y="1219320"/>
            <a:ext cx="21913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丹顶鹤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3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66640" y="533520"/>
            <a:ext cx="1185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孔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10" descr=""/>
          <p:cNvPicPr/>
          <p:nvPr/>
        </p:nvPicPr>
        <p:blipFill>
          <a:blip r:embed="rId1"/>
          <a:stretch/>
        </p:blipFill>
        <p:spPr>
          <a:xfrm>
            <a:off x="1981080" y="0"/>
            <a:ext cx="7162920" cy="6629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6840" y="380880"/>
            <a:ext cx="10947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鹦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d1" descr="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5800" y="457200"/>
            <a:ext cx="1399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猩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06:39:52Z</dcterms:created>
  <dc:creator>4</dc:creator>
  <dc:description/>
  <dc:language>en-US</dc:language>
  <cp:lastModifiedBy>4</cp:lastModifiedBy>
  <dcterms:modified xsi:type="dcterms:W3CDTF">2000-01-21T02:09:20Z</dcterms:modified>
  <cp:revision>2</cp:revision>
  <dc:subject/>
  <dc:title>没有幻灯片标题</dc:title>
</cp:coreProperties>
</file>