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31F-F778-4F3B-B96C-E013CE50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386-36DA-427A-8B83-8571F62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488-06C9-4DAF-81FA-D9113290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AFA-DEFB-4112-B73D-4A08F7B1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6DE-4158-40BB-994F-4BFE235C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F21-AE4D-4319-8C93-2F2B1FDD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CC4-84F3-46B3-8052-D875F14F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240-B064-4A1C-9C19-A251A70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723-4808-48F9-8497-D27F6BB6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899-79AE-4010-B355-932AFCC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267-1927-417E-807C-7DB84596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F02-AC98-4D55-BA02-535D92D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6CD3-9A33-426F-9F96-852F293B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8fc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4343400" cy="764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学语文第一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2133720"/>
            <a:ext cx="5486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汉语拼音总复习课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：夏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7480" y="6858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斑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5" descr=""/>
          <p:cNvPicPr/>
          <p:nvPr/>
        </p:nvPicPr>
        <p:blipFill>
          <a:blip r:embed="rId1"/>
          <a:stretch/>
        </p:blipFill>
        <p:spPr>
          <a:xfrm>
            <a:off x="1905120" y="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880" y="762120"/>
            <a:ext cx="1399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猴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6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9480" y="609480"/>
            <a:ext cx="1399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长颈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7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600" y="838080"/>
            <a:ext cx="1399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熊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8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160" y="533520"/>
            <a:ext cx="1399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老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9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200" y="762120"/>
            <a:ext cx="1399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大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声母表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600200"/>
            <a:ext cx="7619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( )( )( )  d( )( )( 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9( )( )      j ( )( )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z ( ) ( )   zh( )( )( )( )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   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(  )  (   )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声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676520"/>
            <a:ext cx="73915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  ( P ) ( m ) ( f) d ( t ) ( n ) ( 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 ( k )  ( h )       j   ( q  ) ( x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z  ( c)  ( s )     zh ( ch ) ( sh )( r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y  )         (  w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315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a( )( ) i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ai( )( )ao( )( )ie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隶书"/>
              </a:rPr>
              <a:t>an( )( )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ang( )( )( )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( o )( e )    i( u )( u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( ei )( ui )  ao( ou )( iu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e( ue  )( er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( en )( in  )( un  )( u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g( eng  )( ing )( ong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2" descr=""/>
          <p:cNvPicPr/>
          <p:nvPr/>
        </p:nvPicPr>
        <p:blipFill>
          <a:blip r:embed="rId1"/>
          <a:stretch/>
        </p:blipFill>
        <p:spPr>
          <a:xfrm>
            <a:off x="2362320" y="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362520" y="1219320"/>
            <a:ext cx="2191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丹顶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3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6640" y="533520"/>
            <a:ext cx="118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孔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10" descr=""/>
          <p:cNvPicPr/>
          <p:nvPr/>
        </p:nvPicPr>
        <p:blipFill>
          <a:blip r:embed="rId1"/>
          <a:stretch/>
        </p:blipFill>
        <p:spPr>
          <a:xfrm>
            <a:off x="1981080" y="0"/>
            <a:ext cx="716292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840" y="380880"/>
            <a:ext cx="10947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鹦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1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5800" y="45720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猩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6:39:52Z</dcterms:created>
  <dc:creator>4</dc:creator>
  <dc:description/>
  <dc:language>en-US</dc:language>
  <cp:lastModifiedBy>4</cp:lastModifiedBy>
  <dcterms:modified xsi:type="dcterms:W3CDTF">2000-01-21T02:09:20Z</dcterms:modified>
  <cp:revision>2</cp:revision>
  <dc:subject/>
  <dc:title>没有幻灯片标题</dc:title>
</cp:coreProperties>
</file>