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239500"/>
  <p:notesSz cx="6883400" cy="9558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6F7-78EA-4C2A-AF47-E23DB319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123-9BB4-4939-A13A-112F70B8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EF9-461B-45E4-B160-761A9095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464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769080"/>
            <a:ext cx="218952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D8C-3224-4576-8D16-FC70F023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72E-D89C-4E9D-B934-D9909B41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80D-45AB-4614-BBA3-DFE512F3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E3D0-847E-4D39-8EF0-462331EF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82FE-14DD-465F-91E7-0A013B78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998280"/>
            <a:ext cx="6800760" cy="86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A87-3004-4138-98E3-1EC413E1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047-4E8D-4511-A693-ECDCD05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7690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E9F-E1BE-4A2B-87D9-7B532BE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46480"/>
            <a:ext cx="331848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769080"/>
            <a:ext cx="6800760" cy="32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FCC-059E-4307-8FCA-97FCDFCF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998280"/>
            <a:ext cx="680076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46480"/>
            <a:ext cx="6800760" cy="67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240920"/>
            <a:ext cx="25333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240920"/>
            <a:ext cx="16668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2E72-089E-420C-BDE8-13AC53F8F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5638680" cy="8762760"/>
          </a:xfrm>
          <a:prstGeom prst="rect">
            <a:avLst/>
          </a:prstGeom>
          <a:ln w="0">
            <a:noFill/>
          </a:ln>
        </p:spPr>
      </p:pic>
      <p:pic>
        <p:nvPicPr>
          <p:cNvPr id="42" name="2" descr=""/>
          <p:cNvPicPr/>
          <p:nvPr/>
        </p:nvPicPr>
        <p:blipFill>
          <a:blip r:embed="rId2"/>
          <a:stretch/>
        </p:blipFill>
        <p:spPr>
          <a:xfrm>
            <a:off x="1600200" y="5181480"/>
            <a:ext cx="24940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03:19:31Z</dcterms:created>
  <dc:creator>ydj</dc:creator>
  <dc:description/>
  <dc:language>en-US</dc:language>
  <cp:lastModifiedBy>ydj</cp:lastModifiedBy>
  <cp:lastPrinted>1998-11-04T03:47:24Z</cp:lastPrinted>
  <dcterms:modified xsi:type="dcterms:W3CDTF">1998-11-04T03:52:02Z</dcterms:modified>
  <cp:revision>1</cp:revision>
  <dc:subject/>
  <dc:title>没有幻灯片标题</dc:title>
</cp:coreProperties>
</file>