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239500"/>
  <p:notesSz cx="6883400" cy="9558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F13-78D5-4BA7-A5D8-1EEAD874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905-3D9D-465A-BFAF-365E229B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0A1-2A60-4C52-A8CF-EED564DE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ED8-755D-4527-A2B7-9006391D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4BD-1B3A-4430-BBBB-17B8BF29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07A-F1BD-437B-B910-585C80AF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A03-30E6-4156-B0DB-C7663999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A9C-2A17-4C32-878E-01E49589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998280"/>
            <a:ext cx="6800760" cy="86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047-E5E0-4942-B57F-8BA5517A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429-CB0D-412E-B512-7C57E59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E05-03AD-482C-A285-94F1EB94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B78-B81D-4537-B1BE-F3B508A4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240920"/>
            <a:ext cx="25333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C2C1-9F10-4139-B348-3436CAC61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5638680" cy="8762760"/>
          </a:xfrm>
          <a:prstGeom prst="rect">
            <a:avLst/>
          </a:prstGeom>
          <a:ln w="0">
            <a:noFill/>
          </a:ln>
        </p:spPr>
      </p:pic>
      <p:pic>
        <p:nvPicPr>
          <p:cNvPr id="42" name="2" descr=""/>
          <p:cNvPicPr/>
          <p:nvPr/>
        </p:nvPicPr>
        <p:blipFill>
          <a:blip r:embed="rId2"/>
          <a:stretch/>
        </p:blipFill>
        <p:spPr>
          <a:xfrm>
            <a:off x="1600200" y="5181480"/>
            <a:ext cx="2494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3:19:31Z</dcterms:created>
  <dc:creator>ydj</dc:creator>
  <dc:description/>
  <dc:language>en-US</dc:language>
  <cp:lastModifiedBy>ydj</cp:lastModifiedBy>
  <cp:lastPrinted>1998-11-04T03:47:24Z</cp:lastPrinted>
  <dcterms:modified xsi:type="dcterms:W3CDTF">1998-11-04T03:52:02Z</dcterms:modified>
  <cp:revision>1</cp:revision>
  <dc:subject/>
  <dc:title>没有幻灯片标题</dc:title>
</cp:coreProperties>
</file>