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239500"/>
  <p:notesSz cx="6883400" cy="9558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803-2BA2-41E8-AE9C-F4C40D56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E77-C8C7-42D8-8C83-C1B98DFC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C78-B180-49DA-AA49-2D70B240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ABD-1B62-4E51-B9EA-727FC898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D18-F64D-44EB-B6E0-0DD2316E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7D4-5212-4070-87AF-BF4C8C1B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F1C-20C0-4FDA-ABF5-29ADB4E7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CB8-B479-43F5-A768-AE1EF70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998280"/>
            <a:ext cx="6800760" cy="86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088-A2D6-4F01-B325-AA99134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BD0-7A09-4E57-ACD1-971872F1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545-AD8D-439C-90F6-3FCA8E9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200-B844-4CED-ADD2-1A95CB12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240920"/>
            <a:ext cx="25333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C786-3A01-421E-9020-8ACEE5231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5638680" cy="8762760"/>
          </a:xfrm>
          <a:prstGeom prst="rect">
            <a:avLst/>
          </a:prstGeom>
          <a:ln w="0">
            <a:noFill/>
          </a:ln>
        </p:spPr>
      </p:pic>
      <p:pic>
        <p:nvPicPr>
          <p:cNvPr id="42" name="2" descr=""/>
          <p:cNvPicPr/>
          <p:nvPr/>
        </p:nvPicPr>
        <p:blipFill>
          <a:blip r:embed="rId2"/>
          <a:stretch/>
        </p:blipFill>
        <p:spPr>
          <a:xfrm>
            <a:off x="1600200" y="5181480"/>
            <a:ext cx="2494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3:19:31Z</dcterms:created>
  <dc:creator>ydj</dc:creator>
  <dc:description/>
  <dc:language>en-US</dc:language>
  <cp:lastModifiedBy>ydj</cp:lastModifiedBy>
  <cp:lastPrinted>1998-11-04T03:47:24Z</cp:lastPrinted>
  <dcterms:modified xsi:type="dcterms:W3CDTF">1998-11-04T03:52:02Z</dcterms:modified>
  <cp:revision>1</cp:revision>
  <dc:subject/>
  <dc:title>没有幻灯片标题</dc:title>
</cp:coreProperties>
</file>