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8002588" cy="11239500"/>
  <p:notesSz cx="6883400" cy="9558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59C1-84EB-4806-92F2-81E317CF4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9760" y="998280"/>
            <a:ext cx="680076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9760" y="3246480"/>
            <a:ext cx="680076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9760" y="6769080"/>
            <a:ext cx="680076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0D8F-FB8F-4344-836D-F4BE42054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9760" y="998280"/>
            <a:ext cx="680076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9760" y="3246480"/>
            <a:ext cx="331848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84560" y="3246480"/>
            <a:ext cx="331848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9760" y="6769080"/>
            <a:ext cx="331848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84560" y="6769080"/>
            <a:ext cx="331848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BAC8-D1A4-424E-BB11-D36202704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9760" y="998280"/>
            <a:ext cx="680076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9760" y="3246480"/>
            <a:ext cx="218952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99080" y="3246480"/>
            <a:ext cx="218952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98400" y="3246480"/>
            <a:ext cx="218952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9760" y="6769080"/>
            <a:ext cx="218952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99080" y="6769080"/>
            <a:ext cx="218952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198400" y="6769080"/>
            <a:ext cx="218952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C8DA-B110-4DD5-AB86-F1F848BDE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9760" y="998280"/>
            <a:ext cx="680076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9760" y="3246480"/>
            <a:ext cx="6800760" cy="67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06FC-33F6-46B7-AD36-80DE4AC25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9760" y="998280"/>
            <a:ext cx="680076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9760" y="3246480"/>
            <a:ext cx="6800760" cy="67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830C-B2B1-4F69-AC36-60BFA7B6A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9760" y="998280"/>
            <a:ext cx="680076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9760" y="3246480"/>
            <a:ext cx="3318480" cy="67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84560" y="3246480"/>
            <a:ext cx="3318480" cy="67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CFE2-C207-48ED-9317-1ED4CD6DD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9760" y="998280"/>
            <a:ext cx="680076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D125-6DF2-4D06-B3C4-2F8F142F4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9760" y="998280"/>
            <a:ext cx="6800760" cy="86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B085-150F-4CD1-B610-B4703D0BA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9760" y="998280"/>
            <a:ext cx="680076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9760" y="3246480"/>
            <a:ext cx="331848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84560" y="3246480"/>
            <a:ext cx="3318480" cy="67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9760" y="6769080"/>
            <a:ext cx="331848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7BC0-DD91-48FE-998C-5388DF2A8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9760" y="998280"/>
            <a:ext cx="680076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9760" y="3246480"/>
            <a:ext cx="3318480" cy="67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84560" y="3246480"/>
            <a:ext cx="331848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84560" y="6769080"/>
            <a:ext cx="331848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08F5-D9B6-49C9-8FBD-6371D2CD7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9760" y="998280"/>
            <a:ext cx="680076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9760" y="3246480"/>
            <a:ext cx="331848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84560" y="3246480"/>
            <a:ext cx="331848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9760" y="6769080"/>
            <a:ext cx="680076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2A85-0142-4E9E-9EB1-2529797A0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9760" y="998280"/>
            <a:ext cx="680076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9760" y="3246480"/>
            <a:ext cx="6800760" cy="67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0120" y="10240920"/>
            <a:ext cx="166680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33480" y="10240920"/>
            <a:ext cx="253332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34080" y="10240920"/>
            <a:ext cx="166680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EE5C5-FCE3-407B-9E81-C15403BC17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7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5638680" cy="8762760"/>
          </a:xfrm>
          <a:prstGeom prst="rect">
            <a:avLst/>
          </a:prstGeom>
          <a:ln w="0">
            <a:noFill/>
          </a:ln>
        </p:spPr>
      </p:pic>
      <p:pic>
        <p:nvPicPr>
          <p:cNvPr id="42" name="2" descr=""/>
          <p:cNvPicPr/>
          <p:nvPr/>
        </p:nvPicPr>
        <p:blipFill>
          <a:blip r:embed="rId2"/>
          <a:stretch/>
        </p:blipFill>
        <p:spPr>
          <a:xfrm>
            <a:off x="1600200" y="5181480"/>
            <a:ext cx="2494080" cy="47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4T03:19:31Z</dcterms:created>
  <dc:creator>ydj</dc:creator>
  <dc:description/>
  <dc:language>en-US</dc:language>
  <cp:lastModifiedBy>ydj</cp:lastModifiedBy>
  <cp:lastPrinted>1998-11-04T03:47:24Z</cp:lastPrinted>
  <dcterms:modified xsi:type="dcterms:W3CDTF">1998-11-04T03:52:02Z</dcterms:modified>
  <cp:revision>1</cp:revision>
  <dc:subject/>
  <dc:title>没有幻灯片标题</dc:title>
</cp:coreProperties>
</file>