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3F6-57F9-4845-9CC9-2469DB7D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DA4-A657-4402-AD0D-5F700F55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2EE-4F8A-474B-8021-F94F3D7C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441-F6BF-4BDD-9398-EDD453C3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82D-AF52-4552-87B0-1CA366E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38D-512D-4DA4-A1E5-92A442E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058-8D87-481F-A5FE-3CEEE82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DD1-3E8C-4C44-9CEB-4F7926B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E08-D651-4941-8816-A1C56B6A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62F-B7D7-4D85-9536-082C3159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069-7DB5-441B-85D0-3156535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A63-4380-4E1E-AD84-1814E43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CA92-F16F-4649-AFED-6C4AA5D05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920" y="166680"/>
            <a:ext cx="297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的是葫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78200" y="6400800"/>
            <a:ext cx="29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 年 义 务 教 育 小 学 第 三 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蒲2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647960" cy="44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85080" y="533412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胡定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5105520" y="0"/>
            <a:ext cx="3429000" cy="3200400"/>
            <a:chOff x="5105520" y="0"/>
            <a:chExt cx="3429000" cy="3200400"/>
          </a:xfrm>
        </p:grpSpPr>
        <p:pic>
          <p:nvPicPr>
            <p:cNvPr id="46" name="蒲春燕2%20ren" descr=""/>
            <p:cNvPicPr/>
            <p:nvPr/>
          </p:nvPicPr>
          <p:blipFill>
            <a:blip r:embed="rId1"/>
            <a:stretch/>
          </p:blipFill>
          <p:spPr>
            <a:xfrm>
              <a:off x="5376960" y="780840"/>
              <a:ext cx="1625400" cy="209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蒲春燕2%20copy" descr=""/>
            <p:cNvPicPr/>
            <p:nvPr/>
          </p:nvPicPr>
          <p:blipFill>
            <a:blip r:embed="rId2"/>
            <a:stretch/>
          </p:blipFill>
          <p:spPr>
            <a:xfrm>
              <a:off x="5105520" y="0"/>
              <a:ext cx="3429000" cy="320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蒲春燕4%20copy" descr=""/>
          <p:cNvPicPr/>
          <p:nvPr/>
        </p:nvPicPr>
        <p:blipFill>
          <a:blip r:embed="rId3"/>
          <a:stretch/>
        </p:blipFill>
        <p:spPr>
          <a:xfrm>
            <a:off x="5332320" y="3352680"/>
            <a:ext cx="32022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蒲春燕3%20copy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411480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276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89548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6400800"/>
            <a:ext cx="457200" cy="457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蒲春燕1%20copy" descr=""/>
          <p:cNvPicPr/>
          <p:nvPr/>
        </p:nvPicPr>
        <p:blipFill>
          <a:blip r:embed="rId5"/>
          <a:stretch/>
        </p:blipFill>
        <p:spPr>
          <a:xfrm>
            <a:off x="609480" y="-9360"/>
            <a:ext cx="3505320" cy="3362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蒲春燕1%20copy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562720" cy="5338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蒲1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蒲2" descr=""/>
          <p:cNvPicPr/>
          <p:nvPr/>
        </p:nvPicPr>
        <p:blipFill>
          <a:blip r:embed="rId1"/>
          <a:stretch/>
        </p:blipFill>
        <p:spPr>
          <a:xfrm>
            <a:off x="0" y="798480"/>
            <a:ext cx="4648320" cy="4459320"/>
          </a:xfrm>
          <a:prstGeom prst="rect">
            <a:avLst/>
          </a:prstGeom>
          <a:ln w="0">
            <a:noFill/>
          </a:ln>
        </p:spPr>
      </p:pic>
      <p:pic>
        <p:nvPicPr>
          <p:cNvPr id="61" name="蒲1" descr=""/>
          <p:cNvPicPr/>
          <p:nvPr/>
        </p:nvPicPr>
        <p:blipFill>
          <a:blip r:embed="rId2"/>
          <a:stretch/>
        </p:blipFill>
        <p:spPr>
          <a:xfrm>
            <a:off x="4519440" y="457200"/>
            <a:ext cx="512316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4:44:36Z</dcterms:created>
  <dc:creator>ydj</dc:creator>
  <dc:description/>
  <dc:language>en-US</dc:language>
  <cp:lastModifiedBy>hdk</cp:lastModifiedBy>
  <dcterms:modified xsi:type="dcterms:W3CDTF">2000-05-29T02:59:33Z</dcterms:modified>
  <cp:revision>22</cp:revision>
  <dc:subject/>
  <dc:title>没有幻灯片标题</dc:title>
</cp:coreProperties>
</file>