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002588" cy="11239500"/>
  <p:notesSz cx="6883400" cy="9558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3F09-1C43-4F81-9209-70BD31EA7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9760" y="3246480"/>
            <a:ext cx="680076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9760" y="6769080"/>
            <a:ext cx="680076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42ED-A98D-43E9-8C94-7ECF5B31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9760" y="32464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84560" y="32464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9760" y="67690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84560" y="67690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013D-75B3-4B3F-8522-E9330CAF4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9760" y="3246480"/>
            <a:ext cx="218952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99080" y="3246480"/>
            <a:ext cx="218952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98400" y="3246480"/>
            <a:ext cx="218952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9760" y="6769080"/>
            <a:ext cx="218952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99080" y="6769080"/>
            <a:ext cx="218952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98400" y="6769080"/>
            <a:ext cx="218952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ACEC-F84E-4750-9720-9B2CB4239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9760" y="3246480"/>
            <a:ext cx="6800760" cy="67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18D9-DD29-42A0-A5F3-0F4396AA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9760" y="3246480"/>
            <a:ext cx="6800760" cy="67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A266-0ECE-4C39-960A-4028A738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9760" y="3246480"/>
            <a:ext cx="3318480" cy="67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84560" y="3246480"/>
            <a:ext cx="3318480" cy="67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6A1B-4EC0-4040-B038-D6905947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28C0-6BBC-48C4-92B6-672ABE98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9760" y="998280"/>
            <a:ext cx="6800760" cy="86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A0F9-5653-41FE-9771-CC938215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9760" y="32464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84560" y="3246480"/>
            <a:ext cx="3318480" cy="67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9760" y="67690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D48A-AE9F-4736-B45F-36FDB464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9760" y="3246480"/>
            <a:ext cx="3318480" cy="67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84560" y="32464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84560" y="67690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979C-EDB2-4940-A354-C7F813A1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9760" y="32464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84560" y="32464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9760" y="6769080"/>
            <a:ext cx="680076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9617-4BD3-4736-9108-EAC9718A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9760" y="3246480"/>
            <a:ext cx="6800760" cy="67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0120" y="10240920"/>
            <a:ext cx="16668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33480" y="10240920"/>
            <a:ext cx="25333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34080" y="10240920"/>
            <a:ext cx="16668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4A08-5BE5-45EA-B65F-C4735C6CA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7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5638680" cy="8762760"/>
          </a:xfrm>
          <a:prstGeom prst="rect">
            <a:avLst/>
          </a:prstGeom>
          <a:ln w="0">
            <a:noFill/>
          </a:ln>
        </p:spPr>
      </p:pic>
      <p:pic>
        <p:nvPicPr>
          <p:cNvPr id="42" name="2" descr=""/>
          <p:cNvPicPr/>
          <p:nvPr/>
        </p:nvPicPr>
        <p:blipFill>
          <a:blip r:embed="rId2"/>
          <a:stretch/>
        </p:blipFill>
        <p:spPr>
          <a:xfrm>
            <a:off x="1600200" y="5181480"/>
            <a:ext cx="249408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4T03:19:31Z</dcterms:created>
  <dc:creator>ydj</dc:creator>
  <dc:description/>
  <dc:language>en-US</dc:language>
  <cp:lastModifiedBy>ydj</cp:lastModifiedBy>
  <cp:lastPrinted>1998-11-04T03:47:24Z</cp:lastPrinted>
  <dcterms:modified xsi:type="dcterms:W3CDTF">1998-11-04T03:52:02Z</dcterms:modified>
  <cp:revision>1</cp:revision>
  <dc:subject/>
  <dc:title>没有幻灯片标题</dc:title>
</cp:coreProperties>
</file>