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BE2-3A84-4615-B5EE-BD1BF283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A7B-76F7-4EF3-A666-3B36089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F04-3A8B-443B-8FFC-4EA03DD0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2B4-D697-4204-A26F-6529DE1B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8F2-B078-4304-BF11-FED17BF1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78A-F58C-4077-A83C-6B0118F3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24E-5399-48AD-9330-006322F1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6DE-F403-41DD-8518-B7F4C4CF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A03-AAC4-4552-BCF6-4AD6BB0E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945-6C6E-4FA7-80B1-FE83925B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E81-0CC2-4D58-AEEC-4D36F042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137-4FC8-4C77-8877-F4ACDC44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49F3-913D-4618-B3A2-79636AEED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Lesson 17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Always you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0528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What’s your aun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What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How old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Does she often appear on the stage as a young gir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What will she have to do so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 How old  will she pretend to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 What colour dres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 What kind of stocking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 Did she appear in a play last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 She had to wear short socks, didn’t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 Do most women of thirty-five wear clothes like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 Do peopole ever ask how old she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9147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---ac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st---thiry-five---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spite of---appears---stage---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ennifer---take part---new play s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 time---girl---seven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the play---appear---dress---stoc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ast year---play---short socks---coloured 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---how old---always answers--- ‘Darling---terrible---grown up!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line the phrases in the stor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t least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至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起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spite of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尽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虽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ppear on the stage as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登台扮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ave to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得不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必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part in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参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girl of seventeen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岁的女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a bright red dress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穿着鲜红色的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e grown up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长大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685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 Jennifer is an actress. She must be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t leas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rty-five years old.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 spite of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, she often appears on the stage as a young girl. Jennifer will have to take part in a new play soon. This time, she will be a gilr of seventeen. In the play, she must appear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in a bright red d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nd long black stockings. Last year in another play, she had to wear short socks and a bright, orange-coloured dress. If anyone ever asks her how old she is, she always answers, ‘Darling, it must be terrible to be grown up! 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+(the)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高级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表示“最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Eg. At mo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多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lat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earli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这儿最多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个人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人已经走了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There is at most 50 people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200 hav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我最晚在星期五给你答复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I will give you an answer on Friday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543800" y="8380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2. In spite of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=although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从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nt out in spite of the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We went out although it was 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虽然生病了，可他还是来开会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me to the meeting in spite of his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He came to the meeting  although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162920" y="5486400"/>
            <a:ext cx="738000" cy="8143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33">
                <a:moveTo>
                  <a:pt x="0" y="0"/>
                </a:moveTo>
                <a:lnTo>
                  <a:pt x="21600" y="0"/>
                </a:lnTo>
                <a:lnTo>
                  <a:pt x="21600" y="23833"/>
                </a:lnTo>
                <a:lnTo>
                  <a:pt x="0" y="23833"/>
                </a:lnTo>
                <a:close/>
              </a:path>
              <a:path fill="lightenLess" w="21600" h="238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3">
                <a:moveTo>
                  <a:pt x="21600" y="0"/>
                </a:moveTo>
                <a:lnTo>
                  <a:pt x="21600" y="23833"/>
                </a:lnTo>
                <a:lnTo>
                  <a:pt x="20200" y="22433"/>
                </a:lnTo>
                <a:lnTo>
                  <a:pt x="20200" y="1400"/>
                </a:lnTo>
                <a:close/>
              </a:path>
              <a:path fill="darkenLess" w="21600" h="23833">
                <a:moveTo>
                  <a:pt x="21600" y="23833"/>
                </a:moveTo>
                <a:lnTo>
                  <a:pt x="0" y="23833"/>
                </a:lnTo>
                <a:lnTo>
                  <a:pt x="1400" y="22433"/>
                </a:lnTo>
                <a:lnTo>
                  <a:pt x="20200" y="22433"/>
                </a:lnTo>
                <a:close/>
              </a:path>
              <a:path fill="lighten" w="21600" h="23833">
                <a:moveTo>
                  <a:pt x="0" y="238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3"/>
                </a:lnTo>
                <a:close/>
              </a:path>
              <a:path fill="darken" w="21600" h="23833">
                <a:moveTo>
                  <a:pt x="10800" y="4953"/>
                </a:moveTo>
                <a:lnTo>
                  <a:pt x="13376" y="7564"/>
                </a:ln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6"/>
                </a:lnTo>
                <a:lnTo>
                  <a:pt x="5491" y="19106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3">
                <a:moveTo>
                  <a:pt x="13376" y="7564"/>
                </a:move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close/>
              </a:path>
              <a:path fill="darkenLess" w="21600" h="23833">
                <a:moveTo>
                  <a:pt x="9877" y="15415"/>
                </a:moveTo>
                <a:lnTo>
                  <a:pt x="11723" y="15415"/>
                </a:lnTo>
                <a:lnTo>
                  <a:pt x="11723" y="19106"/>
                </a:lnTo>
                <a:lnTo>
                  <a:pt x="16109" y="19106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6"/>
                </a:lnTo>
                <a:lnTo>
                  <a:pt x="9877" y="191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3. In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颜色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服装 “穿着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新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rid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常穿白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rides are usually in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街上有很多便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lainclothe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are a lot of policemen in plainclothes in the str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穿红衣服的女孩是我妹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girl in red is my sis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543800" y="4952880"/>
            <a:ext cx="738360" cy="81468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814680"/>
              <a:gd name="textAreaBottom" fmla="*/ 767160 h 8146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45756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ummary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aunt Jennifer is an actress. She is over thirty years old. She often appears on the stage as a young girl. Jennifer will act the part of a girl of seventeen in a new play soon. She never tells anyone how old she really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08:37:46Z</dcterms:created>
  <dc:creator/>
  <dc:description/>
  <dc:language>en-US</dc:language>
  <cp:lastModifiedBy>class</cp:lastModifiedBy>
  <dcterms:modified xsi:type="dcterms:W3CDTF">2002-10-08T03:04:16Z</dcterms:modified>
  <cp:revision>7</cp:revision>
  <dc:subject/>
  <dc:title>Lesson 17  Always young</dc:title>
</cp:coreProperties>
</file>