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D197-80FC-4A80-B268-6DF312E6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150C-ED2C-4532-B10D-A2B7750A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9936-AD26-486F-B41C-4325018E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9E46-5164-4D27-BC35-731C6E19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502D-1E3C-4D41-A4AC-651B2162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8994-26DE-4FB6-9F1B-E2CC133A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7DC5-EE0C-48AF-A327-29E767D9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A20E-6215-4872-82EC-729BDED8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B044-C679-42A2-991F-C476AA94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2673-AD52-4BC0-9787-BD8A6B87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7081-41D1-4BC4-A505-006B58EA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332-279B-4958-9F4E-DE67B2BC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9910-0786-4EB9-9414-008DC7B3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3EDD-C922-42F6-A068-52A2E428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7B01-F592-4F3A-B62D-54454C0E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8F6D-801B-4FA6-80E0-F4E89382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EC6B-8004-408F-8ADB-363B1272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B363-87ED-4E61-AF3F-43456C7B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77E2-372E-48E4-8F4A-B8340045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7C37-126E-496C-A770-CDCA3561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560A-B5F1-404F-B5FD-F929A9D4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95EC-82A4-41D8-B3FD-6A9928CC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58AA-D5C0-479B-AFC5-0058F609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8E74-4784-45A8-835F-B69864F3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1313-59F3-4F51-B230-0E67AA7C73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7B14-8BB1-45AC-AECF-73F1C3748A4B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19047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996600"/>
                </a:solidFill>
                <a:latin typeface="Times New Roman"/>
              </a:rPr>
              <a:t>Lesson 6</a:t>
            </a:r>
            <a:br>
              <a:rPr sz="5400"/>
            </a:br>
            <a:r>
              <a:rPr b="0" i="1" lang="zh-CN" sz="5400" spc="-1" strike="noStrike">
                <a:solidFill>
                  <a:srgbClr val="996600"/>
                </a:solidFill>
                <a:latin typeface="Times New Roman"/>
              </a:rPr>
              <a:t> Percy Buttons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294920" y="304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Comprehension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Where have you just moved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What happened one 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What did he ask you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Did he pay you for the meal and be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What did he do in return for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Who told you about him l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Is he well-known in Bridge stre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What’s he call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Has he called on you befo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.How often does he call on the houses in Bridge stre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19320" y="3808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have just moved to a house in Bridge Street. Yesterday a beggar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cked a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my door. He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ked me for a mea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nd a glass of beer.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 return f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is, the beggar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ood on his hea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nd sang songs. I gave him a meal. He ate the food and drank the beer. Then he put a piece of cheese in his pocket and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nt awa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t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 neighbour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ld me about hi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Everybody knows him. His name is Percy Buttons. He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lls at every hous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in the street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ce a mon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nd always asks for a meal and a glass of be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35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Tell the story according to the following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just moved----Bridge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Yesterday---beggar knocked ---the d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asked ---meal---b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In return---stood---s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ate food---drank---b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Then---piece of cheese---pocket---a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 Later---nighbour---about h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 Everybody---him---name---Percy Butt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 calls---house---street once a---and---asks---meal---glass of b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219320" y="3808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Summary wr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writer has just moved to a house in Bridge Street. A beggar knocked at her dor yesterday. He sang songs. The writer gave him a meal and a glass of beer in return for this. The beggar’s name is Percy Buttons. He calls at every house in the street once a mon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235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Ask sb for sth=ask sth of 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向某人索要某物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ask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问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询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He asked the teacher for three days’sick lea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向老师请了三天病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Have I asked you for too much?=Have I asked too much of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向你要求得太多了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He asked me for 5 yu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After the class, he asked me a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949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In return (for)      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作为报答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回报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交换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I often help him with his English and he gives me film tickets in 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经常帮助他学英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给我电影票作为报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约翰送给老太太一束鲜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报答她的慈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John gave the old lady a bunch of flowers in return for her kind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汤姆买你的自行车付了多少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much did Tom give you in return for the b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5235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d54f41"/>
                </a:solidFill>
                <a:latin typeface="Times New Roman"/>
              </a:rPr>
              <a:t>Call at someplace</a:t>
            </a:r>
            <a:r>
              <a:rPr b="0" lang="zh-CN" sz="3600" spc="-1" strike="noStrike">
                <a:solidFill>
                  <a:srgbClr val="d54f41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d54f41"/>
                </a:solidFill>
                <a:latin typeface="Times New Roman"/>
              </a:rPr>
              <a:t>拜访某个地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d54f41"/>
                </a:solidFill>
                <a:latin typeface="Times New Roman"/>
              </a:rPr>
              <a:t>Call on somebody</a:t>
            </a:r>
            <a:r>
              <a:rPr b="0" lang="zh-CN" sz="3600" spc="-1" strike="noStrike">
                <a:solidFill>
                  <a:srgbClr val="d54f41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d54f41"/>
                </a:solidFill>
                <a:latin typeface="Times New Roman"/>
              </a:rPr>
              <a:t>拜访某个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I shall call at your house this eve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今晚要来登门拜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a) Tom calls at Green’s office this mo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) Tom calls on Green this mo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06:13:12Z</dcterms:created>
  <dc:creator/>
  <dc:description/>
  <dc:language>en-US</dc:language>
  <cp:lastModifiedBy>st</cp:lastModifiedBy>
  <dcterms:modified xsi:type="dcterms:W3CDTF">2002-07-10T07:00:15Z</dcterms:modified>
  <cp:revision>4</cp:revision>
  <dc:subject/>
  <dc:title>Lesson 6  Percy Buttons</dc:title>
</cp:coreProperties>
</file>