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5703-5BB0-4181-AF7E-FE0D7D0EE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BA90-F918-4ABA-9489-3B61FBA1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93DE-642F-4CF2-B7E9-1444C5A0C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C2E0-B023-4ABC-9AF6-45D980CA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4F81-8AF6-45DB-9A42-646C9E145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3038-584A-4254-929B-C4B05B7C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5D599-CE43-4B5A-8275-C0F98650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6B44-FA46-41B1-9939-E6EAA2B8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913C-D41B-4719-A344-D4F1681A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EAF8-7233-4D0F-B365-61BA024A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AB40-9EE5-4F61-882C-01CBE4C8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3463-2152-4281-86AE-5B9512F6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883A-921E-417B-A4A8-CAF8D930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BE40-1A10-4451-AF32-F7E06205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09DA-FD3A-4A17-A5DD-182BB78C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C23A-EA42-4300-ADC1-82B111A75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09DF-D33B-42A2-B612-84435A299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4E82-78A7-485A-86AB-5FE9E325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9ACF-D5AA-4202-9E1E-E181A40A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9CD7-ECC1-4930-BFF5-0E8E1E91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9E20-FC2B-4A5D-8B52-F8D94EE3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8F48-5CC0-4622-88DA-1481E2A0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CFE3-42F9-4A80-8E22-612E25AA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6630-C647-4EC6-AEB7-2CB2ABA0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F218-C1F8-4B88-AD98-2BCA7059D8C6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A8B1-552F-41DE-8F1B-384C3F44EF85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219320" y="1066680"/>
            <a:ext cx="701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Monotype Corsiva"/>
              </a:rPr>
              <a:t>Lesson One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Monotype Corsiva"/>
              </a:rPr>
              <a:t>A Private Conversation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3" name="NA00864_" descr=""/>
          <p:cNvPicPr/>
          <p:nvPr/>
        </p:nvPicPr>
        <p:blipFill>
          <a:blip r:embed="rId2"/>
          <a:stretch/>
        </p:blipFill>
        <p:spPr>
          <a:xfrm>
            <a:off x="3505320" y="3352680"/>
            <a:ext cx="25146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228600"/>
            <a:ext cx="8001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Ask and answer in pairs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here did you go last week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Did you have a good seat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as it an interesting play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You enjoyed the play, didn’t you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ho was sitting behind you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Could you hear what the actors were saying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hy couldn’t you hear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hat were they doing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Did you get angry with them or not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hat did you do then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They didn’t pay any attention, did they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Could you bear it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hat did you do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hat did the young man say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98560" y="609480"/>
            <a:ext cx="71787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Last week---went---thea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didn’t enjoy---pla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young man---woman---behind 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talking loudl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could not ---acto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I turned---and looked---angril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didn’t pay---atten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in the end---couldn’t be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‘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can’t hear---word’---sai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‘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none---business’---man---’private’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22860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hy did the writer complain to the people behind him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2952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complain (to sb.) about sth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1924200"/>
            <a:ext cx="85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He always ______________________________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抱怨天气不好）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2320" y="190512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omplains about the bad weath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306720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He complained that _____________________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屋子里太热了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22640" y="3048120"/>
            <a:ext cx="390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room was too ho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4343400"/>
            <a:ext cx="844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学生们向老师抱怨作业太多了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———————————————————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———————————————————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47242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students sometimes complain to their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eachers about too much homework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297000"/>
            <a:ext cx="85341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ast week I went to the theatre. I had a very good seat. The play was very interesting. I did not </a:t>
            </a:r>
            <a:r>
              <a:rPr b="0" lang="en-US" sz="3200" spc="-1" strike="noStrike" u="sng">
                <a:solidFill>
                  <a:srgbClr val="bdd7e5"/>
                </a:solidFill>
                <a:uFillTx/>
                <a:latin typeface="Times New Roman"/>
                <a:hlinkClick r:id="rId2" action="ppaction://hlinksldjump"/>
              </a:rPr>
              <a:t>enjoy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it. A young man and a young woman were sitting behind me. They were talking loudly. I got very angry. I could not hear the actors. I turned round. I looked at the man and the woman angrily. They did not pay any attention. In the end, I could not bear it. I turned round again. ‘I can’t hear a word!’ I said angrily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‘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t’s none of your business,’ the young man said rudely. “This is a private conversation!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50840" y="552600"/>
            <a:ext cx="504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 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oneself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sb. enjo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(doing) sth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838080"/>
            <a:ext cx="609480" cy="533520"/>
          </a:xfrm>
          <a:custGeom>
            <a:avLst/>
            <a:gdLst>
              <a:gd name="textAreaLeft" fmla="*/ 0 w 609480"/>
              <a:gd name="textAreaRight" fmla="*/ 609840 w 6094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743200" y="1523880"/>
            <a:ext cx="609480" cy="533520"/>
          </a:xfrm>
          <a:custGeom>
            <a:avLst/>
            <a:gdLst>
              <a:gd name="textAreaLeft" fmla="*/ 0 w 609480"/>
              <a:gd name="textAreaRight" fmla="*/ 609840 w 609480"/>
              <a:gd name="textAreaTop" fmla="*/ 360 h 533520"/>
              <a:gd name="textAreaBottom" fmla="*/ 534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27160" y="2590920"/>
            <a:ext cx="573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 enjoy the play. (√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 enjoy talking with him. (√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 enjoy him. (×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7772400" y="6019920"/>
            <a:ext cx="585720" cy="433440"/>
          </a:xfrm>
          <a:custGeom>
            <a:avLst/>
            <a:gdLst>
              <a:gd name="textAreaLeft" fmla="*/ 28080 w 585720"/>
              <a:gd name="textAreaRight" fmla="*/ 557640 w 585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9182" h="21600">
                <a:moveTo>
                  <a:pt x="0" y="0"/>
                </a:moveTo>
                <a:lnTo>
                  <a:pt x="29182" y="0"/>
                </a:lnTo>
                <a:lnTo>
                  <a:pt x="29182" y="21600"/>
                </a:lnTo>
                <a:lnTo>
                  <a:pt x="0" y="21600"/>
                </a:lnTo>
                <a:close/>
              </a:path>
              <a:path fill="lightenLess" w="29182" h="21600">
                <a:moveTo>
                  <a:pt x="0" y="0"/>
                </a:moveTo>
                <a:lnTo>
                  <a:pt x="29182" y="0"/>
                </a:lnTo>
                <a:lnTo>
                  <a:pt x="27782" y="1400"/>
                </a:lnTo>
                <a:lnTo>
                  <a:pt x="1400" y="1400"/>
                </a:lnTo>
                <a:close/>
              </a:path>
              <a:path fill="darken" w="29182" h="21600">
                <a:moveTo>
                  <a:pt x="29182" y="0"/>
                </a:moveTo>
                <a:lnTo>
                  <a:pt x="29182" y="21600"/>
                </a:lnTo>
                <a:lnTo>
                  <a:pt x="27782" y="20200"/>
                </a:lnTo>
                <a:lnTo>
                  <a:pt x="27782" y="1400"/>
                </a:lnTo>
                <a:close/>
              </a:path>
              <a:path fill="darkenLess" w="29182" h="21600">
                <a:moveTo>
                  <a:pt x="29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82" y="20200"/>
                </a:lnTo>
                <a:close/>
              </a:path>
              <a:path fill="lighten" w="29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182" h="21600">
                <a:moveTo>
                  <a:pt x="14591" y="3837"/>
                </a:moveTo>
                <a:lnTo>
                  <a:pt x="17167" y="6448"/>
                </a:lnTo>
                <a:lnTo>
                  <a:pt x="17167" y="4707"/>
                </a:lnTo>
                <a:lnTo>
                  <a:pt x="18943" y="4707"/>
                </a:lnTo>
                <a:lnTo>
                  <a:pt x="18943" y="8224"/>
                </a:lnTo>
                <a:lnTo>
                  <a:pt x="21554" y="10800"/>
                </a:lnTo>
                <a:lnTo>
                  <a:pt x="19900" y="10800"/>
                </a:lnTo>
                <a:lnTo>
                  <a:pt x="19900" y="17989"/>
                </a:lnTo>
                <a:lnTo>
                  <a:pt x="9282" y="17989"/>
                </a:lnTo>
                <a:lnTo>
                  <a:pt x="9282" y="10800"/>
                </a:lnTo>
                <a:lnTo>
                  <a:pt x="7628" y="10800"/>
                </a:lnTo>
                <a:close/>
              </a:path>
              <a:path fill="darkenLess" w="29182" h="21600">
                <a:moveTo>
                  <a:pt x="17167" y="6448"/>
                </a:moveTo>
                <a:lnTo>
                  <a:pt x="17167" y="4707"/>
                </a:lnTo>
                <a:lnTo>
                  <a:pt x="18943" y="4707"/>
                </a:lnTo>
                <a:lnTo>
                  <a:pt x="18943" y="8224"/>
                </a:lnTo>
                <a:close/>
              </a:path>
              <a:path fill="darkenLess" w="29182" h="21600">
                <a:moveTo>
                  <a:pt x="13669" y="14299"/>
                </a:moveTo>
                <a:lnTo>
                  <a:pt x="15514" y="14299"/>
                </a:lnTo>
                <a:lnTo>
                  <a:pt x="15514" y="17989"/>
                </a:lnTo>
                <a:lnTo>
                  <a:pt x="19900" y="17989"/>
                </a:lnTo>
                <a:lnTo>
                  <a:pt x="19900" y="10800"/>
                </a:lnTo>
                <a:lnTo>
                  <a:pt x="9282" y="10800"/>
                </a:lnTo>
                <a:lnTo>
                  <a:pt x="9282" y="17989"/>
                </a:lnTo>
                <a:lnTo>
                  <a:pt x="13669" y="17989"/>
                </a:lnTo>
                <a:close/>
              </a:path>
            </a:pathLst>
          </a:cu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228600" y="1523880"/>
          <a:ext cx="8686800" cy="4267440"/>
        </p:xfrm>
        <a:graphic>
          <a:graphicData uri="http://schemas.openxmlformats.org/drawingml/2006/table">
            <a:tbl>
              <a:tblPr/>
              <a:tblGrid>
                <a:gridCol w="1241280"/>
                <a:gridCol w="1239840"/>
                <a:gridCol w="1241640"/>
                <a:gridCol w="1241280"/>
                <a:gridCol w="1241640"/>
                <a:gridCol w="1239840"/>
                <a:gridCol w="1241280"/>
              </a:tblGrid>
              <a:tr h="121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en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o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ich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at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action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o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ich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at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How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ere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en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Last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eek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ent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To the theatre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2514600" y="5335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 simple statemen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79040" y="225360"/>
            <a:ext cx="403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Summary writing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314360"/>
            <a:ext cx="8229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he writer went to the theatre last week. He did not enjoy the play. A young man and a young woman were sitting behind him. They were talking loudly. The writer could not hear the actors. He turned round. ‘I can’t hear a word!’ he said. “This is a private conversation!’ the young man said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(55words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5T03:50:41Z</dcterms:created>
  <dc:creator/>
  <dc:description/>
  <dc:language>en-US</dc:language>
  <cp:lastModifiedBy>st</cp:lastModifiedBy>
  <dcterms:modified xsi:type="dcterms:W3CDTF">2002-07-10T01:35:47Z</dcterms:modified>
  <cp:revision>14</cp:revision>
  <dc:subject/>
  <dc:title>PowerPoint 演示文稿</dc:title>
</cp:coreProperties>
</file>