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E40-9988-4A80-9B22-6D851A53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284-47E5-4112-BF24-A97B8EE3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D5D-DF8B-4F4A-BCEA-418E9C8A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1F4-AF45-40EC-958C-1E05AA27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FF884-2583-46A1-BB5A-67F67DC4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70066-BCAC-4663-8260-DDF0B770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0A6E4-F2A3-4412-AE15-7F39583F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B61ED-EC41-4700-A0F0-2903EE99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B7FA2-CA37-4AB7-821B-EE447E51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ED8DE-22F9-40E5-A172-28739BB4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494E2-33DA-497A-BDAB-3EF22215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F35-A859-4401-B3CE-EB027AD1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1B3E6-6620-47B9-806A-83B46C04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EFCD6-0343-401B-ABCC-F5394733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A3FB1-AA1C-4906-BB75-9F73995F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B9DBF-220E-4692-8947-33C933EF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C22C0-367B-48E4-AD4A-4ED693A0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D52-BD2B-485D-915A-D79E129E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A28-552D-44B7-913E-C91A0E36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20C-76EB-431C-94AA-54B336EE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CDE-6682-468A-AFF5-3B2E9D78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17B-6C80-41DD-B317-AE668578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25E-DD72-434F-8C30-05CDD70B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B42-4AF3-4626-823C-54B5BC88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3C58-541C-4E90-82FB-D4B41861157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5542-2D7A-4BF8-AA53-605B40231D4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965160"/>
            <a:ext cx="76201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Lesson Fourte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Do you speak English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0"/>
            <a:ext cx="830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k and answer the questions in pai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you have last ye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part of France were you 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you been in a small vill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did you drive on 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waved to you on the w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he ask you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did you say good morning to hi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language did you spe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your passenger reply in Fren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many words of French do you k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you speak to him during the journe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did he suddenly say somet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he ask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380880"/>
            <a:ext cx="82296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tell the st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using experience---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ft---small village---south of France---dr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the way---man waved---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opped---asked---l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o---car---good morning---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---same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w words---not---any 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ither---spoke---jour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arly---town---suddenly’---speak English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rnt---English him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9376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d an amusing  experien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ast year. After I had left a small villag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the south o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rance, 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ove 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next town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 the wa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 young man waved to me. I stopped and 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ked me for a lif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As soon as he had got into the car, I said good morning to him in French and he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replie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in the same language.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Apart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 few words, I do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no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know any Frenc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 al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Neither of us spoke during the journey. I had nearly reached the town,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whe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the young man suddenly said, very slowly, ‘Do you speak English?’ As I soon learnt, he was English himself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lastslide"/>
          </p:cNvPr>
          <p:cNvSpPr/>
          <p:nvPr/>
        </p:nvSpPr>
        <p:spPr>
          <a:xfrm>
            <a:off x="8077320" y="57913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ply &amp; 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838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都是不及物动词时，可以互换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362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都跟宾语从句时，可以互换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819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answered / replied that he was not co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429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II. answer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是及物动词；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eply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是不及物动词，带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语时，后面要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267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He answered / replied to the question /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m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1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. Have you replied to / answered his le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3716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I asked him where to go, but he didn’t answer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re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924680" y="59436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part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e3ff"/>
                </a:solidFill>
                <a:latin typeface="Arial"/>
              </a:rPr>
              <a:t>= except for / besides </a:t>
            </a:r>
            <a:r>
              <a:rPr b="1" lang="zh-CN" sz="2800" spc="-1" strike="noStrike">
                <a:solidFill>
                  <a:srgbClr val="e3e3ff"/>
                </a:solidFill>
                <a:latin typeface="Arial"/>
              </a:rPr>
              <a:t>除去，除……之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066680"/>
            <a:ext cx="74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除一辆轿车之外，我想不起我还需要什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676520"/>
            <a:ext cx="85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can’t think of anything I need apart from a c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362320"/>
            <a:ext cx="58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除了鼻子以外，哪儿都很好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04812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art from his nose, he is quite good-loo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73392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除了脸部和双手受伤以外，两条腿也断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44197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art from the injuries to his face and hand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broke both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8305920" y="57913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457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 had (just) done st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. was doing sth.                             When sb. else did s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. was going/about to do s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2860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</a:rPr>
              <a:t>｝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905120"/>
            <a:ext cx="53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正要走，电话铃突然响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362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was just about  to leave when the tele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ddenly ra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200400"/>
            <a:ext cx="65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们正在吃饭，一个朋友走了进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733920"/>
            <a:ext cx="87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 were having our dinner when a friend came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26708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们刚刚干完活，天就下起雨来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800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y had just finished their work when it be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r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830592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0"/>
            <a:ext cx="8839080" cy="88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Monotype Corsiva"/>
              </a:rPr>
              <a:t>Summary wr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The writer gave a lift to a young man in the south of France last year. They greeted each other in French. Apart from a few words, the writer doesn’t speak any French. They sat in silence. At the end of the journey the young man asked, ‘Do you speak English?’ He was English himself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</a:t>
            </a: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(55 word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09:27:27Z</dcterms:created>
  <dc:creator/>
  <dc:description/>
  <dc:language>en-US</dc:language>
  <cp:lastModifiedBy>史流</cp:lastModifiedBy>
  <dcterms:modified xsi:type="dcterms:W3CDTF">2002-08-05T03:12:12Z</dcterms:modified>
  <cp:revision>18</cp:revision>
  <dc:subject/>
  <dc:title>幻灯片 1</dc:title>
</cp:coreProperties>
</file>