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CEF-14A1-4F6F-BF24-D0FC8B46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CA4-9D48-43B1-AA49-3C989A85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898-6C09-4A53-BAED-E4B430DB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307-8514-43D1-ACB8-8122B544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6ACC-62FF-49EB-957A-2DAEDBFC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B6DB-4A03-4B33-9B42-FCA32A7E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29B5-CC94-48A8-9F3E-85E8A5E3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785C-9189-4696-9AAA-13225717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54CC-7DA6-4050-9B70-E4AD06FE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1ABF-F39A-407F-BA03-35805790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2042-1B64-46A6-82A7-E6C27238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F8E-6B67-48D9-8E9E-5549D602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84C6-CC9B-4FA5-9644-8A147041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3E98-51F3-4226-B046-A594710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254D-87FC-43A9-B95B-E03E7093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B50B-1298-46E9-8848-14CDBA52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FFFF-2F92-4D1A-944F-17B8A635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B0C-D5B3-4338-9551-3C80D07A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1F1-856A-4B6F-822B-2AD7D1FF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019-685E-4207-9DDA-C8ED7B8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805-AFC6-4681-850B-7AE0634B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C63-DE76-4AA5-9F9E-A7764009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321-8FA4-4BE4-B754-F85F1A2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1C3-7FEB-4E52-86B7-E9501246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499-B52F-423A-9668-8CA7C8FE2F12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B7F8-A88D-4B0F-84F1-D23473FDBA1D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39720" y="1447920"/>
            <a:ext cx="481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Lesson twent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840" y="2895480"/>
            <a:ext cx="61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One man in a boa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46960" y="905040"/>
            <a:ext cx="9044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What’s your favourite spor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2. Does it worry you if you don’t catch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3. Do you often fish without catching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4. Are all fishermen unluck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5. But some are, aren’t the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6. What do they catch instead of fis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7. Why do you think you are even less lucky than the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fisherme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8. Where have you spent whole morning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9. What do you always go home wit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0. What do you friends say you must do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1. What do they say about fis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2.What are you really interested 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25200" y="781200"/>
            <a:ext cx="805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Fishing—favourite s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2.often—hours—any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. some—luck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4. Instead—fish—boots—rubb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5. I—l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6. never—even—boo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7. whole mornings—river—home—emp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8. ‘give up’—frieds—’waste—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9. don’t realize—important 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0.not—interested—f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1. only—sitting--no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4120" y="835200"/>
            <a:ext cx="919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Key to summary writing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Fishing is the writer’s favourite spor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.Some unlucky fishermen catch old boot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and rubbish.Thewriter is not so luck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He never catches anything.He is no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sted in fishing. Sitting in a boat an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Doing nothing at all is the only thing that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ests him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2:03:38Z</dcterms:created>
  <dc:creator/>
  <dc:description/>
  <dc:language>en-US</dc:language>
  <cp:lastModifiedBy>钱良</cp:lastModifiedBy>
  <dcterms:modified xsi:type="dcterms:W3CDTF">2002-07-08T02:30:33Z</dcterms:modified>
  <cp:revision>1</cp:revision>
  <dc:subject/>
  <dc:title>PowerPoint 演示文稿</dc:title>
</cp:coreProperties>
</file>