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BD6E-4947-49F0-AAD7-64A06ACC1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2707-4428-4E72-9D12-488E3C94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7ED2-545F-4B3A-AD52-E122BC94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780B-0C0E-4318-B161-35340E1D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7087-9590-4927-94C3-BBDFE6201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F124-77AC-405F-BB1E-9F27F176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5FD7-AE4C-46FF-AE69-780A70BF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21FC-CC75-4253-9825-9F3B0340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7DD6-17A6-48CB-8E8E-5C449564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A511-D181-4CC5-B8F7-853A27B5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63D2-1028-4FF4-8392-6F9DD265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3E8A-7E2C-4047-89D7-60375EAE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9F57-F3A3-4C29-AA0A-BC523514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58E6-8447-4A21-B16C-58606477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B13A-0535-4CDF-A5FC-155E9DE7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CACC-2CB9-4937-9127-03526F891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C1C2-EF68-446C-9655-F11EDE51E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437B-00A0-4FAC-B3B2-6AAF7155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F213-F0E8-40F5-874D-6370B372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36EE-FCA2-4646-80E1-FCA45D8A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1B8C-3B79-4E5F-BE19-D72A435F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79F9-08A9-4059-A6D2-2C0A58EA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4913-D201-4F22-AFAF-CBF8E01C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ED0D-1B3C-4529-85B5-44F78A70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D9F2-831A-436A-8E4E-2797848A82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9EF6-A2E7-4F1E-905F-CEAE636A6E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44800" y="1905120"/>
            <a:ext cx="5663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009900"/>
                </a:solidFill>
                <a:latin typeface="Times New Roman"/>
              </a:rPr>
              <a:t>Lesson     Seve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009900"/>
                </a:solidFill>
                <a:latin typeface="Times New Roman"/>
              </a:rPr>
              <a:t>Too Lat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387360" y="0"/>
            <a:ext cx="8434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 was waiting at the airpor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How long were they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What was the parcel full of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was it fr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Why did they think some thieves wou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y to steal the diamon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Where were other detectives wai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 Who took the parcel off the pla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 Where did they carry i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 Who was keeping guard at the do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 Who opened the parc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379080" y="0"/>
            <a:ext cx="10060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ell the 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lane--- late---detectives--- wa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Expecting--- paecel--- South Afr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Earlier--- told--- police--- thie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When--- arrived--- some--- main building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thers--- airfie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 Two men--- parcel--- carried--- Custo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. Two--- guard--- door --- others ope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. Surprise --- parcel--- stones---s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0280" y="152280"/>
            <a:ext cx="8786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ey to summary wr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tectives were waiting at the airport 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rning. They were expecting a valuab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rcel of diamonds from South America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wo men took the parcel into the Custo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use after the arrival of the plane. Tw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tectives opened it. The parcel was full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ones and san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52560" y="304920"/>
            <a:ext cx="4108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xpect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期待，盼望 常用于进行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我们在等她的信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我在盼望约翰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43480" y="1219320"/>
            <a:ext cx="57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We were expecting a letter from 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92720" y="2057400"/>
            <a:ext cx="35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I’m expecting John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9920" y="2514600"/>
            <a:ext cx="399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xpect  sb  to do sth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预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我预料他考试通不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我们没料到会有这么多人来参加会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40960" y="3276720"/>
            <a:ext cx="599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I expected him to fail the examin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4267080"/>
            <a:ext cx="886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We weren’t expecting so many people to 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to the par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70200" y="828720"/>
            <a:ext cx="4866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eep /stand guar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站岗，放哨，警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他们在给这所房子放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士兵们对囚犯严加防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将军的帐篷周围有士兵警戒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2160" y="1676520"/>
            <a:ext cx="601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They are keping guard over the ho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77400" y="2505240"/>
            <a:ext cx="624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The soldiers kept a close guard on the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priso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4320" y="3886200"/>
            <a:ext cx="702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There were soldiers standing guard rou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general’s t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857160"/>
            <a:ext cx="7979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  + one’s  +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情感名词，表示满意“使某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感到） …的是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 one’s joy /surprise /sadness /deligh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 my great surprise, we w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 the surprise of everyone, his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ucc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To his great joy, he passed the exam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2320" y="177840"/>
            <a:ext cx="91846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过去进行时： 用来表示过去某个时刻正在进行的行为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，这动作通常要持续一段时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常与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when,while, or as 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连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). When /While /As I was watering the garden, it bega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).Someone knocked at my door when I was having a b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2.when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可引导两个句中的任何一个，而其他两者却不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ohn arrived when I was cooking lun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en John arrived, I was cooking lun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3.while 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引出两个同时进行，持续世间较长的两个平行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ile Tom was reading, his wife was listening to the mus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om was reading while his wife was listening to the mus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5T11:36:53Z</dcterms:created>
  <dc:creator/>
  <dc:description/>
  <dc:language>en-US</dc:language>
  <cp:lastModifiedBy>tyz</cp:lastModifiedBy>
  <dcterms:modified xsi:type="dcterms:W3CDTF">2003-04-05T03:43:32Z</dcterms:modified>
  <cp:revision>9</cp:revision>
  <dc:subject/>
  <dc:title>PowerPoint 演示文稿</dc:title>
</cp:coreProperties>
</file>