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1D7C-CDCE-4DCA-A826-61CAE77A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77A6-B393-4D86-A2E7-FFF854DE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C8D2-5C36-4CCB-96AD-E8A457DF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26BE-D67E-44D5-BCDA-AB9796C2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0B3ED-8E78-4323-849B-4B03A269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0DFAF-404C-4367-AA22-FE10060C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5F91F-8FC1-41AC-BB36-1BD499EA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A08A4-331E-4085-B73E-7B67FA58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8E970-E4F0-4CC6-91CD-49402672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4188C-1E72-4607-8CEB-4EB0B975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AA633-21AF-4C3B-BEBC-A3ACCB4F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AE32-2291-4A5F-AAD9-FD506174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ADA01-3062-4404-916C-6B4A83E8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B4CE5-5157-4B14-9D24-6C06FB4C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73FB8-BC2C-4F24-8CE0-31B54111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A4B1A-F981-42B2-961A-002296E4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43A31-165F-4A3A-A77A-1881685C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47B2-CE1F-4858-A28C-2C51D626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B230-6C00-4893-B0AD-63526CA4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2500-6864-4D60-93A0-407421C5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356F-A81E-4AFB-B642-28DCDF77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03E0-ABBD-49B4-B860-64DB1655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8240-DC2D-4D37-BAE2-18E2222B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300F-0CE7-4F93-B82D-201F2E69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647D-0E18-45DD-A3D0-91FCD902249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1B53-0B98-44FD-94D3-A06545DD5671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76520" y="1143000"/>
            <a:ext cx="5790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Monotype Corsiva"/>
              </a:rPr>
              <a:t>Lesson  Tw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Monotype Corsiva"/>
              </a:rPr>
              <a:t>Breakfast or lunch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46280" y="141120"/>
            <a:ext cx="7559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k and answer the questions in pai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day was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o you always get up late on Sunday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o you ever get up before lunchti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en did you  get up last Sund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was it like outsid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id you think it was a nice d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happened just th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o was on the ph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ow had she arriv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did she s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did you s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as she surprised to hear th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id you have to repeat yourself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did she ask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28600"/>
            <a:ext cx="40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Retell the stor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98560" y="838080"/>
            <a:ext cx="725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ever---early---Sun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Last Sunday---very 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looked---wind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ark outside---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just then---telephone---Aunt Lu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rrived---train’---s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oming---see---you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but---still---breakfast’---s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very surpri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ear---’she said,’---one o’clock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228600"/>
            <a:ext cx="8610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Why was the writer’s aunt surpris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It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was Sunday. I never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get up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early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Arial"/>
              </a:rPr>
              <a:t>on Sunday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. I sometimes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stay in be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until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lunchtime. Last Sunday I got up very late. I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look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ed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out of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the window. It was dark outside. ‘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What a day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!’ I thought. ‘It’s raining again.’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Just the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, the telephone rang. It was my aunt Lucy. “I’ve just arrived by train,’ she said. ‘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I’m coming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to see you.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‘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ut I’m still having breakfast,’ I sa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‘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hat are you doing?’ she ask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‘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’m having breakfast,’ I repe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‘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Dear m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,’ she said. ‘Do you always get up so late? It’s one o’clock!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80720" y="698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806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指天气、时间、距离、身份等，本身无意义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14763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t’s September. It’s eight o’clock in the mor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ti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514600"/>
            <a:ext cx="56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It’s very cold today. (weat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326556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It is only two miles from my home to New Y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dista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4343400"/>
            <a:ext cx="50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 It  was my aunt Luc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7696080" y="55627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3520" y="40968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until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 = till, up to the time that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089000"/>
            <a:ext cx="36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可用作介词或连词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89396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I waited until 10 o’clock, but he still didn’t 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preposi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895480"/>
            <a:ext cx="559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Wait until I call. (conjunc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3640" y="3610080"/>
            <a:ext cx="69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He read/worked until midnight. (prep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4419720"/>
            <a:ext cx="74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 I was here until one o’clock. (prep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77320" y="56386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  <a:path fill="darken" w="21600" h="28806">
                <a:moveTo>
                  <a:pt x="10800" y="7440"/>
                </a:moveTo>
                <a:lnTo>
                  <a:pt x="13376" y="10051"/>
                </a:lnTo>
                <a:lnTo>
                  <a:pt x="13376" y="8310"/>
                </a:lnTo>
                <a:lnTo>
                  <a:pt x="15152" y="8310"/>
                </a:lnTo>
                <a:lnTo>
                  <a:pt x="15152" y="11827"/>
                </a:lnTo>
                <a:lnTo>
                  <a:pt x="17763" y="14403"/>
                </a:lnTo>
                <a:lnTo>
                  <a:pt x="16109" y="14403"/>
                </a:lnTo>
                <a:lnTo>
                  <a:pt x="16109" y="21592"/>
                </a:lnTo>
                <a:lnTo>
                  <a:pt x="5491" y="21592"/>
                </a:lnTo>
                <a:lnTo>
                  <a:pt x="5491" y="14403"/>
                </a:lnTo>
                <a:lnTo>
                  <a:pt x="3837" y="14403"/>
                </a:lnTo>
                <a:close/>
              </a:path>
              <a:path fill="darkenLess" w="21600" h="28806">
                <a:moveTo>
                  <a:pt x="13376" y="10051"/>
                </a:moveTo>
                <a:lnTo>
                  <a:pt x="13376" y="8310"/>
                </a:lnTo>
                <a:lnTo>
                  <a:pt x="15152" y="8310"/>
                </a:lnTo>
                <a:lnTo>
                  <a:pt x="15152" y="11827"/>
                </a:lnTo>
                <a:close/>
              </a:path>
              <a:path fill="darkenLess" w="21600" h="28806">
                <a:moveTo>
                  <a:pt x="9877" y="17902"/>
                </a:moveTo>
                <a:lnTo>
                  <a:pt x="11723" y="17902"/>
                </a:lnTo>
                <a:lnTo>
                  <a:pt x="11723" y="21592"/>
                </a:lnTo>
                <a:lnTo>
                  <a:pt x="16109" y="21592"/>
                </a:lnTo>
                <a:lnTo>
                  <a:pt x="16109" y="14403"/>
                </a:lnTo>
                <a:lnTo>
                  <a:pt x="5491" y="14403"/>
                </a:lnTo>
                <a:lnTo>
                  <a:pt x="5491" y="21592"/>
                </a:lnTo>
                <a:lnTo>
                  <a:pt x="9877" y="21592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743200" y="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介词与时间短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33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般说来，时间短语前要加介词， 但下列几种情况均属不加之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一、在组成的时间短语前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124080"/>
            <a:ext cx="13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二、在前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3434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三、当跟时间名词构成时间短语时，它们前面也不加介词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44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. We are meeting next Tues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9051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 He stayed with us last w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2286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. What are you going to do this even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666880"/>
            <a:ext cx="50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. I didn’t feel very well that w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3505320"/>
            <a:ext cx="66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. I’ll have to get up early tomorrow mor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7520" y="3889440"/>
            <a:ext cx="74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 She arrived in London the day before yester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960" y="472752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You can come any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6440" y="5108400"/>
            <a:ext cx="44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 Some day we’ll meet agai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440" y="5489640"/>
            <a:ext cx="78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. Let’s have a dancing party one evening next w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05920" y="5791320"/>
            <a:ext cx="380880" cy="5094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09400"/>
              <a:gd name="textAreaBottom" fmla="*/ 484920 h 509400"/>
            </a:gdLst>
            <a:ahLst/>
            <a:rect l="textAreaLeft" t="textAreaTop" r="textAreaRight" b="textAreaBottom"/>
            <a:pathLst>
              <a:path w="21600" h="28882">
                <a:moveTo>
                  <a:pt x="0" y="0"/>
                </a:moveTo>
                <a:lnTo>
                  <a:pt x="21600" y="0"/>
                </a:lnTo>
                <a:lnTo>
                  <a:pt x="21600" y="28882"/>
                </a:lnTo>
                <a:lnTo>
                  <a:pt x="0" y="28882"/>
                </a:lnTo>
                <a:close/>
              </a:path>
              <a:path fill="lightenLess" w="21600" h="288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82">
                <a:moveTo>
                  <a:pt x="21600" y="0"/>
                </a:moveTo>
                <a:lnTo>
                  <a:pt x="21600" y="28882"/>
                </a:lnTo>
                <a:lnTo>
                  <a:pt x="20200" y="27482"/>
                </a:lnTo>
                <a:lnTo>
                  <a:pt x="20200" y="1400"/>
                </a:lnTo>
                <a:close/>
              </a:path>
              <a:path fill="darkenLess" w="21600" h="28882">
                <a:moveTo>
                  <a:pt x="21600" y="28882"/>
                </a:moveTo>
                <a:lnTo>
                  <a:pt x="0" y="28882"/>
                </a:lnTo>
                <a:lnTo>
                  <a:pt x="1400" y="27482"/>
                </a:lnTo>
                <a:lnTo>
                  <a:pt x="20200" y="27482"/>
                </a:lnTo>
                <a:close/>
              </a:path>
              <a:path fill="lighten" w="21600" h="28882">
                <a:moveTo>
                  <a:pt x="0" y="288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82"/>
                </a:lnTo>
                <a:close/>
              </a:path>
              <a:path fill="darken" w="21600" h="28882">
                <a:moveTo>
                  <a:pt x="10800" y="7478"/>
                </a:moveTo>
                <a:lnTo>
                  <a:pt x="13376" y="10089"/>
                </a:lnTo>
                <a:lnTo>
                  <a:pt x="13376" y="8348"/>
                </a:lnTo>
                <a:lnTo>
                  <a:pt x="15152" y="8348"/>
                </a:lnTo>
                <a:lnTo>
                  <a:pt x="15152" y="11864"/>
                </a:lnTo>
                <a:lnTo>
                  <a:pt x="17763" y="14441"/>
                </a:lnTo>
                <a:lnTo>
                  <a:pt x="16109" y="14441"/>
                </a:lnTo>
                <a:lnTo>
                  <a:pt x="16109" y="21630"/>
                </a:lnTo>
                <a:lnTo>
                  <a:pt x="5491" y="21630"/>
                </a:lnTo>
                <a:lnTo>
                  <a:pt x="5491" y="14441"/>
                </a:lnTo>
                <a:lnTo>
                  <a:pt x="3837" y="14441"/>
                </a:lnTo>
                <a:close/>
              </a:path>
              <a:path fill="darkenLess" w="21600" h="28882">
                <a:moveTo>
                  <a:pt x="13376" y="10089"/>
                </a:moveTo>
                <a:lnTo>
                  <a:pt x="13376" y="8348"/>
                </a:lnTo>
                <a:lnTo>
                  <a:pt x="15152" y="8348"/>
                </a:lnTo>
                <a:lnTo>
                  <a:pt x="15152" y="11864"/>
                </a:lnTo>
                <a:close/>
              </a:path>
              <a:path fill="darkenLess" w="21600" h="28882">
                <a:moveTo>
                  <a:pt x="9877" y="17940"/>
                </a:moveTo>
                <a:lnTo>
                  <a:pt x="11723" y="17940"/>
                </a:lnTo>
                <a:lnTo>
                  <a:pt x="11723" y="21630"/>
                </a:lnTo>
                <a:lnTo>
                  <a:pt x="16109" y="21630"/>
                </a:lnTo>
                <a:lnTo>
                  <a:pt x="16109" y="14441"/>
                </a:lnTo>
                <a:lnTo>
                  <a:pt x="5491" y="14441"/>
                </a:lnTo>
                <a:lnTo>
                  <a:pt x="5491" y="21630"/>
                </a:lnTo>
                <a:lnTo>
                  <a:pt x="9877" y="2163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0880" y="762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by bike to school. (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6280" y="1324080"/>
            <a:ext cx="78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ride a bike to school.=I go to school by b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49560" y="2009880"/>
            <a:ext cx="8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昨天他坐飞机去了北京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38098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今天上午我是坐轿车上班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5909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went to Beijing by plane yester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3124080"/>
            <a:ext cx="63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took a plane to Beijing yester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4419720"/>
            <a:ext cx="61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went to work by car this mor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952880"/>
            <a:ext cx="58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took a car to work this mor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0"/>
            <a:ext cx="12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24680" y="55627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12352" y="3837"/>
                </a:moveTo>
                <a:lnTo>
                  <a:pt x="14929" y="6448"/>
                </a:lnTo>
                <a:lnTo>
                  <a:pt x="14929" y="4707"/>
                </a:lnTo>
                <a:lnTo>
                  <a:pt x="16704" y="4707"/>
                </a:lnTo>
                <a:lnTo>
                  <a:pt x="16704" y="8224"/>
                </a:lnTo>
                <a:lnTo>
                  <a:pt x="19315" y="10800"/>
                </a:lnTo>
                <a:lnTo>
                  <a:pt x="17661" y="10800"/>
                </a:lnTo>
                <a:lnTo>
                  <a:pt x="17661" y="17989"/>
                </a:lnTo>
                <a:lnTo>
                  <a:pt x="7043" y="17989"/>
                </a:lnTo>
                <a:lnTo>
                  <a:pt x="7043" y="10800"/>
                </a:lnTo>
                <a:lnTo>
                  <a:pt x="5389" y="10800"/>
                </a:lnTo>
                <a:close/>
              </a:path>
              <a:path fill="darkenLess" w="24704" h="21600">
                <a:moveTo>
                  <a:pt x="14929" y="6448"/>
                </a:moveTo>
                <a:lnTo>
                  <a:pt x="14929" y="4707"/>
                </a:lnTo>
                <a:lnTo>
                  <a:pt x="16704" y="4707"/>
                </a:lnTo>
                <a:lnTo>
                  <a:pt x="16704" y="8224"/>
                </a:lnTo>
                <a:close/>
              </a:path>
              <a:path fill="darkenLess" w="24704" h="21600">
                <a:moveTo>
                  <a:pt x="11430" y="14299"/>
                </a:moveTo>
                <a:lnTo>
                  <a:pt x="13275" y="14299"/>
                </a:lnTo>
                <a:lnTo>
                  <a:pt x="13275" y="17989"/>
                </a:lnTo>
                <a:lnTo>
                  <a:pt x="17661" y="17989"/>
                </a:lnTo>
                <a:lnTo>
                  <a:pt x="17661" y="10800"/>
                </a:lnTo>
                <a:lnTo>
                  <a:pt x="7043" y="10800"/>
                </a:lnTo>
                <a:lnTo>
                  <a:pt x="7043" y="17989"/>
                </a:lnTo>
                <a:lnTo>
                  <a:pt x="11430" y="17989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969560" y="146160"/>
            <a:ext cx="42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ummary wri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914400"/>
            <a:ext cx="78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he writer always gets up late on Sundays. He got up late la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unday. Then his aunt Lucy telephoned. She had arrived by train. She was coming to see him. ‘I’m still having breakfast,’he said. His aunt was very surprised. It was one o’cloc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                                   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(45 word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09:27:27Z</dcterms:created>
  <dc:creator/>
  <dc:description/>
  <dc:language>en-US</dc:language>
  <cp:lastModifiedBy>tyz</cp:lastModifiedBy>
  <dcterms:modified xsi:type="dcterms:W3CDTF">2003-03-01T08:28:10Z</dcterms:modified>
  <cp:revision>15</cp:revision>
  <dc:subject/>
  <dc:title/>
</cp:coreProperties>
</file>