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651D-4375-46A2-8DCA-E97923E78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7AB1-F810-4132-ACF7-945A24053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053E-1E14-47E2-BB4F-3135FAA13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FD78-2BB6-44DA-ABA2-1FF55F763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B6A08-2FAF-4985-96F4-42AC759F1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C6364-F9D5-44A6-B7E1-C2B17B470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BABD2-51A6-4CCA-804F-4691CB140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6284F-4390-4FE3-9B66-1B36FCEF5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2F520-4E08-447A-AA6D-6E2361FD4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D2288-13AA-4290-AF70-FF1CDF857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20CE4-3E9D-48AD-AA80-BAD1BEB3D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989C-AC59-4ABA-9860-0901E84CA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76E4E-C891-4BC8-84EA-AE3FDEA77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64ECB-7EA3-47C6-9D58-0E3377374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67365-053F-4641-BEC3-339F09421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73833-11F8-4232-8D12-2542111B8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8E9EB-DE76-4EFA-9761-1065AFDB7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EAEE-714A-44B8-B7C1-0FD0CE9A5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3939-50E9-45C9-88B9-61F6D4388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2253-D6CC-4C00-9033-1D095814D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465C-E7C6-4563-B3AB-5E5DDBB6D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B17E-059B-41D1-8AE0-B4DE8FCFD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9591-2F6A-4530-B4DB-4F97D0116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AD8F-71F7-4F3E-9345-23A2A9AEA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F637B-43FB-4B75-A8D5-FF20BCACB7C0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34DB9-21F3-423E-8273-08E5D1E9B14D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cc66"/>
                </a:solidFill>
                <a:latin typeface="Times New Roman"/>
              </a:rPr>
              <a:t>Lesson 16</a:t>
            </a:r>
            <a:endParaRPr b="0" lang="en-US" sz="7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42720" y="2819520"/>
            <a:ext cx="84582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ffffff"/>
                </a:solidFill>
                <a:latin typeface="Times New Roman"/>
              </a:rPr>
              <a:t>A polite request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Compare: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 failed to pass the exam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 did not fail to pass the exa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73400" y="261144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他没有通过考试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9240" y="396252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他通过了考试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467480" y="5257800"/>
            <a:ext cx="662040" cy="762120"/>
          </a:xfrm>
          <a:custGeom>
            <a:avLst/>
            <a:gdLst>
              <a:gd name="textAreaLeft" fmla="*/ 42840 w 662040"/>
              <a:gd name="textAreaRight" fmla="*/ 619200 w 662040"/>
              <a:gd name="textAreaTop" fmla="*/ 42840 h 762120"/>
              <a:gd name="textAreaBottom" fmla="*/ 719280 h 762120"/>
            </a:gdLst>
            <a:ahLst/>
            <a:rect l="textAreaLeft" t="textAreaTop" r="textAreaRight" b="textAreaBottom"/>
            <a:pathLst>
              <a:path w="21600" h="24863">
                <a:moveTo>
                  <a:pt x="0" y="0"/>
                </a:moveTo>
                <a:lnTo>
                  <a:pt x="21600" y="0"/>
                </a:lnTo>
                <a:lnTo>
                  <a:pt x="21600" y="24863"/>
                </a:lnTo>
                <a:lnTo>
                  <a:pt x="0" y="24863"/>
                </a:lnTo>
                <a:close/>
              </a:path>
              <a:path fill="lightenLess" w="21600" h="2486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863">
                <a:moveTo>
                  <a:pt x="21600" y="0"/>
                </a:moveTo>
                <a:lnTo>
                  <a:pt x="21600" y="24863"/>
                </a:lnTo>
                <a:lnTo>
                  <a:pt x="20200" y="23463"/>
                </a:lnTo>
                <a:lnTo>
                  <a:pt x="20200" y="1400"/>
                </a:lnTo>
                <a:close/>
              </a:path>
              <a:path fill="darkenLess" w="21600" h="24863">
                <a:moveTo>
                  <a:pt x="21600" y="24863"/>
                </a:moveTo>
                <a:lnTo>
                  <a:pt x="0" y="24863"/>
                </a:lnTo>
                <a:lnTo>
                  <a:pt x="1400" y="23463"/>
                </a:lnTo>
                <a:lnTo>
                  <a:pt x="20200" y="23463"/>
                </a:lnTo>
                <a:close/>
              </a:path>
              <a:path fill="lighten" w="21600" h="24863">
                <a:moveTo>
                  <a:pt x="0" y="2486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463"/>
                </a:lnTo>
                <a:close/>
              </a:path>
              <a:path fill="darken" w="21600" h="24863">
                <a:moveTo>
                  <a:pt x="3794" y="12432"/>
                </a:moveTo>
                <a:lnTo>
                  <a:pt x="17806" y="5425"/>
                </a:lnTo>
                <a:lnTo>
                  <a:pt x="17806" y="19438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Arial"/>
              </a:rPr>
              <a:t>Remind:</a:t>
            </a:r>
            <a:r>
              <a:rPr b="0" lang="zh-CN" sz="3200" spc="-1" strike="noStrike">
                <a:solidFill>
                  <a:srgbClr val="ffcc66"/>
                </a:solidFill>
                <a:latin typeface="Arial"/>
              </a:rPr>
              <a:t>表示使…想起，或“记起，提醒”</a:t>
            </a:r>
            <a:br>
              <a:rPr sz="3200"/>
            </a:br>
            <a:r>
              <a:rPr b="0" lang="zh-CN" sz="3200" spc="-1" strike="noStrike">
                <a:solidFill>
                  <a:srgbClr val="ffcc66"/>
                </a:solidFill>
                <a:latin typeface="Arial"/>
              </a:rPr>
              <a:t>remind sb. to do.   </a:t>
            </a:r>
            <a:br>
              <a:rPr sz="3200"/>
            </a:br>
            <a:r>
              <a:rPr b="0" lang="zh-CN" sz="3200" spc="-1" strike="noStrike">
                <a:solidFill>
                  <a:srgbClr val="ffcc66"/>
                </a:solidFill>
                <a:latin typeface="Arial"/>
              </a:rPr>
              <a:t>Remind sb. of sth. 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我提醒他寄信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这张照片使我想起了他的父亲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96280" y="2533680"/>
            <a:ext cx="561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 reminded him to post the letter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42560" y="3600360"/>
            <a:ext cx="620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photo reminds me of his father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65360" y="4267080"/>
            <a:ext cx="18601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我没有忘记寄你的信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　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.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替我向你的母亲问好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58960" y="4876920"/>
            <a:ext cx="562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 remembered to post your letter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669320" y="5943600"/>
            <a:ext cx="527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member me to your mother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-360" y="4038480"/>
            <a:ext cx="178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Compar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67480" y="5815080"/>
            <a:ext cx="586080" cy="738000"/>
          </a:xfrm>
          <a:custGeom>
            <a:avLst/>
            <a:gdLst>
              <a:gd name="textAreaLeft" fmla="*/ 37800 w 586080"/>
              <a:gd name="textAreaRight" fmla="*/ 548280 w 586080"/>
              <a:gd name="textAreaTop" fmla="*/ 37800 h 738000"/>
              <a:gd name="textAreaBottom" fmla="*/ 700200 h 738000"/>
            </a:gdLst>
            <a:ahLst/>
            <a:rect l="textAreaLeft" t="textAreaTop" r="textAreaRight" b="textAreaBottom"/>
            <a:pathLst>
              <a:path w="21600" h="27196">
                <a:moveTo>
                  <a:pt x="0" y="0"/>
                </a:moveTo>
                <a:lnTo>
                  <a:pt x="21600" y="0"/>
                </a:lnTo>
                <a:lnTo>
                  <a:pt x="21600" y="27196"/>
                </a:lnTo>
                <a:lnTo>
                  <a:pt x="0" y="27196"/>
                </a:lnTo>
                <a:close/>
              </a:path>
              <a:path fill="lightenLess" w="21600" h="2719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196">
                <a:moveTo>
                  <a:pt x="21600" y="0"/>
                </a:moveTo>
                <a:lnTo>
                  <a:pt x="21600" y="27196"/>
                </a:lnTo>
                <a:lnTo>
                  <a:pt x="20200" y="25796"/>
                </a:lnTo>
                <a:lnTo>
                  <a:pt x="20200" y="1400"/>
                </a:lnTo>
                <a:close/>
              </a:path>
              <a:path fill="darkenLess" w="21600" h="27196">
                <a:moveTo>
                  <a:pt x="21600" y="27196"/>
                </a:moveTo>
                <a:lnTo>
                  <a:pt x="0" y="27196"/>
                </a:lnTo>
                <a:lnTo>
                  <a:pt x="1400" y="25796"/>
                </a:lnTo>
                <a:lnTo>
                  <a:pt x="20200" y="25796"/>
                </a:lnTo>
                <a:close/>
              </a:path>
              <a:path fill="lighten" w="21600" h="27196">
                <a:moveTo>
                  <a:pt x="0" y="2719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796"/>
                </a:lnTo>
                <a:close/>
              </a:path>
              <a:path fill="darken" w="21600" h="27196">
                <a:moveTo>
                  <a:pt x="3794" y="13598"/>
                </a:moveTo>
                <a:lnTo>
                  <a:pt x="17806" y="6591"/>
                </a:lnTo>
                <a:lnTo>
                  <a:pt x="17806" y="2060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349200"/>
            <a:ext cx="963756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条件句 （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Conditional Sentences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类型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---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真实条件句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Sentences of Real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Conditio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条件句是表示在某种条件或要求下，预期会产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某种结果的表达方法。在“真实条件句 ”中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,IF-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从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中假设的情况是有可能实现或发生的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.IF-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从句中的动词用一般现在时态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主句中的动词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一般将来时态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主句和从句的位置可以互换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If he is out , I’ll call tomorrow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If he has time,he will co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You’ll miss the train if you don’t hurr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He’ll get there in time if he ru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272880"/>
            <a:ext cx="914400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如果要用从句表达将来的意思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也只能用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一般现在时态的形式来表达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而绝不能用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将来时的形式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f it rains tomorrow,I will stay at hom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We’ll go out for a picnic if it is fine next Sunday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If he has enough money next year,he’ll gotoEurop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主句的变化形式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a).IF-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从句中的动词是现在时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主句中的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shall/will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可以用其它情态动词代替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If it rains,we can/must/may stay at ho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If it stops raining we can/may go ou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If you want to lose weight,you must eat less brea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501480"/>
            <a:ext cx="96552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b).IF-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从句中的动词用现在时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主句还可以是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命令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恳求或劝告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f you want to lose weight ,you had bett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eat less brea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f you want to lose weight,eat less brea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f you see Tom tomorrow,could you ask hi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to ring m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4. IF-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从句的变化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a)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从句中可以用现在进行时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表示现在的行为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或将来的安排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f you are leaving tomorrow,I’ll send you a ca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44240" y="577800"/>
            <a:ext cx="8509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f you are looking for Peter,you’ll find hi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n the librar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b).IF-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从句中还可用情态动词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He will come tomorrow if he ca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f they can help you,they will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Ask and answer the questions in pairs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hat happens if you park your car in the wrong place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He usually gives you a parking ticket, doesn’t he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re you lucky if he lets you go without one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o the traffic police always give parking ticket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raffic police are sometimes very polite, aren’t the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here were you spending a holiday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hat did you find on your car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id it welcome you to the cit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re you in a “No Parking” area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hat did the note ask you to pay attention to?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Retell the story: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. Park--- wrong --- policeman ---fi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. Lucky --- lets you go--- tick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3. However --- doesn’t alwa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4. Holiday --- Sweden --- note --- my c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5. “Sir --- welcome --- city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6. “No Parking”ar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7. Enjoy --- pay attention --- sig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8. Note--- a remin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9. A request like this --- cannot fail --- obey 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 polite reques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f you</a:t>
            </a:r>
            <a:r>
              <a:rPr b="0" lang="zh-CN" sz="3200" spc="-1" strike="noStrike">
                <a:solidFill>
                  <a:srgbClr val="ff33cc"/>
                </a:solidFill>
                <a:latin typeface="Times New Roman"/>
              </a:rPr>
              <a:t> par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your car in the wrong place, </a:t>
            </a:r>
            <a:r>
              <a:rPr b="0" lang="zh-CN" sz="3200" spc="-1" strike="noStrike">
                <a:solidFill>
                  <a:srgbClr val="ff33cc"/>
                </a:solidFill>
                <a:latin typeface="Times New Roman"/>
              </a:rPr>
              <a:t>a traffic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33cc"/>
                </a:solidFill>
                <a:latin typeface="Times New Roman"/>
              </a:rPr>
              <a:t>policeman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will soon find it. You will be very lucky if he </a:t>
            </a:r>
            <a:r>
              <a:rPr b="0" lang="zh-CN" sz="3200" spc="-1" strike="noStrike" u="sng">
                <a:solidFill>
                  <a:srgbClr val="ff0033"/>
                </a:solidFill>
                <a:uFillTx/>
                <a:latin typeface="Times New Roman"/>
              </a:rPr>
              <a:t>lets you go </a:t>
            </a:r>
            <a:r>
              <a:rPr b="0" lang="zh-CN" sz="3200" spc="-1" strike="noStrike">
                <a:solidFill>
                  <a:srgbClr val="ffcc66"/>
                </a:solidFill>
                <a:latin typeface="Times New Roman"/>
              </a:rPr>
              <a:t>without a ticke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zh-CN" sz="3200" spc="-1" strike="noStrike" u="sng">
                <a:solidFill>
                  <a:srgbClr val="ff0033"/>
                </a:solidFill>
                <a:uFillTx/>
                <a:latin typeface="Times New Roman"/>
              </a:rPr>
              <a:t>However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, this does not always happen. Traffic police are sometimes very polite. </a:t>
            </a:r>
            <a:r>
              <a:rPr b="0" lang="zh-CN" sz="3200" spc="-1" strike="noStrike">
                <a:solidFill>
                  <a:srgbClr val="ff33cc"/>
                </a:solidFill>
                <a:latin typeface="Times New Roman"/>
              </a:rPr>
              <a:t>During a holiday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n Sweden, I found this note on my car: ‘sir, we </a:t>
            </a:r>
            <a:r>
              <a:rPr b="0" lang="zh-CN" sz="3200" spc="-1" strike="noStrike">
                <a:solidFill>
                  <a:srgbClr val="ffcc66"/>
                </a:solidFill>
                <a:latin typeface="Times New Roman"/>
              </a:rPr>
              <a:t>welcome you to out city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. This is a “</a:t>
            </a:r>
            <a:r>
              <a:rPr b="0" lang="zh-CN" sz="3200" spc="-1" strike="noStrike">
                <a:solidFill>
                  <a:srgbClr val="ffcc66"/>
                </a:solidFill>
                <a:latin typeface="Times New Roman"/>
              </a:rPr>
              <a:t>No Parking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” area. You will enjoy your stay here if you </a:t>
            </a:r>
            <a:r>
              <a:rPr b="0" lang="zh-CN" sz="3200" spc="-1" strike="noStrike">
                <a:solidFill>
                  <a:srgbClr val="ffcc66"/>
                </a:solidFill>
                <a:latin typeface="Times New Roman"/>
              </a:rPr>
              <a:t>pay attention to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our street signs. This note is only a </a:t>
            </a:r>
            <a:r>
              <a:rPr b="0" lang="zh-CN" sz="3200" spc="-1" strike="noStrike" u="sng">
                <a:solidFill>
                  <a:srgbClr val="ff0033"/>
                </a:solidFill>
                <a:uFillTx/>
                <a:latin typeface="Times New Roman"/>
              </a:rPr>
              <a:t>remind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er.’ If you </a:t>
            </a:r>
            <a:r>
              <a:rPr b="0" lang="zh-CN" sz="3200" spc="-1" strike="noStrike">
                <a:solidFill>
                  <a:srgbClr val="ff33cc"/>
                </a:solidFill>
                <a:latin typeface="Times New Roman"/>
              </a:rPr>
              <a:t>receive a request like thi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, you cannot </a:t>
            </a:r>
            <a:r>
              <a:rPr b="0" lang="zh-CN" sz="3200" spc="-1" strike="noStrike" u="sng">
                <a:solidFill>
                  <a:srgbClr val="ff0033"/>
                </a:solidFill>
                <a:uFillTx/>
                <a:latin typeface="Times New Roman"/>
              </a:rPr>
              <a:t>fail to</a:t>
            </a:r>
            <a:r>
              <a:rPr b="0" lang="zh-CN" sz="3200" spc="-1" strike="noStrike" u="sng">
                <a:solidFill>
                  <a:srgbClr val="ff0033"/>
                </a:solidFill>
                <a:uFillTx/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bey it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ummary writ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ffic police usually give you a ticket if you  park you car in the wrong place. The writer found a police note on his car during a holiday in Sweden. The traffic police wanted him to pay attention to their street signs. No one can fail to obey a polite request.                                       (50 word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allow &amp; let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llow sb. to do sth. (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较为正式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　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b. is allowed to do st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let sb. do sth.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通常不用于被动语态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我们不允许大家在教室里吸烟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30440" y="3733920"/>
            <a:ext cx="246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2.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我会让你用我的字典的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84440" y="3138480"/>
            <a:ext cx="837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don’t allow people to smoke in the classroo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1600" y="4419720"/>
            <a:ext cx="546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 will let you use my dictionar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667160" y="838080"/>
            <a:ext cx="6586200" cy="43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mpare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2001"/>
              </a:spcBef>
              <a:buClr>
                <a:srgbClr val="3366ff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lease allow me to buy you a drink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请让我给你买一杯酒。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听起来显得客气，庄重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2001"/>
              </a:spcBef>
              <a:buClr>
                <a:srgbClr val="3366ff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Let me buy you a drink.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让我来给你买一杯酒。（听起来更亲切，随便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001000" y="571500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owever &amp; but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However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是副词，既可放在句子的开头，又可放在句中。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ut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是连词，用来连接一个句子，它只能位于句首，而且强调对比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95680" y="3038400"/>
            <a:ext cx="727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had an invitation;________, he did not go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had an invitation, _______ he did not go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29718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e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77640" y="3429000"/>
            <a:ext cx="63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35160" y="413532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票很贵，但我们还是决定去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69840" y="4791240"/>
            <a:ext cx="7025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The tickets are expensive; however, we sti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decided to go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b)  The tickets are expensive; but we stil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decided to go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96080" y="5715000"/>
            <a:ext cx="838440" cy="685800"/>
          </a:xfrm>
          <a:custGeom>
            <a:avLst/>
            <a:gdLst>
              <a:gd name="textAreaLeft" fmla="*/ 44280 w 838440"/>
              <a:gd name="textAreaRight" fmla="*/ 794160 w 8384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405" h="21600">
                <a:moveTo>
                  <a:pt x="0" y="0"/>
                </a:moveTo>
                <a:lnTo>
                  <a:pt x="26405" y="0"/>
                </a:lnTo>
                <a:lnTo>
                  <a:pt x="26405" y="21600"/>
                </a:lnTo>
                <a:lnTo>
                  <a:pt x="0" y="21600"/>
                </a:lnTo>
                <a:close/>
              </a:path>
              <a:path fill="lightenLess" w="26405" h="21600">
                <a:moveTo>
                  <a:pt x="0" y="0"/>
                </a:moveTo>
                <a:lnTo>
                  <a:pt x="26405" y="0"/>
                </a:lnTo>
                <a:lnTo>
                  <a:pt x="25005" y="1400"/>
                </a:lnTo>
                <a:lnTo>
                  <a:pt x="1400" y="1400"/>
                </a:lnTo>
                <a:close/>
              </a:path>
              <a:path fill="darken" w="26405" h="21600">
                <a:moveTo>
                  <a:pt x="26405" y="0"/>
                </a:moveTo>
                <a:lnTo>
                  <a:pt x="26405" y="21600"/>
                </a:lnTo>
                <a:lnTo>
                  <a:pt x="25005" y="20200"/>
                </a:lnTo>
                <a:lnTo>
                  <a:pt x="25005" y="1400"/>
                </a:lnTo>
                <a:close/>
              </a:path>
              <a:path fill="darkenLess" w="26405" h="21600">
                <a:moveTo>
                  <a:pt x="26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05" y="20200"/>
                </a:lnTo>
                <a:close/>
              </a:path>
              <a:path fill="lighten" w="26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05" h="21600">
                <a:moveTo>
                  <a:pt x="6196" y="10800"/>
                </a:moveTo>
                <a:lnTo>
                  <a:pt x="20209" y="3794"/>
                </a:lnTo>
                <a:lnTo>
                  <a:pt x="20209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Fail to do sth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Fail to do (= do not do, cannot do)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表示“不，不能，没有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)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他始终每星期给母亲写信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)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他没有还清债。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81720" y="3657600"/>
            <a:ext cx="786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 never fails to write (= always writes) to hi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ther every wee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22480" y="5505480"/>
            <a:ext cx="451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 failed to pay his debts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2T11:29:29Z</dcterms:created>
  <dc:creator/>
  <dc:description/>
  <dc:language>en-US</dc:language>
  <cp:lastModifiedBy>史流</cp:lastModifiedBy>
  <dcterms:modified xsi:type="dcterms:W3CDTF">2002-08-09T00:43:58Z</dcterms:modified>
  <cp:revision>3</cp:revision>
  <dc:subject/>
  <dc:title>Lesson 16</dc:title>
</cp:coreProperties>
</file>