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793-E91B-48CB-951E-3EB6ED73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201-47C9-4E2B-B8BE-A0003220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305-DFA0-45A8-8D45-0A3ABBC8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C18-5D1E-4DC9-BACB-07365F70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CC1D-74DC-4D2B-8FCE-404BA284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4D6E-2F97-46B3-B2AC-18D9F39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0702-465B-413B-99C9-E3DE7715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9A06-F273-4486-8892-B93C59D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6C41-79C2-4ABC-B770-EE4A803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D1C3-9F65-484A-B827-80E870E5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5D1C-0597-4826-B5A9-582214C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0AA-BF9A-44D8-8ADC-4CC08015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B4D1-A3C8-4365-BC3F-888DA89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DAC0-DCEA-4735-B85D-DC8A4E4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DE3-055A-4DDC-B982-A4B3173B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D1F4-1EB8-4C94-ACB5-30DE7305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0B6F-8155-448B-9A43-807539F5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D0A-0A4C-4881-9969-F71EC8F0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F1E-44A3-4594-B0B9-EBA79D78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567-06CA-44CA-9609-340306DE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C20-BAEA-4378-ADCD-42633D0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ECC-33CE-4743-9DF5-BA741DF6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B00-B4EE-41EE-A7E1-68810A7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9B0-899F-4DB1-9746-966540F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2B6-D352-4FD4-8336-A406C551BA1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21F4-16F9-4767-B328-94E580280BD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9144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Lesson Eigh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The best and the wors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9040" y="399960"/>
            <a:ext cx="841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Does the writer live in the same town as Jo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 What does Joe has go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 What does nearly everyone enter f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 How big is Bill Frith’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 Does Joe work harder than Bi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 Whose garden has more flowers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vegetabl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 What has Joe made in hi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8. What has he built over the p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9. Does the writer like garde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0. What does he lik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Tell the story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Joe Sanders---most---beautifu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2. nearly everyone---competition---each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year---Joe---every ti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3. Bill Frith’s---larger---Joe’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4. Bill---harder---more---flowers-vegetab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 neat path---wooden bridge---p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6. I---gardens---but not---work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7. every year---enter---competition---alway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prize---worst garden---tow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86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Key to summary writing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Joe Sanders has the b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in town.He wins “The Nic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Competition”each year. Bill Frith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so has a fine garden. Joe’s is bette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The writer’s garden is terrible. H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ways wins a prize for the wors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garden in the tow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3640" y="857160"/>
            <a:ext cx="7940880" cy="3506040"/>
          </a:xfrm>
          <a:prstGeom prst="rect">
            <a:avLst/>
          </a:prstGeom>
          <a:noFill/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报名参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每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种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修筑整洁的小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一座木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辛勤的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获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48720" y="762120"/>
            <a:ext cx="41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nter f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ery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grow 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e neat p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uild a wooden bri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in a pri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7644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enter (one’s name , sb, oneself ) for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使）参加，报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参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约翰报名参加了考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我让学生报名参加口语测试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95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ohn entered himself for the examin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86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entered my students for the spoken English te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719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make ,bui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The car was ________ in Jap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A new road is being ________outside our hou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After he had the plane _________, it was tes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o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During the war Frank used to _________spare pa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or aero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3720" y="40291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7560" y="4486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6160" y="48672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0960" y="5705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1:16:27Z</dcterms:created>
  <dc:creator/>
  <dc:description/>
  <dc:language>en-US</dc:language>
  <cp:lastModifiedBy>tyz</cp:lastModifiedBy>
  <dcterms:modified xsi:type="dcterms:W3CDTF">2003-04-13T02:01:20Z</dcterms:modified>
  <cp:revision>9</cp:revision>
  <dc:subject/>
  <dc:title>PowerPoint 演示文稿</dc:title>
</cp:coreProperties>
</file>