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2B55-78CC-4D50-BE95-93EE1790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67E0-7578-40DA-857C-00DF1D29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50D4-D02D-48F0-8FE3-1661520B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578-5574-4B5A-8C98-1B581D12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FA5D-C5F7-45C6-B446-31F95BFD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2E7C-2F25-4ACD-896F-81C4C558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8BBB-9D25-4D0B-AE41-7C2A467F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2175-479B-4CA7-B4C6-D9D25336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12A9-40AB-450A-AAC6-AD3F7789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D11A-806F-4CB4-8D24-7AFA61B9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4C96-D0C3-4AB1-9C37-8668D1C4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4D1-5250-4486-B086-A3200898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F8E8-4F48-4B7D-9480-034B9461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FBD3-3AE1-4800-9462-63C3944D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1BE7-FCE7-4D4D-AD47-3F96BC51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956A-05A0-48A0-BF2B-08E616D3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4F24-20C9-4B03-9BA1-15D578C9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6FAF-DB92-4E1F-9F96-2F632B1D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8D57-5A1E-4045-8E63-1FCA8398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BCA-FD56-4084-9439-3A439DFA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4570-D706-4302-8017-BF1A72B9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186-C168-46A3-B7E3-B2362CB4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F8C-2D5C-4442-953B-59C02B9D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5FE4-E489-4EF4-8CF6-E43A43C8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7BB7-ECC9-4F7F-9647-EEA303B0C81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1F59-581A-4835-85A0-89200FD5109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82160" y="1066680"/>
            <a:ext cx="549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esson Ninetee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2880" y="2743200"/>
            <a:ext cx="308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Sold Ou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2160" y="219240"/>
            <a:ext cx="8951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Were you at a theatre or a cinem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 Did you think the play was soon going to beg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.Who was with yo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. She thought thr play might have begun already, didn’t sh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. What did you d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 How mane tickets did you ask for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. Did the girl at the ticket office have any left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 What did she s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. Was Susan disappoin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. Who hurried to the ticket office just the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1. What did he want to retur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2. Did the girl accept the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14400" y="196920"/>
            <a:ext cx="9109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ell the s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play– begin—any moment’—sa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 ‘may have begun’—Sus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Hurried—ticket office—’ticket?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‘sorry—sold out,’—gir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. Just then–-hurried—ticket off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6. ‘return—tickets’—asked. ‘certainly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7. Back—at once. ‘Could—those two?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 “Certaily’—’next Wednesday’s—w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m?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. ‘might as well’--sad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72600" y="73080"/>
            <a:ext cx="8727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Key to summary wri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 play was going to begin at an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moment.I Asked for two tickets. Ther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ere none left. Susan and I wer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disappointed. Just then, a man hurried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o the ticket office. He returned tw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ickets. They were for nex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ednesday’s performance. I bough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77520" y="295200"/>
            <a:ext cx="5116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Word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ell out (=sell completely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售空，卖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th be sold out,  sell out s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这本新书卖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二手唱片都已卖完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们卖完了所有的报纸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3640" y="197172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is new book is sold 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320" y="2886120"/>
            <a:ext cx="56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e second- hand records are sold 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640" y="3952800"/>
            <a:ext cx="465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We sold out all the news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5960" y="4334040"/>
            <a:ext cx="8439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y/might as well“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还是…的确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妨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还是跟我一起走的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 No one will eat this food; 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还是把它扔掉的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1760" y="5172120"/>
            <a:ext cx="46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ou may/might come with 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80560" y="5629320"/>
            <a:ext cx="463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t may/might be as well th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1:08:28Z</dcterms:created>
  <dc:creator/>
  <dc:description/>
  <dc:language>en-US</dc:language>
  <cp:lastModifiedBy>st</cp:lastModifiedBy>
  <dcterms:modified xsi:type="dcterms:W3CDTF">2002-07-10T01:22:21Z</dcterms:modified>
  <cp:revision>2</cp:revision>
  <dc:subject/>
  <dc:title>PowerPoint 演示文稿</dc:title>
</cp:coreProperties>
</file>