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1F91-A2E7-4EFE-8865-C12057293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3A54-E446-4E27-89EF-45C25E85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547D-3405-4A5B-91D1-F35B832D7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5BB5-E5F0-482E-A454-94A13C106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2AE1-F7B6-4346-8A26-5635B166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FC94-88DB-4BE0-B032-72DDBB6F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6991-364F-406A-AA67-86F464FA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3297-45FB-4E24-94E9-EADACC1B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5EDC-0A82-4733-9CFE-F7365915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5F40-593F-4F9F-BD38-98491F6C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62CD-FC96-45A7-8FED-18FE3D2A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7991-A2FA-4DBB-ACD6-E69CB53C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D41E-E881-4C3B-A39B-ED0F51DDA0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371600"/>
            <a:ext cx="770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Lesson Ele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One good turn deserves 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D05545_" descr=""/>
          <p:cNvPicPr/>
          <p:nvPr/>
        </p:nvPicPr>
        <p:blipFill>
          <a:blip r:embed="rId2"/>
          <a:stretch/>
        </p:blipFill>
        <p:spPr>
          <a:xfrm>
            <a:off x="3124080" y="3276720"/>
            <a:ext cx="3338640" cy="3281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7560" y="345960"/>
            <a:ext cx="57524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 the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Where were you having dinn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Who came 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Did he once work in the lawyer’s off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How long ago was t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Where is he working n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Is he paid a good sala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What does he always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Do you think he needs to borrow mon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.Does he ever pay it bac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.What did Tony do when he saw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.Have you ever lent him any mon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.Did you have dinner togeth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.What did you ask him during dinn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.What did he give you immediate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.Were you surpris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.Did he pay for the dinn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NA01441_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209680" cy="4495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3760" y="95400"/>
            <a:ext cx="8920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ell the 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.dinner---restaurant---Tony Ste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.worked---lawyer’s office---now---ba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.good salary---always borrows---his 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ever---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4.saw me---came---sat---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5.never borrowed---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6.While--- eating---asked---lend me twenty p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7.surprised---gave me---immedi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8.”I---never---money---you,”Tony---,”so now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ay---dinne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S00554_" descr=""/>
          <p:cNvPicPr/>
          <p:nvPr/>
        </p:nvPicPr>
        <p:blipFill>
          <a:blip r:embed="rId1"/>
          <a:stretch/>
        </p:blipFill>
        <p:spPr>
          <a:xfrm>
            <a:off x="6248520" y="5029200"/>
            <a:ext cx="2444760" cy="1828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8088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e good turn deserves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 a restaur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lawyer’s off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t a good sal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rrow…from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y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t at the same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my surpr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y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6600" y="838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善有善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84120" y="1447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在餐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73400" y="1905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律师事务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3240" y="2362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拿高工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83120" y="289548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向…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86920" y="3352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偿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3809880"/>
            <a:ext cx="100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同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03920" y="4343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使我惊奇的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487692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付钱买，付…的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7680" y="32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360" y="220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arn to use these wo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Deserve: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应得 值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好工作就该拿好报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这些人值得我们帮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她应该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45080" y="3143160"/>
            <a:ext cx="549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work deserves good p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24280" y="4286160"/>
            <a:ext cx="566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se people deserves our hel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25000" y="5429160"/>
            <a:ext cx="373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e deserved to w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926000" y="324000"/>
            <a:ext cx="2562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Pay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偿还  付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他把那五英磅还给了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当他欠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(owe)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了钱总会还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82000" y="1238400"/>
            <a:ext cx="366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paid me th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92800" y="2305080"/>
            <a:ext cx="671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he owes money,he always p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97600" y="2914560"/>
            <a:ext cx="2932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Pay fo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付钱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我买那本字典花了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40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他付给我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元把书买走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你买自行车花了多少钱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3120" y="3828960"/>
            <a:ext cx="59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 paid 40 yuan for the diction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3480" y="4819680"/>
            <a:ext cx="577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 paid me 5 yuan for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7160" y="5810400"/>
            <a:ext cx="652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much did you pay for the bi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8520" y="304920"/>
            <a:ext cx="480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ummary wri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14300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I was having dinner at a restaurant.I saw Tony Steele after a while.He always borrows money from his friends.Tony sat at my table.I asked him to lend me twenty pounds.He gave me the money at once.He wanted me to pay for his dinn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dove" descr=""/>
          <p:cNvPicPr/>
          <p:nvPr/>
        </p:nvPicPr>
        <p:blipFill>
          <a:blip r:embed="rId1"/>
          <a:stretch/>
        </p:blipFill>
        <p:spPr>
          <a:xfrm>
            <a:off x="6781680" y="0"/>
            <a:ext cx="2362320" cy="13716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00:10:41Z</dcterms:created>
  <dc:creator/>
  <dc:description/>
  <dc:language>en-US</dc:language>
  <cp:lastModifiedBy>史流</cp:lastModifiedBy>
  <dcterms:modified xsi:type="dcterms:W3CDTF">2002-07-30T03:12:07Z</dcterms:modified>
  <cp:revision>10</cp:revision>
  <dc:subject/>
  <dc:title>PowerPoint 演示文稿</dc:title>
</cp:coreProperties>
</file>