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CBF-F30A-4AEB-BEC6-3A975042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1F4-1845-4201-8410-B08DC62A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4CE-04B5-4895-98AF-63F91B3C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F68-678E-4C51-8C88-2FB809EB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BD40-4F81-4BD7-97B1-1EA5C52A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6C8-B0BA-4CDE-98A9-017A6302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FDB6-BD80-4804-863D-88E34C93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DAD-B63A-4B57-BA2E-9C029EC7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7A1F-7909-48A2-B734-F576931B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93EC-B232-40C7-A682-6D33A766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554C-2C7E-48B0-8F54-7B1FA455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2BB-63F5-48C4-B925-361E8C4C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2D9-E13F-428E-8C91-F6914D6A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1201-D620-467D-AB64-F4686E2D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8C35-8F80-493E-AC4E-C9771304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7783-36DC-4DCA-9AE0-BABFB1B1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25E8-4A87-481E-BCEA-2F9FED8F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646-5EBC-4142-916A-8E5CA003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437-721F-44AC-A6A0-418A3ACE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02D-4302-43D0-9155-5C9FD5E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E2F-94BE-4C46-A4B6-8609881B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3C1-2E51-43FB-AA1D-1C64472A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074-A5A3-4566-B8BF-B367E9E4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234-CEE4-458F-87DC-747F5BC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7681-E35A-4C4A-9435-334850D869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3CB3-D4B2-42ED-9A48-73C6E1309AA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Lesson 16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720" y="2819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Times New Roman"/>
              </a:rPr>
              <a:t>A polite reques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ss the exa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id not fail to pass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73400" y="2611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没有通过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9240" y="3962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他通过了考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525780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12432"/>
                </a:moveTo>
                <a:lnTo>
                  <a:pt x="17806" y="5425"/>
                </a:lnTo>
                <a:lnTo>
                  <a:pt x="17806" y="19438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:</a:t>
            </a: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表示使…想起，或“记起，提醒”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to do.   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Arial"/>
              </a:rPr>
              <a:t>Remind sb. of sth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提醒他寄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张照片使我想起了他的父亲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6280" y="2533680"/>
            <a:ext cx="56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inded him to post the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2560" y="3600360"/>
            <a:ext cx="62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hoto reminds me of his fa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5360" y="4267080"/>
            <a:ext cx="186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没有忘记寄你的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替我向你的母亲问好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8960" y="487692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remembered to post your lett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69320" y="5943600"/>
            <a:ext cx="52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me to your moth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360" y="403848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mp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815080"/>
            <a:ext cx="586080" cy="738000"/>
          </a:xfrm>
          <a:custGeom>
            <a:avLst/>
            <a:gdLst>
              <a:gd name="textAreaLeft" fmla="*/ 37800 w 586080"/>
              <a:gd name="textAreaRight" fmla="*/ 548280 w 586080"/>
              <a:gd name="textAreaTop" fmla="*/ 37800 h 738000"/>
              <a:gd name="textAreaBottom" fmla="*/ 700200 h 738000"/>
            </a:gdLst>
            <a:ahLst/>
            <a:rect l="textAreaLeft" t="textAreaTop" r="textAreaRight" b="textAreaBottom"/>
            <a:pathLst>
              <a:path w="21600" h="27196">
                <a:moveTo>
                  <a:pt x="0" y="0"/>
                </a:moveTo>
                <a:lnTo>
                  <a:pt x="21600" y="0"/>
                </a:lnTo>
                <a:lnTo>
                  <a:pt x="21600" y="27196"/>
                </a:lnTo>
                <a:lnTo>
                  <a:pt x="0" y="27196"/>
                </a:lnTo>
                <a:close/>
              </a:path>
              <a:path fill="lightenLess" w="21600" h="27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196">
                <a:moveTo>
                  <a:pt x="21600" y="0"/>
                </a:moveTo>
                <a:lnTo>
                  <a:pt x="21600" y="27196"/>
                </a:lnTo>
                <a:lnTo>
                  <a:pt x="20200" y="25796"/>
                </a:lnTo>
                <a:lnTo>
                  <a:pt x="20200" y="1400"/>
                </a:lnTo>
                <a:close/>
              </a:path>
              <a:path fill="darkenLess" w="21600" h="27196">
                <a:moveTo>
                  <a:pt x="21600" y="27196"/>
                </a:moveTo>
                <a:lnTo>
                  <a:pt x="0" y="27196"/>
                </a:lnTo>
                <a:lnTo>
                  <a:pt x="1400" y="25796"/>
                </a:lnTo>
                <a:lnTo>
                  <a:pt x="20200" y="25796"/>
                </a:lnTo>
                <a:close/>
              </a:path>
              <a:path fill="lighten" w="21600" h="27196">
                <a:moveTo>
                  <a:pt x="0" y="27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796"/>
                </a:lnTo>
                <a:close/>
              </a:path>
              <a:path fill="darken" w="21600" h="27196">
                <a:moveTo>
                  <a:pt x="3794" y="13598"/>
                </a:moveTo>
                <a:lnTo>
                  <a:pt x="17806" y="6591"/>
                </a:lnTo>
                <a:lnTo>
                  <a:pt x="17806" y="2060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49200"/>
            <a:ext cx="96375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条件句 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Conditional Sentence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类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--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真实条件句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entences of Real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di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条件句是表示在某种条件或要求下，预期会产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种结果的表达方法。在“真实条件句 ”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假设的情况是有可能实现或发生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用一般现在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动词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将来时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和从句的位置可以互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is out , I’ll call tomo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time,he will c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You’ll miss the train if you don’t hur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’ll get there in time if he ru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7288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果要用从句表达将来的意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也只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态的形式来表达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而绝不能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将来时的形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it rains tomorrow,I will stay at ho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’ll go out for a picnic if it is fine next Sund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he has enough money next year,he’ll gotoEur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的变化形式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).IF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从句中的动词是现在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句中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all/will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以用其它情态动词代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rains,we can/must/may stay at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it stops raining we can/may go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f you want to lose weight,you must eat less bre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01480"/>
            <a:ext cx="9655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的动词用现在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主句还可以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命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恳求或劝告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 ,you had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want to lose weight,eat less br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see Tom tomorrow,could you ask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ring 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的变化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可以用现在进行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现在的行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或将来的安排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eaving tomorrow,I’ll send you a c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44240" y="577800"/>
            <a:ext cx="850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you are looking for Peter,you’ll find h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 the libra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).IF-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句中还可用情态动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 will come tomorrow if he ca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f they can help you,they wil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sk and answer the questions in pair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happens if you park your car in the wrong plac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 usually gives you a parking ticket, doesn’t h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re you lucky if he lets you go without on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o the traffic police always give parking tick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raffic police are sometimes very polite, aren’t the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ere were you spending a holida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you find on your ca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id it welcome you to the c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re you in a “No Parking” are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hat did the note ask you to pay attention to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Park--- wrong --- policeman ---f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Lucky --- lets you go--- ti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However --- doesn’t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Holiday --- Sweden --- note --- my 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. “Sir --- welcome --- cit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. “No Parking”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7. Enjoy --- pay attention ---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8. Note--- a remi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9. A request like this --- cannot fail --- obey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 polite reque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f you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 par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your car in the wrong place,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a traffi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policema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will soon find it. You will be very lucky if he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lets you go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ithout a ticke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Howev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this does not always happen. Traffic police are sometimes very polite.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During a holida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n Sweden, I found this note on my car: ‘sir, we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welcome you to out cit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 This is a “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No Parking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 area. You will enjoy your stay here if you 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pay attention to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ur street signs. This note is only a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remi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er.’ If you 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</a:rPr>
              <a:t>receive a request like thi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 you cannot 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fail to</a:t>
            </a:r>
            <a:r>
              <a:rPr b="0" lang="zh-CN" sz="3200" spc="-1" strike="noStrike" u="sng">
                <a:solidFill>
                  <a:srgbClr val="ff0033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ey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wri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fic police usually give you a ticket if you  park you car in the wrong place. The writer found a police note on his car during a holiday in Sweden. The traffic police wanted him to pay attention to their street signs. No one can fail to obey a polite request.                                       (50 wor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low &amp; le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llow sb. to do sth.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较为正式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b. is allowed to do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sb. do sth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通常不用于被动语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我们不允许大家在教室里吸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0440" y="3733920"/>
            <a:ext cx="24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我会让你用我的字典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4440" y="3138480"/>
            <a:ext cx="83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don’t allow people to smoke in the class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600" y="4419720"/>
            <a:ext cx="54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will let you use my diction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67160" y="838080"/>
            <a:ext cx="6586200" cy="43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par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lease allow me to buy you a drin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请让我给你买一杯酒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听起来显得客气，庄重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et me buy you a drink.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让我来给你买一杯酒。（听起来更亲切，随便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ever &amp; bu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owever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副词，既可放在句子的开头，又可放在句中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连词，用来连接一个句子，它只能位于句首，而且强调对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5680" y="3038400"/>
            <a:ext cx="727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;________,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an invitation, _______ he did not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7640" y="3429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35160" y="4135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票很贵，但我们还是决定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9840" y="4791240"/>
            <a:ext cx="70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he tickets are expensive; however, we st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)  The tickets are expensive; but we st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decided to g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57150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10800"/>
                </a:moveTo>
                <a:lnTo>
                  <a:pt x="20209" y="3794"/>
                </a:lnTo>
                <a:lnTo>
                  <a:pt x="2020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Fail to do sth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Fail to do (= do not do, cannot do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表示“不，不能，没有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始终每星期给母亲写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没有还清债。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1720" y="36576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never fails to write (= always writes) to h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her every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2480" y="55054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failed to pay his deb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1:29:29Z</dcterms:created>
  <dc:creator/>
  <dc:description/>
  <dc:language>en-US</dc:language>
  <cp:lastModifiedBy>史流</cp:lastModifiedBy>
  <dcterms:modified xsi:type="dcterms:W3CDTF">2002-08-09T00:43:58Z</dcterms:modified>
  <cp:revision>3</cp:revision>
  <dc:subject/>
  <dc:title>Lesson 16</dc:title>
</cp:coreProperties>
</file>