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47A-2441-4F0A-A32E-AAF7D861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B23-54E3-4B36-A64D-2CD55C6B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3E4-A082-4558-9046-67FE0B70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09E3-563F-4C1F-B86D-D18218D2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95FA-BBBB-4560-9BFA-82745D56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E28B-1467-4C80-BB55-97C451BE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DD9E-5F31-429A-AB39-2C3C8340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DFD9-9EF2-455C-BC4E-170A0CA2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E105-D9A8-4FEC-B98C-1E42ADC1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8714-8663-408D-BD72-9D34F13E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F02B-F963-47F4-9629-1C270CD1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FD0E-8821-4108-9A6F-32E0A659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71ED-35FB-4D35-9356-65DDA109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FEF3-D981-4561-8626-639DDB55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521F-F032-457E-AB3B-5C1E4446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F21B-02ED-4DA2-8EDC-F32B5083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60F4-F55A-4140-87B9-DD8EC2D1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1331-A9D7-49D1-9486-51789457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BCD-FAC1-4DD6-914F-6C76C80A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DF1F-BEFC-4412-8287-17AA0909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460-18DF-443E-98C5-F4B34BC9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A64-E76A-4D28-AC73-1B23A29C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E1C-2A1D-409C-851A-5600BF08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4C80-3830-4BD9-8880-1FA10AB1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9B47-DAFD-4679-A548-9633891F8DA6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6E03-2CE9-4BB0-AE7D-580D4743A5D8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106668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Monotype Corsiva"/>
              </a:rPr>
              <a:t>Lesson One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Monotype Corsiva"/>
              </a:rPr>
              <a:t>A Private Conversation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3" name="NA00864_" descr=""/>
          <p:cNvPicPr/>
          <p:nvPr/>
        </p:nvPicPr>
        <p:blipFill>
          <a:blip r:embed="rId2"/>
          <a:stretch/>
        </p:blipFill>
        <p:spPr>
          <a:xfrm>
            <a:off x="3505320" y="3352680"/>
            <a:ext cx="25146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8600"/>
            <a:ext cx="8001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Ask and answer in pairs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ere did you go last week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Did you have a good sea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as it an interesting play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You enjoyed the play, didn’t you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o was sitting behind you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ould you hear what the actors were saying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y couldn’t you hear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were they doing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Did you get angry with them or no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did you do then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They didn’t pay any attention, did they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ould you bear i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did you do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at did the young man say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98560" y="609480"/>
            <a:ext cx="7178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Last week---went---theatr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didn’t enjoy---pla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young man---woman---behind 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alking loudl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could not ---act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 turned---and looked---angril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didn’t pay---atten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n the end---couldn’t be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can’t hear---word’---sai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‘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none---business’---man---’private’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2286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y did the writer complain to the people behind him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2952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omplain (to sb.) about sth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924200"/>
            <a:ext cx="85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He always ______________________________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抱怨天气不好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19051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plains about the bad weathe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0672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He complained that _____________________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屋子里太热了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22640" y="3048120"/>
            <a:ext cx="39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room was too ho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343400"/>
            <a:ext cx="844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学生们向老师抱怨作业太多了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———————————————————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———————————————————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7242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students sometimes complain to thei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eachers about too much homework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297000"/>
            <a:ext cx="8534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ast week I went to the theatre. I had a very good seat. The play was very interesting. I did not </a:t>
            </a:r>
            <a:r>
              <a:rPr b="0" lang="en-US" sz="3200" spc="-1" strike="noStrike" u="sng">
                <a:solidFill>
                  <a:srgbClr val="bdd7e5"/>
                </a:solidFill>
                <a:uFillTx/>
                <a:latin typeface="Times New Roman"/>
                <a:hlinkClick r:id="rId2" action="ppaction://hlinksldjump"/>
              </a:rPr>
              <a:t>enjoy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it. A young man and a young woman were sitting behind me. They were talking loudly. I got very angry. I could not hear the actors. I turned round. I looked at the man and the woman angrily. They did not pay any attention. In the end, I could not bear it. I turned round again. ‘I can’t hear a word!’ I said angrily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‘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t’s none of your business,’ the young man said rudely. “This is a private conversation!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50840" y="552600"/>
            <a:ext cx="504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oneself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b. enjo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doing) sth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83808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743200" y="1523880"/>
            <a:ext cx="609480" cy="533520"/>
          </a:xfrm>
          <a:custGeom>
            <a:avLst/>
            <a:gdLst>
              <a:gd name="textAreaLeft" fmla="*/ 0 w 609480"/>
              <a:gd name="textAreaRight" fmla="*/ 609840 w 609480"/>
              <a:gd name="textAreaTop" fmla="*/ 360 h 533520"/>
              <a:gd name="textAreaBottom" fmla="*/ 534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27160" y="2590920"/>
            <a:ext cx="573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 enjoy the play. (√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 enjoy talking with him. (√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 enjoy him. (×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7772400" y="6019920"/>
            <a:ext cx="585720" cy="433440"/>
          </a:xfrm>
          <a:custGeom>
            <a:avLst/>
            <a:gdLst>
              <a:gd name="textAreaLeft" fmla="*/ 28080 w 585720"/>
              <a:gd name="textAreaRight" fmla="*/ 557640 w 585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9182" h="21600">
                <a:moveTo>
                  <a:pt x="0" y="0"/>
                </a:moveTo>
                <a:lnTo>
                  <a:pt x="29182" y="0"/>
                </a:lnTo>
                <a:lnTo>
                  <a:pt x="29182" y="21600"/>
                </a:lnTo>
                <a:lnTo>
                  <a:pt x="0" y="21600"/>
                </a:lnTo>
                <a:close/>
              </a:path>
              <a:path fill="lightenLess" w="29182" h="21600">
                <a:moveTo>
                  <a:pt x="0" y="0"/>
                </a:moveTo>
                <a:lnTo>
                  <a:pt x="29182" y="0"/>
                </a:lnTo>
                <a:lnTo>
                  <a:pt x="27782" y="1400"/>
                </a:lnTo>
                <a:lnTo>
                  <a:pt x="1400" y="1400"/>
                </a:lnTo>
                <a:close/>
              </a:path>
              <a:path fill="darken" w="29182" h="21600">
                <a:moveTo>
                  <a:pt x="29182" y="0"/>
                </a:moveTo>
                <a:lnTo>
                  <a:pt x="29182" y="21600"/>
                </a:lnTo>
                <a:lnTo>
                  <a:pt x="27782" y="20200"/>
                </a:lnTo>
                <a:lnTo>
                  <a:pt x="27782" y="1400"/>
                </a:lnTo>
                <a:close/>
              </a:path>
              <a:path fill="darkenLess" w="29182" h="21600">
                <a:moveTo>
                  <a:pt x="29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82" y="20200"/>
                </a:lnTo>
                <a:close/>
              </a:path>
              <a:path fill="lighten" w="29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82" h="21600">
                <a:moveTo>
                  <a:pt x="14591" y="3837"/>
                </a:moveTo>
                <a:lnTo>
                  <a:pt x="17167" y="6448"/>
                </a:lnTo>
                <a:lnTo>
                  <a:pt x="17167" y="4707"/>
                </a:lnTo>
                <a:lnTo>
                  <a:pt x="18943" y="4707"/>
                </a:lnTo>
                <a:lnTo>
                  <a:pt x="18943" y="8224"/>
                </a:lnTo>
                <a:lnTo>
                  <a:pt x="21554" y="10800"/>
                </a:lnTo>
                <a:lnTo>
                  <a:pt x="19900" y="10800"/>
                </a:lnTo>
                <a:lnTo>
                  <a:pt x="19900" y="17989"/>
                </a:lnTo>
                <a:lnTo>
                  <a:pt x="9282" y="17989"/>
                </a:lnTo>
                <a:lnTo>
                  <a:pt x="9282" y="10800"/>
                </a:lnTo>
                <a:lnTo>
                  <a:pt x="7628" y="10800"/>
                </a:lnTo>
                <a:close/>
              </a:path>
              <a:path fill="darkenLess" w="29182" h="21600">
                <a:moveTo>
                  <a:pt x="17167" y="6448"/>
                </a:moveTo>
                <a:lnTo>
                  <a:pt x="17167" y="4707"/>
                </a:lnTo>
                <a:lnTo>
                  <a:pt x="18943" y="4707"/>
                </a:lnTo>
                <a:lnTo>
                  <a:pt x="18943" y="8224"/>
                </a:lnTo>
                <a:close/>
              </a:path>
              <a:path fill="darkenLess" w="29182" h="21600">
                <a:moveTo>
                  <a:pt x="13669" y="14299"/>
                </a:moveTo>
                <a:lnTo>
                  <a:pt x="15514" y="14299"/>
                </a:lnTo>
                <a:lnTo>
                  <a:pt x="15514" y="17989"/>
                </a:lnTo>
                <a:lnTo>
                  <a:pt x="19900" y="17989"/>
                </a:lnTo>
                <a:lnTo>
                  <a:pt x="19900" y="10800"/>
                </a:lnTo>
                <a:lnTo>
                  <a:pt x="9282" y="10800"/>
                </a:lnTo>
                <a:lnTo>
                  <a:pt x="9282" y="17989"/>
                </a:lnTo>
                <a:lnTo>
                  <a:pt x="13669" y="17989"/>
                </a:lnTo>
                <a:close/>
              </a:path>
            </a:pathLst>
          </a:cu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8600" y="1523880"/>
          <a:ext cx="8686800" cy="4267440"/>
        </p:xfrm>
        <a:graphic>
          <a:graphicData uri="http://schemas.openxmlformats.org/drawingml/2006/table">
            <a:tbl>
              <a:tblPr/>
              <a:tblGrid>
                <a:gridCol w="1241280"/>
                <a:gridCol w="1239840"/>
                <a:gridCol w="1241640"/>
                <a:gridCol w="1241280"/>
                <a:gridCol w="1241640"/>
                <a:gridCol w="1239840"/>
                <a:gridCol w="1241280"/>
              </a:tblGrid>
              <a:tr h="121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en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o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ich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at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o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ich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at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How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ere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hen?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Last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eek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went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To the theatr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514600" y="5335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 simple statemen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79040" y="225360"/>
            <a:ext cx="403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ummary writing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31436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writer went to the theatre last week. He did not enjoy the play. A young man and a young woman were sitting behind him. They were talking loudly. The writer could not hear the actors. He turned round. ‘I can’t hear a word!’ he said. “This is a private conversation!’ the young man said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(55words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5T03:50:41Z</dcterms:created>
  <dc:creator/>
  <dc:description/>
  <dc:language>en-US</dc:language>
  <cp:lastModifiedBy>st</cp:lastModifiedBy>
  <dcterms:modified xsi:type="dcterms:W3CDTF">2002-07-10T01:35:47Z</dcterms:modified>
  <cp:revision>14</cp:revision>
  <dc:subject/>
  <dc:title>PowerPoint 演示文稿</dc:title>
</cp:coreProperties>
</file>