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7A6C-132C-4167-B48D-4996AF32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58B-381A-4B69-AE35-72F9F844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B99-F01D-442E-8D5B-5C888B51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3BF-C042-4074-9151-2ACA2913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1839B-3F5C-4BDC-98C1-B04ACCF3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F16A8-E19B-4A73-AFE2-33A6D88A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6CA5E-7C57-4F57-81B3-DBB5D03A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A7E04-956B-4888-BE83-0B0B524C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6F0BC-30BF-466F-934B-CAA20A9C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CA9E6-3A1F-4E2E-BEA1-B3F58341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E4532-8234-46E4-9BCB-E0773A53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F38-99C2-4256-ADE7-CE093B2A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9093B-FC67-410B-AE07-CBF6662A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F8F07-2B98-4FB0-B4CC-E03236B7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3045C-0775-4D96-BB4D-5ACCC9C9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388D2-0BDF-41A8-9B67-BF270B48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7E46D-DAD4-4A54-8EDE-55459419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A7F4-B66E-4527-AD46-8AA92AC9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9BF-812F-4D0A-90A6-F19ACB8B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5212-558E-443A-B5AC-E2ED129C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777-D47B-4DE9-BA9C-1474D266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AEF-A558-4371-A781-C46D5459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5F6-8F1C-46AD-ADC3-8D571F65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7D5-C486-4101-B3A6-02AB30E7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E934-17D8-4FC6-A693-4B5223A6888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0BC6-E5FC-4572-B1B7-A9F0F66625E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omplete the sent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.I __________________________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已收到两封信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 from my fri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.There are_______________________ 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大量的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in the libr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发现这部电影很令人兴奋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fi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_______________________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. I ____________________________       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以前从没出过国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But I want 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5. He ________________________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已为那家公司工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for 5 y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1773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received two let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great number of b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371628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s film very exci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422100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ve never been  abroad befor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4941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as worked for that firm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1295280"/>
            <a:ext cx="708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Lesson 5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No wrong numb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4560" y="333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5720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ir work: Discuss  the following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066680"/>
            <a:ext cx="8820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here has Mr. James Scott just bought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garage?  How far is it from Silbue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 Can he get a telephone for his new gar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What did he buy and how many has he bou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What happened yester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. How long did the bird cover the dista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. What has he sent requests fo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. What kinds of messages do they car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1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260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Retell the story using  the key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914400"/>
            <a:ext cx="8280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Mr. James Scott→  garage→  Silbury and now→  just bought→  Pinhur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. Pinhurst →five miles→ Silbury→ can’t →telephone→ garage →bought →pige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. Yesterday→ pigeon→ message→ Pinhu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4. covered →distance→ minu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5. up to now →sent requests→ spare parts →messages→ garage→ the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6. this way→ begun→ private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2240" y="958680"/>
            <a:ext cx="7864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381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r.James Scott has a garage in Silbury and now he 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has just bought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another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 garag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in Pinhurst. Pinhurst is only five mile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from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ibury, but Mr. Scott cannot get a telephone for his new garage, so he has just bought twelve pigeons. Yesterday, a pigeon carried the first message 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from Pinhurst to Silbury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 The bird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covered</a:t>
            </a:r>
            <a:r>
              <a:rPr b="0" lang="zh-CN" sz="3200" spc="-1" strike="noStrike">
                <a:solidFill>
                  <a:srgbClr val="33cccc"/>
                </a:solidFill>
                <a:latin typeface="Arial"/>
              </a:rPr>
              <a:t> the distance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in three minutes. Up to now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 Mr. Scott ha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sent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a great many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requests f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spare parts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ot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urgent messages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from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one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 garage to 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the ot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zh-CN" sz="3200" spc="-1" strike="noStrike" u="sng">
                <a:solidFill>
                  <a:srgbClr val="33cccc"/>
                </a:solidFill>
                <a:uFillTx/>
                <a:latin typeface="Arial"/>
              </a:rPr>
              <a:t>In this way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 he has begun his own private “telephone”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er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1.another+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单数名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或直接作代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2.other+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复数或单数名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代词为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3.one…the other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特指两个事物的一个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另一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is apple is green. Can you show me another one/ an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Where are the other peop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ay no attention to what others s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e little girl slowly closed ____ eye and then 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Message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消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音信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口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have a message for you from Mr. John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an you leave a message for Mr. Smith asking him to phone me bac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你能给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Mr. Smith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捎个口信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叫他给我回电话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Service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服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The service here is very slow; sometimes you have to wait ten minutes for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fter-servic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售后服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 self-service restauran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自助餐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-4996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Room servic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饭店把饭菜等送到房间的服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Up to / till /until now=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表示“到目前为止”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与现在完成时连用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目前为止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只读过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外国小说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p to now, I have only read five foreign no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到目前为止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她已得了三个奖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UP till now, she has won three priz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Arial"/>
              </a:rPr>
              <a:t>Summary wri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r. Scott has opened his second garage in Pinhurst. His first garage is in Sibury. Silbury is five miles away. Mr. Scott cannot get a telephone for his new garage. He has bought twelve pigeons. They carry messages from one garage to the other in three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7:04:15Z</dcterms:created>
  <dc:creator/>
  <dc:description/>
  <dc:language>en-US</dc:language>
  <cp:lastModifiedBy>tyz</cp:lastModifiedBy>
  <dcterms:modified xsi:type="dcterms:W3CDTF">2003-03-23T00:38:43Z</dcterms:modified>
  <cp:revision>11</cp:revision>
  <dc:subject/>
  <dc:title>幻灯片 1</dc:title>
</cp:coreProperties>
</file>