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25C-A13D-43CD-9515-4536B591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90D-A673-4746-92F0-82D7A697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98D-1AAA-4355-990B-806C997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062-3CBF-4714-8137-DC485B33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78F-09B6-4F9B-AE4F-D56A435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07F-0FA5-452C-9F74-F80C265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092-0910-4C52-AE17-C9AB996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A12-FDA9-4F83-8BEC-F1E8E24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31C-A89A-4E63-85E9-2D8EBBC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B69-4D9A-49FB-A58D-2AD15B3F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9C1-8C93-403B-BD4A-6BD5A369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9EC-2073-4212-A7DF-621AEF86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983B-7FED-4A95-A9F4-41D8DB131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Lesson 17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9900ff"/>
                </a:solidFill>
                <a:latin typeface="Times New Roman"/>
              </a:rPr>
              <a:t>Always you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0528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What’s your aun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What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How old is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Does she often appear on the stage as a young gir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What will she have to do so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How old  will she pretend to b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 What colour dres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 What kind of stockings must she w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 Did she appear in a play last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 She had to wear short socks, didn’t s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 Do most women of thirty-five wear clothes like t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 Do peopole ever ask how old sh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9147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---ac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st---thiry-five---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spite of---appears---stage---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ennifer---take part---new play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 time---girl---seven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the play---appear---dress---stoc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ast year---play---short socks---coloured 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f ---how old---always answers--- ‘Darling---terrible---grown up!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tline the phrases in the story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t least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至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起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spite of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尽管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虽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ppear on the stage as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登台扮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ave to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不得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必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part in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参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girl of seventeen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岁的女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n a bright red dress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穿着鲜红色的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e grown up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长大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6858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y aunt Jennifer is an actress. She must be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t leas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rty-five years old.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 spite of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is, she often appears on the stage as a young girl. Jennifer will have to take part in a new play soon. This time, she will be a gilr of seventeen. In the play, she must appear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in a bright red d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nd long black stockings. Last year in another play, she had to wear short socks and a bright, orange-coloured dress. If anyone ever asks her how old she is, she always answers, ‘Darling, it must be terrible to be grown up! 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+(the)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高级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表示“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Eg. At mo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多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lat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the earliest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最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儿最多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个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至少有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人已经走了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There is at most 50 people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At least 200 hav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我最晚在星期五给你答复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I will give you an answer on Friday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543800" y="8380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2. In spite of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=although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从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nt out in spite of the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We went out although it was 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虽然生病了，可他还是来开会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me to the meeting in spite of his ill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He came to the meeting  although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162920" y="548640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3. In +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颜色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</a:rPr>
              <a:t>服装 “穿着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新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rid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穿白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rides are usually in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街上有很多便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plainclothes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are a lot of policemen in plainclothes in the str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穿红衣服的女孩是我妹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girl in red is my sis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543800" y="4952880"/>
            <a:ext cx="738360" cy="81468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680"/>
              <a:gd name="textAreaBottom" fmla="*/ 767160 h 8146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39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5756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ummary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aunt Jennifer is an actress. She is over thirty years old. She often appears on the stage as a young girl. Jennifer will act the part of a girl of seventeen in a new play soon. She never tells anyone how old she really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8:37:46Z</dcterms:created>
  <dc:creator/>
  <dc:description/>
  <dc:language>en-US</dc:language>
  <cp:lastModifiedBy>class</cp:lastModifiedBy>
  <dcterms:modified xsi:type="dcterms:W3CDTF">2002-10-08T03:04:16Z</dcterms:modified>
  <cp:revision>7</cp:revision>
  <dc:subject/>
  <dc:title>Lesson 17  Always young</dc:title>
</cp:coreProperties>
</file>