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A38-517A-4C1C-9732-40B60043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84D-3518-4231-8E11-BC38FA5E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50E-56A8-41F7-8A6D-79A48721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260-F31F-42BC-8025-49B26328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1311-981B-4BF1-B441-1087B127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1B51-717E-4293-AB8D-1D1CA6BD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C7D1-6F33-4B9E-93BE-592AF87B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D3CA-CEAE-4609-8CBF-05F0CE02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4600-D17A-4CBF-9524-ED0D77BF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BC37-6ADA-4DEA-A037-2A20E1A3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C951-7A74-4932-BB98-46DA4012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9B0-AA2B-4EA8-BF73-467F9657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8157-42A7-471F-A7E4-66952F8C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19B4-6F1F-4F59-BD80-3058860B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45E4-C8D4-4C26-AAC9-9CD24662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E2D6-6592-4376-952A-3F02E9FD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8960-F638-48A2-82C9-A4260025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043-609E-44D7-A344-C40EABDE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EE5-C386-432B-877F-DA5AF947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718-D29C-4EC7-BBFD-131D760F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1E07-47DC-49A8-9B4E-C8B15490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BAB-786F-46B0-84C1-38016BE8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4A5-0647-4F28-8E67-0BC3F5E8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18B-B439-418A-937A-2335A664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54FD-B997-40E0-9E6C-4848D37227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09B7-3A6F-4F53-A99C-AE885B0F01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54320" y="1600200"/>
            <a:ext cx="45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zh-CN" sz="5400" spc="-1" strike="noStrike">
                <a:solidFill>
                  <a:srgbClr val="0000ff"/>
                </a:solidFill>
                <a:latin typeface="Times New Roman"/>
              </a:rPr>
              <a:t>Lesson 10</a:t>
            </a:r>
            <a:r>
              <a:rPr b="1" i="1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76520" y="3048120"/>
            <a:ext cx="6172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Comic Sans MS"/>
              </a:rPr>
              <a:t>Not for jazz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Comic Sans MS"/>
              <a:ea typeface="Comic Sans MS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304920"/>
            <a:ext cx="64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sk and answer questions in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762120"/>
            <a:ext cx="7559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kind of instrument do we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’s it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was it made?   When was it ma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is our clavichord kep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long has it belonged to our fami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bought it?      When was it bou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as it damaged recently?    Who damag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did she try to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did she strike the ke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many strings were brok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was shock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aren’t we allowed to do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s it being  repa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228600"/>
            <a:ext cx="34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Retell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7160" y="685800"/>
            <a:ext cx="7489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---instr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lled --- clavich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de --- Germany --- 16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ur --- kept ---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longed --- family ---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ought --- grandfather --- years 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ecently --- damaged --- vis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ried --- jazz ---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ruck --- keys --- two strings ---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ther --- sh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 --- not allowed --- to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ing repaired --- friend --- father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4400" y="628560"/>
            <a:ext cx="8367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n old musical instrumen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cal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d a clavichord. It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was made i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1681. Our clavichord is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2" action="ppaction://hlinksldjump"/>
              </a:rPr>
              <a:t>kep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he liv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roo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It has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3" action="ppaction://hlinksldjump"/>
              </a:rPr>
              <a:t>belong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4" action="ppaction://hlinksldjump"/>
              </a:rPr>
              <a:t>ed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5" action="ppaction://hlinksldjump"/>
              </a:rPr>
              <a:t>to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6" action="ppaction://hlinksldjump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ur family for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ong time. The instrument was bought by my grandfather many years ago. Recently it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hlinkClick r:id="rId7" action="ppaction://hlinksldjump"/>
              </a:rPr>
              <a:t>damag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 by a visitor. She tried to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play jaz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 it! She struck the keys too hard and tw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f the strings were broken. My father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ocked. Now we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re not allowed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uc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being repaired by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a friend of my father’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77640" y="48096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Summary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600200"/>
            <a:ext cx="800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own an old clavichord. It was made in 1681. My grandfather bought the instrument many years ago. A visitor damaged it recently. She trie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lay jazz on it. She broke two of the strings. A friend of my father’s is repairing it now.             (45 wor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30640" y="404640"/>
            <a:ext cx="307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name &amp;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009800"/>
            <a:ext cx="792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常表示给一个新产生的人或物命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…取名”比较正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ll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…叫做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称为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没有前者正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50320" y="2657520"/>
            <a:ext cx="29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父母给他取名为罗伯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男孩们管他叫鲍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4114800"/>
            <a:ext cx="63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叫理查德，但我们都管他叫地迪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048120"/>
            <a:ext cx="698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His parents named him Robert, but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boys call him B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7320" y="4572000"/>
            <a:ext cx="80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He was named Richard but we call him Di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029200"/>
            <a:ext cx="9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86040" y="5048280"/>
            <a:ext cx="39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all I call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3040" y="5562720"/>
            <a:ext cx="60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do we call this in Engl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5120" y="5562720"/>
            <a:ext cx="123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1532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79080" y="758880"/>
            <a:ext cx="72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keep = to have for more time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保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8840" y="1592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替我保存一下这东西，等到我回来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63880"/>
            <a:ext cx="64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得留着这地址，以备将来需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4560" y="419112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些旧衣服不值得保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89160" y="2209680"/>
            <a:ext cx="73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Please keep this for me until I come 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3600360"/>
            <a:ext cx="681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I’ll keep this address in case I nee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800600"/>
            <a:ext cx="72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hese old clothes are not worth keep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5410080"/>
            <a:ext cx="69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*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10800" y="550548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keep healthy /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84872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304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belong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be the property/member of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属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1640" y="982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本词典是我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057400"/>
            <a:ext cx="40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家具是我母亲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2004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属于哪个党派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542960"/>
            <a:ext cx="55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at dictionary belongs to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590920"/>
            <a:ext cx="66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e furniture belongs to my 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733920"/>
            <a:ext cx="55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What party do you belong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495680"/>
            <a:ext cx="89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Times New Roman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648320"/>
            <a:ext cx="899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Belong to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既不能用于进行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又不能用于被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55760" y="4572000"/>
            <a:ext cx="54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7467480" y="5715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08040" y="533520"/>
            <a:ext cx="302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 &amp; 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085760"/>
            <a:ext cx="8740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具体物品的价值或用处有所降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定是全部毁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尚可修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作过程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50840" y="2354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133720"/>
            <a:ext cx="87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损毁或破坏到不可修补的程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程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81952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car was only slightly _________ in the acci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Postcards always  _________ my holi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 building  was severely ________ by the sxpl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f you touch that drawing , you’ll _______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If you eat too much , you’ll ______ your appet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2762280"/>
            <a:ext cx="19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m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3200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600360"/>
            <a:ext cx="19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d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81120" y="40575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5147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sp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7543800" y="5715000"/>
            <a:ext cx="838080" cy="662040"/>
          </a:xfrm>
          <a:custGeom>
            <a:avLst/>
            <a:gdLst>
              <a:gd name="textAreaLeft" fmla="*/ 42840 w 838080"/>
              <a:gd name="textAreaRight" fmla="*/ 795240 w 8380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7340" h="21600">
                <a:moveTo>
                  <a:pt x="0" y="0"/>
                </a:moveTo>
                <a:lnTo>
                  <a:pt x="27340" y="0"/>
                </a:lnTo>
                <a:lnTo>
                  <a:pt x="27340" y="21600"/>
                </a:lnTo>
                <a:lnTo>
                  <a:pt x="0" y="21600"/>
                </a:lnTo>
                <a:close/>
              </a:path>
              <a:path fill="lightenLess" w="27340" h="21600">
                <a:moveTo>
                  <a:pt x="0" y="0"/>
                </a:moveTo>
                <a:lnTo>
                  <a:pt x="27340" y="0"/>
                </a:lnTo>
                <a:lnTo>
                  <a:pt x="25940" y="1400"/>
                </a:lnTo>
                <a:lnTo>
                  <a:pt x="1400" y="1400"/>
                </a:lnTo>
                <a:close/>
              </a:path>
              <a:path fill="darken" w="27340" h="21600">
                <a:moveTo>
                  <a:pt x="27340" y="0"/>
                </a:moveTo>
                <a:lnTo>
                  <a:pt x="27340" y="21600"/>
                </a:lnTo>
                <a:lnTo>
                  <a:pt x="25940" y="20200"/>
                </a:lnTo>
                <a:lnTo>
                  <a:pt x="25940" y="1400"/>
                </a:lnTo>
                <a:close/>
              </a:path>
              <a:path fill="darkenLess" w="27340" h="21600">
                <a:moveTo>
                  <a:pt x="273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40" y="20200"/>
                </a:lnTo>
                <a:close/>
              </a:path>
              <a:path fill="lighten" w="273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40" h="21600">
                <a:moveTo>
                  <a:pt x="13670" y="3837"/>
                </a:moveTo>
                <a:lnTo>
                  <a:pt x="16247" y="6448"/>
                </a:lnTo>
                <a:lnTo>
                  <a:pt x="16247" y="4707"/>
                </a:lnTo>
                <a:lnTo>
                  <a:pt x="18022" y="4707"/>
                </a:lnTo>
                <a:lnTo>
                  <a:pt x="18022" y="8224"/>
                </a:lnTo>
                <a:lnTo>
                  <a:pt x="20633" y="10800"/>
                </a:lnTo>
                <a:lnTo>
                  <a:pt x="18979" y="10800"/>
                </a:lnTo>
                <a:lnTo>
                  <a:pt x="18979" y="17989"/>
                </a:lnTo>
                <a:lnTo>
                  <a:pt x="8361" y="17989"/>
                </a:lnTo>
                <a:lnTo>
                  <a:pt x="8361" y="10800"/>
                </a:lnTo>
                <a:lnTo>
                  <a:pt x="6707" y="10800"/>
                </a:lnTo>
                <a:close/>
              </a:path>
              <a:path fill="darkenLess" w="27340" h="21600">
                <a:moveTo>
                  <a:pt x="16247" y="6448"/>
                </a:moveTo>
                <a:lnTo>
                  <a:pt x="16247" y="4707"/>
                </a:lnTo>
                <a:lnTo>
                  <a:pt x="18022" y="4707"/>
                </a:lnTo>
                <a:lnTo>
                  <a:pt x="18022" y="8224"/>
                </a:lnTo>
                <a:close/>
              </a:path>
              <a:path fill="darkenLess" w="27340" h="21600">
                <a:moveTo>
                  <a:pt x="12748" y="14299"/>
                </a:moveTo>
                <a:lnTo>
                  <a:pt x="14593" y="14299"/>
                </a:lnTo>
                <a:lnTo>
                  <a:pt x="14593" y="17989"/>
                </a:lnTo>
                <a:lnTo>
                  <a:pt x="18979" y="17989"/>
                </a:lnTo>
                <a:lnTo>
                  <a:pt x="18979" y="10800"/>
                </a:lnTo>
                <a:lnTo>
                  <a:pt x="8361" y="10800"/>
                </a:lnTo>
                <a:lnTo>
                  <a:pt x="8361" y="17989"/>
                </a:lnTo>
                <a:lnTo>
                  <a:pt x="12748" y="1798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02:55:19Z</dcterms:created>
  <dc:creator/>
  <dc:description/>
  <dc:language>en-US</dc:language>
  <cp:lastModifiedBy>tyz</cp:lastModifiedBy>
  <dcterms:modified xsi:type="dcterms:W3CDTF">2003-04-30T07:49:00Z</dcterms:modified>
  <cp:revision>5</cp:revision>
  <dc:subject/>
  <dc:title>PowerPoint 演示文稿</dc:title>
</cp:coreProperties>
</file>