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3BDE-10E5-40FC-8BC6-36B8F9BF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3FDC-1D7D-4C78-BD6E-DAB62B7E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92E-8CAC-44BE-9B9B-4A0823A7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CEF-21BC-424E-B452-FEA7EC42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2E53-C984-43AE-BF5A-249A109F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3207-7358-4B26-8E64-34A0B915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E763-4D95-497C-B7C3-92D20546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573B-9C32-4B43-8B74-FC2FA62E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3A67-040D-4875-BDA3-03A1DCA4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8006-B471-40AA-A231-6BED89AD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A5A1-2B09-42E5-BFA0-FB62095E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C14-8E90-40F0-B876-F76829DC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ED7E-8D55-4793-8B32-81DB1523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BB85-FDBA-4249-B27A-2A2F2C1B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3863-E15E-41E9-A81A-701DBCE4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25F0-4C33-41A6-9D12-B672A785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4DB0-D0F1-4455-870E-387D887F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9D4-9007-4759-9547-E89BF7F5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442-F412-48F3-8785-ED421BCD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E97-E12B-42D1-9429-F6115951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F67-A0C5-4309-8623-5B6D4F46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A22-C21C-4D5E-8497-56D8A743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BA76-779D-4684-B6EB-FEECCC79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CAAD-019A-481B-802B-3E5D018B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6C5F-3D06-4926-80B1-76C7A7CB93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ADC0-94B7-47A9-A229-31DC9E7DF3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4800" y="1905120"/>
            <a:ext cx="566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Lesson     Seve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9900"/>
                </a:solidFill>
                <a:latin typeface="Times New Roman"/>
              </a:rPr>
              <a:t>Too La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387360" y="0"/>
            <a:ext cx="8434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was waiting at the airpo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How long were they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was the parcel full of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was it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Why did they think some thieves wou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y to steal the diamon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Where were other detectives wai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Who took the parcel off the pla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Where did they carry i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 Who was keeping guard at the do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Who opened the parc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379080" y="0"/>
            <a:ext cx="1006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ell the 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lane--- late---detectives--- wa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Expecting--- paecel--- South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Earlier--- told--- police--- thie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When--- arrived--- some--- main building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thers--- airf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Two men--- parcel--- carried--- Cus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Two--- guard--- door --- others ope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Surprise --- parcel--- stones---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0280" y="152280"/>
            <a:ext cx="87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y to summary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tectives were waiting at the airport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ning. They were expecting a valuab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cel of diamonds from South America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wo men took the parcel into the Cus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use after the arrival of the plane. Tw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tectives opened it. The parcel was full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ones and sa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52560" y="304920"/>
            <a:ext cx="410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xpect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期待，盼望 常用于进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们在等她的信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在盼望约翰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3480" y="1219320"/>
            <a:ext cx="57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We were expecting a letter from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2720" y="20574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I’m expecting John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9920" y="2514600"/>
            <a:ext cx="399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xpect  sb  to do sth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预料他考试通不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我们没料到会有这么多人来参加会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0960" y="3276720"/>
            <a:ext cx="599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I expected him to fail the 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267080"/>
            <a:ext cx="88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We weren’t expecting so many people to 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to the pa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70200" y="828720"/>
            <a:ext cx="4866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eep /stand guar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站岗，放哨，警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他们在给这所房子放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士兵们对囚犯严加防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将军的帐篷周围有士兵警戒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2160" y="1676520"/>
            <a:ext cx="60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They are keping guard over the 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7400" y="2505240"/>
            <a:ext cx="624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soldiers kept a close guard on the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priso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4320" y="3886200"/>
            <a:ext cx="702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There were soldiers standing guard rou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general’s t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857160"/>
            <a:ext cx="797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 + one’s  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感名词，表示满意“使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感到） …的是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one’s joy /surprise /sadness /delig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my great surprise, we w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the surprise of everyone, his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ucc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To his great joy, he passed the exam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2320" y="177840"/>
            <a:ext cx="9184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进行时： 用来表示过去某个时刻正在进行的行为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，这动作通常要持续一段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常与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when,while, or as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连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). When /While /As I was watering the garden, it bega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).Someone knocked at my door when I was having a b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2.when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可引导两个句中的任何一个，而其他两者却不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arrived when I was cooking lu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n John arrived, I was cooking lun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3.while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引出两个同时进行，持续世间较长的两个平行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ile Tom was reading, his wife was listening to the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m was reading while his wife was listening to the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11:36:53Z</dcterms:created>
  <dc:creator/>
  <dc:description/>
  <dc:language>en-US</dc:language>
  <cp:lastModifiedBy>tyz</cp:lastModifiedBy>
  <dcterms:modified xsi:type="dcterms:W3CDTF">2003-04-05T03:43:32Z</dcterms:modified>
  <cp:revision>9</cp:revision>
  <dc:subject/>
  <dc:title>PowerPoint 演示文稿</dc:title>
</cp:coreProperties>
</file>