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2EBF-210D-4F42-A9CB-9B735B4D5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FBD0-DEF1-42C7-B875-E4E153BE9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B35D-FA9B-447D-A007-C00C77E16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B477-E690-44B5-8FB5-2F6C7FAB0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2664F-F764-4E45-A5B4-DF477A07E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CEEE7-7551-4E3C-859B-7FEADF89F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CFDB5-1748-4B7B-A626-975FC258B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D3951-9B1F-483E-A5AA-1E765B687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3C010-F1ED-47D3-91B7-62BBCD796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5FBB6-525D-4EDB-81DA-2DDD03BB0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5B2B5-C666-450C-AD47-A8F764BEB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A1BF-9FF9-4F9F-8570-0D642BEFA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E192B-E790-453B-B91E-928841290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B0616-A865-4AA5-B930-76AFA0128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1FF00-8BF2-4DA3-9DEF-D006FB874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A8743-E0DC-402A-9000-D6AAC9CDC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51838-DE0F-4DE8-BC40-7DCBB3042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4360-C244-4EB4-8A12-FA576491E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82E0-9401-4D12-8B2E-208FEB003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859A-9390-4C4F-9008-4A48D597C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EDB4-818C-4131-9AB0-DD8944C72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FCE5-E169-4BA2-BC16-CFB922B5E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B9B5-61A0-4CE2-90F6-758A1A71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C70A-6B2C-48A2-9D15-C1F330CFF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1" name="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1003320 w 9204120"/>
                <a:gd name="textAreaRight" fmla="*/ 8200800 w 9204120"/>
                <a:gd name="textAreaTop" fmla="*/ 49680 h 457200"/>
                <a:gd name="textAreaBottom" fmla="*/ 407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9800 w 9239400"/>
                <a:gd name="textAreaRight" fmla="*/ 8229600 w 9239400"/>
                <a:gd name="textAreaTop" fmla="*/ 50040 h 460440"/>
                <a:gd name="textAreaBottom" fmla="*/ 41040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39EA0-C036-4872-BD8A-2CCD9E7229AA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48" name="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1003320 w 9204120"/>
                <a:gd name="textAreaRight" fmla="*/ 8200800 w 9204120"/>
                <a:gd name="textAreaTop" fmla="*/ 49680 h 457200"/>
                <a:gd name="textAreaBottom" fmla="*/ 407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9800 w 9239400"/>
                <a:gd name="textAreaRight" fmla="*/ 8229600 w 9239400"/>
                <a:gd name="textAreaTop" fmla="*/ 50040 h 460440"/>
                <a:gd name="textAreaBottom" fmla="*/ 41040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698400" y="6154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36680" y="6154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565680" y="61545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FAE01-C377-4249-934E-F9E18146D307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09480" y="3324240"/>
            <a:ext cx="8001000" cy="374760"/>
            <a:chOff x="609480" y="3324240"/>
            <a:chExt cx="8001000" cy="374760"/>
          </a:xfrm>
        </p:grpSpPr>
        <p:sp>
          <p:nvSpPr>
            <p:cNvPr id="58" name=""/>
            <p:cNvSpPr/>
            <p:nvPr/>
          </p:nvSpPr>
          <p:spPr>
            <a:xfrm>
              <a:off x="609480" y="3470400"/>
              <a:ext cx="800100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15960" y="3324240"/>
              <a:ext cx="7843680" cy="277920"/>
            </a:xfrm>
            <a:prstGeom prst="rect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13500000"/>
            </a:gradFill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2440" y="339408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22440" y="347040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22440" y="354636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2440" y="337968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22440" y="345600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22440" y="353232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57200" y="914400"/>
            <a:ext cx="86868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eaeaea"/>
                </a:solidFill>
                <a:latin typeface="Times New Roman"/>
              </a:rPr>
              <a:t>       </a:t>
            </a:r>
            <a:r>
              <a:rPr b="1" lang="zh-CN" sz="6600" spc="-1" strike="noStrike">
                <a:solidFill>
                  <a:srgbClr val="eaeaea"/>
                </a:solidFill>
                <a:latin typeface="Times New Roman"/>
              </a:rPr>
              <a:t>Lesson Eight</a:t>
            </a:r>
            <a:endParaRPr b="0" lang="en-US" sz="6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eaeaea"/>
                </a:solidFill>
                <a:latin typeface="Times New Roman"/>
              </a:rPr>
              <a:t>The best and the worst</a:t>
            </a:r>
            <a:endParaRPr b="0" lang="en-US" sz="6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09040" y="399960"/>
            <a:ext cx="8415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Question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Does the writer live in the same town as Joe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2. What does Joe has got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3. What does nearly everyone enter for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4. How big is Bill Frith’s garden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5. Does Joe work harder than Bill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6. Whose garden has more flowers an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vegetables 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7. What has Joe made in his garden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8. What has he built over the pool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9. Does the writer like gardens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10. What does he like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52280" y="457200"/>
            <a:ext cx="8839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Tell the story: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Joe Sanders---most---beautiful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2. nearly everyone---competition---each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year---Joe---every time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3. Bill Frith’s---larger---Joe’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4. Bill---harder---more---flowers-vegetable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5. neat path---wooden bridge---pool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6. I---gardens---but not---work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7. every year---enter---competition---alway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prize---worst garden---town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328680"/>
            <a:ext cx="9144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Times New Roman"/>
              </a:rPr>
              <a:t>Key to summary writing: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1" lang="zh-CN" sz="4400" spc="-1" strike="noStrike">
                <a:solidFill>
                  <a:srgbClr val="eaeaea"/>
                </a:solidFill>
                <a:latin typeface="Times New Roman"/>
              </a:rPr>
              <a:t>Joe Sanders has the best garden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Times New Roman"/>
              </a:rPr>
              <a:t>in town.He wins “The Nicest Garden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Times New Roman"/>
              </a:rPr>
              <a:t>Competition”each year. Bill Frith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Times New Roman"/>
              </a:rPr>
              <a:t>also has a fine garden. Joe’s is better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Times New Roman"/>
              </a:rPr>
              <a:t>The writer’s garden is terrible. He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Times New Roman"/>
              </a:rPr>
              <a:t>always wins a prize for the worst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Times New Roman"/>
              </a:rPr>
              <a:t>garden in the town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93640" y="857160"/>
            <a:ext cx="7940880" cy="3506040"/>
          </a:xfrm>
          <a:prstGeom prst="rect">
            <a:avLst/>
          </a:prstGeom>
          <a:noFill/>
          <a:ln w="22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报名参加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每次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种花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修筑整洁的小路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5.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建一座木桥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6.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辛勤的劳动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7.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获奖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48720" y="762120"/>
            <a:ext cx="41616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enter f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every tim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grow flowe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make neat path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build a wooden bridg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hard wor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win a priz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80880" y="676440"/>
            <a:ext cx="8458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enter (one’s name , sb, oneself ) for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（使）参加，报名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                                                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参加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约翰报名参加了考试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我让学生报名参加口语测试。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189540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John entered himself for the examinatio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28861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I entered my students for the spoken English test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3571920"/>
            <a:ext cx="8839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make ,buil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1. The car was ________ in Japa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2. A new road is being ________outside our hous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3. After he had the plane _________, it was test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thorough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4. During the war Frank used to _________spare par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for aeroplane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33720" y="402912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d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327560" y="4486320"/>
            <a:ext cx="83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uil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56160" y="4867200"/>
            <a:ext cx="83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uil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700960" y="570564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k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7T01:16:27Z</dcterms:created>
  <dc:creator/>
  <dc:description/>
  <dc:language>en-US</dc:language>
  <cp:lastModifiedBy>tyz</cp:lastModifiedBy>
  <dcterms:modified xsi:type="dcterms:W3CDTF">2003-04-13T02:01:20Z</dcterms:modified>
  <cp:revision>9</cp:revision>
  <dc:subject/>
  <dc:title>PowerPoint 演示文稿</dc:title>
</cp:coreProperties>
</file>