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D65-8D41-40CA-937E-16AB38F5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4BC-43E8-44E5-B3B8-7DD83C3B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454-1407-420E-B917-FA5865C8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7AC-6420-49AC-B58B-2FD08C28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34ED-1651-4A86-87D8-722BDE56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74BD-1788-4F86-92E8-1B0DF230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FC38-0C29-46F1-A74D-F092BD9C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7481-2F4F-4A64-A16A-C1EF9C69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0181-FD27-48F8-A52C-8CBBC140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02CB-D4A3-41E8-806B-661A3B23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D569-410D-41BF-835D-760C25E8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0ED-1A84-4996-BFC6-EE1F9B63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C60F-C4B6-41B5-BE34-BE2C2BAA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B683-59AC-46DC-AEC4-8DA08BDE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F7EE-C077-4985-AE34-865861E6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DB6F-3CE9-4449-A187-78D87BD2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CE8B-94AA-4BEA-BB95-69ED0F44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98E-0085-49D0-853D-44CB691D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8E06-3035-4D90-BB09-BBDFCE3A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D84-F3CE-4ED1-BC54-C2F01DD7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BD0-979D-4C37-AA89-346B18A7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F27E-0D52-4AB4-8AD0-F9488FDA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22C-BA40-4E80-A8AF-5024DA01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FCB-FA12-45C3-BB35-F02DCD43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4FFA-B0E9-441E-92C6-A230E49155F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9B42-4A4D-4F1E-898F-477A88D1D79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82160" y="1066680"/>
            <a:ext cx="549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esson Ninetee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2880" y="2743200"/>
            <a:ext cx="308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Sold Ou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2160" y="219240"/>
            <a:ext cx="8951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Were you at a theatre or a cinem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Did you think the play was soon going to beg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Who was with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 She thought thr play might have begun already, didn’t sh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. What did you d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 How mane tickets did you ask for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. Did the girl at the ticket office have any left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 What did she s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. Was Susan disappoin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. Who hurried to the ticket office just then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1. What did he want to retu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2. Did the girl accept the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14400" y="196920"/>
            <a:ext cx="9109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ell the s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lay– begin—any moment’—sa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‘may have begun’—Sus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Hurried—ticket office—’ticket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‘sorry—sold out,’—gir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Just then–-hurried—ticket off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6. ‘return—tickets’—asked. ‘certainly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7. Back—at once. ‘Could—those two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“Certaily’—’next Wednesday’s—w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m?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‘might as well’--sad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72600" y="73080"/>
            <a:ext cx="8727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Key to summary wri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 play was going to begin at an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oment.I Asked for two tickets. The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ere none left. Susan and I we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disappointed. Just then, a man hurried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o the ticket office. He returned tw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ickets. They were for nex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ednesday’s performance. I bough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77520" y="295200"/>
            <a:ext cx="5116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ord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ell out (=sell completely)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售空，卖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th be sold out,  sell out s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本新书卖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二手唱片都已卖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卖完了所有的报纸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3640" y="197172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is new book is sold 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320" y="2886120"/>
            <a:ext cx="56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second- hand records are sold 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640" y="3952800"/>
            <a:ext cx="465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We sold out all the news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5960" y="4334040"/>
            <a:ext cx="8439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y/might as well“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还是…的确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妨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还是跟我一起走的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 No one will eat this food; 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还是把它扔掉的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1760" y="5172120"/>
            <a:ext cx="46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ou may/might come with 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80560" y="5629320"/>
            <a:ext cx="463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t may/might be as well th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1:08:28Z</dcterms:created>
  <dc:creator/>
  <dc:description/>
  <dc:language>en-US</dc:language>
  <cp:lastModifiedBy>st</cp:lastModifiedBy>
  <dcterms:modified xsi:type="dcterms:W3CDTF">2002-07-10T01:22:21Z</dcterms:modified>
  <cp:revision>2</cp:revision>
  <dc:subject/>
  <dc:title>PowerPoint 演示文稿</dc:title>
</cp:coreProperties>
</file>