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C90-66A9-4A82-842D-22741FDA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53D-E263-4530-B761-05E3E41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710-9B06-4CE7-BF11-9DE4BBD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032-7BF8-4454-A203-BCBE9CEC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80D0-182F-4779-B5BB-7B67F439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A9B1-F10F-42F0-A1DE-E357493F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2BC5-86DB-4B16-9042-E94C37F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4D1F-38BE-413B-9BD2-A682334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4A9F-969C-4150-9860-67827FB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FCD0-1D2B-45CA-A6DD-20AE1739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38BA-2C17-4C30-940C-0F33F27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F49-BBBD-4DCF-9E09-17696693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A726-3D69-4483-B875-E0F4B2B8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3C59-A7E6-415D-89FA-18A31E5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3A51-E93D-4FDD-902A-DDD172A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4D74-70D1-4C63-B2CF-B31DD73A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4A32-DAF9-4B10-B58B-1D5B7A20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C8B-74E7-463A-943F-EEB2D02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B9E-B3F8-48A8-B2F5-0745C2E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226-9E83-4EB6-B5F2-C7EBEF53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CDD-6EFB-4E40-A8A4-BEB39339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D87-D2A5-4C0D-BCBA-0C9DB09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699-0DD2-420D-A7DD-F2A3ADE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682-FA06-4462-9B4D-ABA7634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C81-336B-4AA0-B287-3DAF9DA12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CF79-956D-4A5A-856F-65C168EF656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Lesson 6</a:t>
            </a:r>
            <a:br>
              <a:rPr sz="5400"/>
            </a:br>
            <a:r>
              <a:rPr b="0" i="1" lang="zh-CN" sz="5400" spc="-1" strike="noStrike">
                <a:solidFill>
                  <a:srgbClr val="996600"/>
                </a:solidFill>
                <a:latin typeface="Times New Roman"/>
              </a:rPr>
              <a:t> Percy Buttons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94920" y="304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here have you just moved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at happened one 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hat did he ask you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Did he pay you for the meal and be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What did he do in return fo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Who told you about him l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Is he well-known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What’s he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Has he called on you bef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How often does he call on the houses in Bridge stre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ve just moved to a house in Bridge Street. Yesterday a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cked 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my door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ked me for a mea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 glass of beer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 return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is, the begga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od on his h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sang songs. I gave him a meal. He ate the food and drank the beer. Then he put a piece of cheese in his pocket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n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t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neighbour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ld me about hi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Everybody knows him. His name is Percy Buttons. 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ls at every ho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 the street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ce a mon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nd always asks for a meal and a glass of be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Tell the story according to the following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just moved----Bridge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Yesterday---beggar knocked ---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asked ---meal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In return---stood---s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ate food---drank---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Then---piece of cheese---pocket---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Later---nighbour---abou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Everybody---him---name---Percy But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 calls---house---street once a---and---asks---meal---glass of b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19320" y="380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Summary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writer has just moved to a house in Bridge Street. A beggar knocked at her dor yesterday. He sang songs. The writer gave him a meal and a glass of beer in return for this. The beggar’s name is Percy Buttons. He calls at every house in the street once a mon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 sb for sth=ask sth of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向某人索要某物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要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ask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d54f41"/>
                </a:solidFill>
                <a:latin typeface="Times New Roman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asked the teacher for three days’sick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向老师请了三天病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Have I asked you for too much?=Have I asked too much of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向你要求得太多了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asked me for 5 yu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fter the class, he asked me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949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In return (for)      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作为报答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回报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交换</a:t>
            </a:r>
            <a:r>
              <a:rPr b="1" lang="zh-CN" sz="3200" spc="-1" strike="noStrike">
                <a:solidFill>
                  <a:srgbClr val="d54f4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often help him with his English and he gives me film tickets in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经常帮助他学英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给我电影票作为报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约翰送给老太太一束鲜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报答她的慈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gave the old lady a bunch of flowers in return for her kind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汤姆买你的自行车付了多少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id Tom give you in return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35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at someplace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d54f41"/>
                </a:solidFill>
                <a:latin typeface="Times New Roman"/>
              </a:rPr>
              <a:t>Call on somebody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d54f41"/>
                </a:solidFill>
                <a:latin typeface="Times New Roman"/>
              </a:rPr>
              <a:t>拜访某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I shall call at your house this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今晚要来登门拜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) Tom calls at Green’s office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Tom calls on Green this mo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13:12Z</dcterms:created>
  <dc:creator/>
  <dc:description/>
  <dc:language>en-US</dc:language>
  <cp:lastModifiedBy>st</cp:lastModifiedBy>
  <dcterms:modified xsi:type="dcterms:W3CDTF">2002-07-10T07:00:15Z</dcterms:modified>
  <cp:revision>4</cp:revision>
  <dc:subject/>
  <dc:title>Lesson 6  Percy Buttons</dc:title>
</cp:coreProperties>
</file>