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9F3-4A8B-40C9-9833-9E4D9A52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AA4-3A0C-404C-9893-E30E43E7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A46-9AE9-4ED9-A7F9-538492EB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F55-7645-4CEB-8FB2-DC391F9C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58A7-20F5-4492-A126-32E871E4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04E-8690-4A19-A9D1-C7DEDC6F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AC0-88F8-496B-9A80-92B2E1B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A79E-952F-41CD-9056-F16BB55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15E8-3E7B-4A01-A162-DF3F4F1E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D99A-7A79-42B0-BFEF-29A73E0E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CDFF-9CDF-4484-B295-FB3B2691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FC4-0270-4FA2-8477-D0CAA524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107-7BC5-4D96-9848-833AB78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C01-C2DF-4C91-94B1-70B4805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5092-D2EC-4752-B62A-F018C535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555-ADEB-44E6-9EE9-8E0066B8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4E07-CE90-40C1-AA25-651891D9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981-5044-4898-8255-C75B8F2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304-5357-4DDE-81AB-06EDB3F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633-08F8-4F05-884E-7ACF9F9C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893-4365-4BCA-B50B-F576FC6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691-9A96-4ACB-BBB9-8128442A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D68-8992-4C95-98F8-C88225F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769-9A2C-488D-A2AC-FAFC608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AE70-45D4-4218-9C61-A385E0AAA4E8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BA28-C9BE-4AB0-B2C3-F64415F52270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39720" y="1447920"/>
            <a:ext cx="481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Lesson twent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840" y="2895480"/>
            <a:ext cx="61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One man in a boa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46960" y="905040"/>
            <a:ext cx="9044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What’s your favourite spor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2. Does it worry you if you don’t catch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3. Do you often fish without catching any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4. Are all fishermen unluck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5. But some are, aren’t the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6. What do they catch instead of fis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7. Why do you think you are even less lucky than the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fisherme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8. Where have you spent whole morning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9. What do you always go home with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0. What do you friends say you must do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1. What do they say about fis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12.What are you really interested 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25200" y="781200"/>
            <a:ext cx="8059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Fishing—favourite s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2.often—hours—any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3. some—luck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4. Instead—fish—boots—rubb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5. I—l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6. never—even—boo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7. whole mornings—river—home—emp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8. ‘give up’—frieds—’waste—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9. don’t realize—important 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0.not—interested—f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11. only—sitting--noth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4120" y="835200"/>
            <a:ext cx="919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Key to summary writing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Fishing is the writer’s favourite s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.Some unlucky fishermen catch old boots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and rubbish.Thewriter is not so luck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He never catches anything.He is no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sted in fishing. Sitting in a boat a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Doing nothing at all is the only thing that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interests him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2:03:38Z</dcterms:created>
  <dc:creator/>
  <dc:description/>
  <dc:language>en-US</dc:language>
  <cp:lastModifiedBy>钱良</cp:lastModifiedBy>
  <dcterms:modified xsi:type="dcterms:W3CDTF">2002-07-08T02:30:33Z</dcterms:modified>
  <cp:revision>1</cp:revision>
  <dc:subject/>
  <dc:title>PowerPoint 演示文稿</dc:title>
</cp:coreProperties>
</file>