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122-1802-41C0-A78B-F257BAC5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4C9-3A42-4C88-A016-8DA20908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117-FBD6-4EBE-8BB1-1365135C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6AC-0766-49BC-A740-8487A896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716-BED7-43F3-8FA1-C01545F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81F-497F-4386-9C92-0A4858A5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F93-1928-4623-AFC5-88D64DF7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B5E-1610-41D4-B9C2-EA6FE736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E02-8B8F-4D72-A5E5-2E2296F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A5D-CA42-4371-B416-B361887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B6B-3199-4CBE-BA31-2EB2B122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6E0-6670-46C1-AE02-46BEF278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C6F-37ED-4434-9C0D-D0ED57A7A0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371600"/>
            <a:ext cx="770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Lesson Ele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One good turn deserves 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D05545_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3338640" cy="328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7560" y="345960"/>
            <a:ext cx="5752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Where were you hav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ho came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Did he once work in the lawyer’s off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How long ago was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Where is he working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Is he paid a good sal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What does he always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Do you think he needs to borrow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Does he ever pay it 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What did Tony do when he saw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Have you ever lent him any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Did you have dinner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.What did you ask him during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.What did he give you immed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.Were you surpri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.Did he pay for the di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1441_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3760" y="95400"/>
            <a:ext cx="892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ll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dinner---restaurant---Tony Ste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worked---lawyer’s office---now---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good salary---always borrows---his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ver---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saw me---came---sat---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.never borrowed---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While--- eating---asked---lend me twenty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.surprised---gave me---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.”I---never---money---you,”Tony---,”so now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y---din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S00554_" descr=""/>
          <p:cNvPicPr/>
          <p:nvPr/>
        </p:nvPicPr>
        <p:blipFill>
          <a:blip r:embed="rId1"/>
          <a:stretch/>
        </p:blipFill>
        <p:spPr>
          <a:xfrm>
            <a:off x="6248520" y="502920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good turn deserves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a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awyer’s o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t a good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rrow…fr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t at the sam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my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660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善有善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8412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餐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7340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3240" y="2362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拿高工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83120" y="28954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向…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8692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偿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38098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03920" y="434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我惊奇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4876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付钱买，付…的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360" y="220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rn to use thes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serve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应得 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好工作就该拿好报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人值得我们帮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她应该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5080" y="314316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work deserves good p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4280" y="428616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people deserves our hel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000" y="5429160"/>
            <a:ext cx="373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deserved to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26000" y="324000"/>
            <a:ext cx="256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偿还  付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把那五英磅还给了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当他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owe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了钱总会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2000" y="1238400"/>
            <a:ext cx="36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paid me th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2800" y="23050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owes money,he always p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7600" y="2914560"/>
            <a:ext cx="29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ay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付钱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买那本字典花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他付给我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元把书买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买自行车花了多少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3120" y="3828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paid 40 yuan for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4819680"/>
            <a:ext cx="57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paid me 5 yuan for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7160" y="5810400"/>
            <a:ext cx="65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did you pay for the b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8520" y="304920"/>
            <a:ext cx="480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mmary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 was having dinner at a restaurant.I saw Tony Steele after a while.He always borrows money from his friends.Tony sat at my table.I asked him to lend me twenty pounds.He gave me the money at once.He wanted me to pay for his di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ove" descr="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00:10:41Z</dcterms:created>
  <dc:creator/>
  <dc:description/>
  <dc:language>en-US</dc:language>
  <cp:lastModifiedBy>史流</cp:lastModifiedBy>
  <dcterms:modified xsi:type="dcterms:W3CDTF">2002-07-30T03:12:07Z</dcterms:modified>
  <cp:revision>10</cp:revision>
  <dc:subject/>
  <dc:title>PowerPoint 演示文稿</dc:title>
</cp:coreProperties>
</file>