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071B-B65B-497B-931F-E20E5C4F1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DAAB-3183-4642-9F93-BED73C400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BA2D-EA14-4A8D-9D96-ACD998AF7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BFD0-4A7E-4A3D-93AE-937DE4261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F1BE43-8BB9-4E6A-8326-2FC87F57E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9861C4-E0B9-4AEC-A783-042FCF01B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807EAD-2056-45F1-826E-DE653AB5C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126063-C9E9-401E-ABFC-6D5C4FD7F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629BE6-9A7C-4CF8-A3F8-E3AB10A46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474AEB-4526-4938-BF0B-4F6B28ADE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A16983-024C-40A0-B0C8-86557353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3E45-25A7-456A-A59A-BE5C9B335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F705F3-815A-4024-894A-FCCDDC9D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E21BAA-782F-4CF6-8B8D-E7AF9988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E0E6AE-BB01-4BD8-8CC0-E06D419FE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7C3C5A-FB0C-4ABB-8BF7-85940D39E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926BE1-E618-422E-8123-C0275CD39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E3FE-F49D-4E20-A212-F45D4E30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1634-29BD-41F4-A74A-7115A9432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B2B2-E127-4984-9F1C-FBB173B34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692A-D657-44FF-8355-BD357D6F2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7800-B164-40BC-A602-8EBB3786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A315-7B7C-48CF-83E6-4E51633B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38F9-EB43-41AA-8D89-1B3DAEDF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D183B-C597-4F5C-AEF2-1DA815C9A33B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C3226-8667-436E-8BEE-5E7B9363D7F9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914400" y="965160"/>
            <a:ext cx="762012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Monotype Corsiva"/>
              </a:rPr>
              <a:t>Lesson Fourte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Monotype Corsiva"/>
              </a:rPr>
              <a:t>Do you speak English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80880" y="0"/>
            <a:ext cx="83059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sk and answer the questions in pai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did you have last yea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part of France were you i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d you been in a small villag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re did you drive on t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 waved to you on the wa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did he ask you fo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did you say good morning to hi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language did you speak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d your passenger reply in French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many words of French do you know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d you speak to him during the journe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did he suddenly say someth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did he ask you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57200" y="380880"/>
            <a:ext cx="822960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tell the stor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using experience---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ft---small village---south of France---dr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the way---man waved---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opped---asked---lif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o---car---good morning---Fren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---same langu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ew words---not---any Fren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ither---spoke---journ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arly---town---suddenly’---speak English?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arnt---English himse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293760"/>
            <a:ext cx="84582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ad an amusing  experienc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last year. After I had left a small villag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 the south of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France, I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rove 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to the next town.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n the way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a young man waved to me. I stopped and 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sked me for a lif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As soon as he had got into the car, I said good morning to him in French and he </a:t>
            </a: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replied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in the same language. </a:t>
            </a: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2" action="ppaction://hlinksldjump"/>
              </a:rPr>
              <a:t>Apart from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 few words, I do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no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know any French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 al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Neither of us spoke during the journey. I had nearly reached the town, </a:t>
            </a: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3" action="ppaction://hlinksldjump"/>
              </a:rPr>
              <a:t>when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the young man suddenly said, very slowly, ‘Do you speak English?’ As I soon learnt, he was English himself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" action="ppaction://hlinkshowjump?jump=lastslide"/>
          </p:cNvPr>
          <p:cNvSpPr/>
          <p:nvPr/>
        </p:nvSpPr>
        <p:spPr>
          <a:xfrm>
            <a:off x="8077320" y="57913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09480" y="2286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ply &amp; ans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8380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I.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都是不及物动词时，可以互换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236232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II.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都跟宾语从句时，可以互换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28195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e answered / replied that he was not com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342900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III. answer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是及物动词；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reply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是不及物动词，带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语时，后面要加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to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42670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He answered / replied to the question / 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mo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5181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2. Have you replied to / answered his lett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137160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I asked him where to go, but he didn’t answer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rep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7924680" y="594360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09480" y="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apart 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3e3ff"/>
                </a:solidFill>
                <a:latin typeface="Arial"/>
              </a:rPr>
              <a:t>= except for / besides </a:t>
            </a:r>
            <a:r>
              <a:rPr b="1" lang="zh-CN" sz="2800" spc="-1" strike="noStrike">
                <a:solidFill>
                  <a:srgbClr val="e3e3ff"/>
                </a:solidFill>
                <a:latin typeface="Arial"/>
              </a:rPr>
              <a:t>除去，除……之外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1066680"/>
            <a:ext cx="744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除一辆轿车之外，我想不起我还需要什么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" y="1676520"/>
            <a:ext cx="855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 can’t think of anything I need apart from a c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362320"/>
            <a:ext cx="585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他除了鼻子以外，哪儿都很好看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3048120"/>
            <a:ext cx="82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part from his nose, he is quite good-look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3733920"/>
            <a:ext cx="780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他除了脸部和双手受伤以外，两条腿也断了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441972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part from the injuries to his face and hand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e broke both le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>
            <a:hlinkClick r:id="rId1" action="ppaction://hlinksldjump"/>
          </p:cNvPr>
          <p:cNvSpPr/>
          <p:nvPr/>
        </p:nvSpPr>
        <p:spPr>
          <a:xfrm>
            <a:off x="8305920" y="5791320"/>
            <a:ext cx="533160" cy="30456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28600" y="45720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Sb had (just) done sth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Sb. was doing sth.                             When sb. else did s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Sb. was going/about to do s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228600"/>
            <a:ext cx="685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Arial"/>
              </a:rPr>
              <a:t>｝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1905120"/>
            <a:ext cx="538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我正要走，电话铃突然响了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236232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 was just about  to leave when the teleph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uddenly ra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3200400"/>
            <a:ext cx="653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我们正在吃饭，一个朋友走了进来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3733920"/>
            <a:ext cx="87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e were having our dinner when a friend came 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267080"/>
            <a:ext cx="660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他们刚刚干完活，天就下起雨来了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480060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y had just finished their work when it beg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o r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>
            <a:hlinkClick r:id="rId1" action="ppaction://hlinksldjump"/>
          </p:cNvPr>
          <p:cNvSpPr/>
          <p:nvPr/>
        </p:nvSpPr>
        <p:spPr>
          <a:xfrm>
            <a:off x="8305920" y="60199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04920" y="0"/>
            <a:ext cx="8839080" cy="88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Monotype Corsiva"/>
              </a:rPr>
              <a:t>Summary wri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ffffff"/>
                </a:solidFill>
                <a:latin typeface="Monotype Corsiva"/>
              </a:rPr>
              <a:t>The writer gave a lift to a young man in the south of France last year. They greeted each other in French. Apart from a few words, the writer doesn’t speak any French. They sat in silence. At the end of the journey the young man asked, ‘Do you speak English?’ He was English himself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Monotype Corsiva"/>
              </a:rPr>
              <a:t>                                                  </a:t>
            </a:r>
            <a:r>
              <a:rPr b="1" lang="zh-CN" sz="4400" spc="-1" strike="noStrike">
                <a:solidFill>
                  <a:srgbClr val="ffffff"/>
                </a:solidFill>
                <a:latin typeface="Monotype Corsiva"/>
              </a:rPr>
              <a:t>(55 words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6T09:27:27Z</dcterms:created>
  <dc:creator/>
  <dc:description/>
  <dc:language>en-US</dc:language>
  <cp:lastModifiedBy>史流</cp:lastModifiedBy>
  <dcterms:modified xsi:type="dcterms:W3CDTF">2002-08-05T03:12:12Z</dcterms:modified>
  <cp:revision>18</cp:revision>
  <dc:subject/>
  <dc:title>幻灯片 1</dc:title>
</cp:coreProperties>
</file>