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1DD-950E-4A16-B321-427C309A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79A-DC46-4DB7-8B78-44FD86CA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CCE-F49A-4329-998E-6C62809E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07A-3395-4D97-B12B-5CF4005A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2BD97-3AB4-410A-AC26-74878F5F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CA6C8-1799-4B3D-9160-24C8FCE2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F9AE1-78EF-492F-9868-E98ED4C2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C95FF-E3A7-4E5A-9751-E82767D5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F0456-199F-4E6F-8B3C-C5638FCF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3C706-02EB-486A-A59D-FE4FE246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1A33F-029C-4A48-91A6-363CF8DB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21A-BB31-49BF-BEEA-FE76B553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A07BD-6019-4182-A341-931DCFDB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071CA-DEA1-40FF-B8DF-3EA9A3B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B8B56-ED7D-406E-8BBB-027FC5D5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DB939-B321-46D2-A6FF-D5192598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E2636-1783-4CB5-8489-E731F108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253-228A-45AB-B071-EF79FE5A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CBF-1DE6-419D-91EC-5486FCC5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151-D2F2-4B1C-A0AF-00EC012D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E35-127E-4805-8027-7B374608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CCE-33BC-41C8-A7DD-A197EDBC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2E8-7594-431B-9591-45FD898C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BF1-BBF5-48D6-8FCE-8919303E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BE41-E499-4451-A38F-021654CC077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A61E-04D0-4D7C-98ED-BCC45BDCD5F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1143000"/>
            <a:ext cx="579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Lesson  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onotype Corsiva"/>
              </a:rPr>
              <a:t>Breakfast or lunc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46280" y="141120"/>
            <a:ext cx="755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ay wa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always get up late on Sunday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 you ever get up before lunch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en did you  get up last Sun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was it like outs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think it was a nice 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happened just th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o was on the ph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ow had she arriv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you s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as she surprised to hear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d you have to repeat yoursel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did s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28600"/>
            <a:ext cx="40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Retell the stor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8560" y="838080"/>
            <a:ext cx="725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ver---early---Su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ast Sunday---very 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looked---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ark outside---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just then---telephone---Aunt Lu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arrived---train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oming---see---you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but---still---breakfast’---s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very surpri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ear---’she said,’---one o’clock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8610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Why was the writer’s aunt surpris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was Sunday. I never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get up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early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Arial"/>
              </a:rPr>
              <a:t>on Sunday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 I sometimes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stay in be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until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lunchtime. Last Sunday I got up very late. I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look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d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out of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he window. It was dark outside.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What a day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!’ I thought. ‘It’s raining again.’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Just the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 the telephone rang. It was my aunt Lucy. “I’ve just arrived by train,’ she said. ‘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I’m coming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to see you.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ut I’m still having breakfast,’ I s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hat are you doing?’ she ask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’m having breakfast,’ I repe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Dear m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’ she said. ‘Do you always get up so late? It’s one o’clock!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80720" y="698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806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指天气、时间、距离、身份等，本身无意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476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t’s September. It’s eight o’clock in the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51460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It’s very cold today. (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32655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It is only two miles from my home to New Y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dist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343400"/>
            <a:ext cx="50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t  was my aunt Luc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40968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until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 = till, up to the time tha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08900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用作介词或连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89396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 waited until 10 o’clock, but he still didn’t 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prepos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895480"/>
            <a:ext cx="55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Wait until I call. (conjun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3640" y="3610080"/>
            <a:ext cx="69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He read/worked until midnight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419720"/>
            <a:ext cx="74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I was here until one o’clock. (prep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5638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  <a:path fill="darken" w="21600" h="28806">
                <a:moveTo>
                  <a:pt x="10800" y="7440"/>
                </a:moveTo>
                <a:lnTo>
                  <a:pt x="13376" y="10051"/>
                </a:ln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lnTo>
                  <a:pt x="17763" y="14403"/>
                </a:lnTo>
                <a:lnTo>
                  <a:pt x="16109" y="14403"/>
                </a:lnTo>
                <a:lnTo>
                  <a:pt x="16109" y="21592"/>
                </a:lnTo>
                <a:lnTo>
                  <a:pt x="5491" y="21592"/>
                </a:lnTo>
                <a:lnTo>
                  <a:pt x="5491" y="14403"/>
                </a:lnTo>
                <a:lnTo>
                  <a:pt x="3837" y="14403"/>
                </a:lnTo>
                <a:close/>
              </a:path>
              <a:path fill="darkenLess" w="21600" h="28806">
                <a:moveTo>
                  <a:pt x="13376" y="10051"/>
                </a:moveTo>
                <a:lnTo>
                  <a:pt x="13376" y="8310"/>
                </a:lnTo>
                <a:lnTo>
                  <a:pt x="15152" y="8310"/>
                </a:lnTo>
                <a:lnTo>
                  <a:pt x="15152" y="11827"/>
                </a:lnTo>
                <a:close/>
              </a:path>
              <a:path fill="darkenLess" w="21600" h="28806">
                <a:moveTo>
                  <a:pt x="9877" y="17902"/>
                </a:moveTo>
                <a:lnTo>
                  <a:pt x="11723" y="17902"/>
                </a:lnTo>
                <a:lnTo>
                  <a:pt x="11723" y="21592"/>
                </a:lnTo>
                <a:lnTo>
                  <a:pt x="16109" y="21592"/>
                </a:lnTo>
                <a:lnTo>
                  <a:pt x="16109" y="14403"/>
                </a:lnTo>
                <a:lnTo>
                  <a:pt x="5491" y="14403"/>
                </a:lnTo>
                <a:lnTo>
                  <a:pt x="5491" y="21592"/>
                </a:lnTo>
                <a:lnTo>
                  <a:pt x="9877" y="21592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43200" y="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介词与时间短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般说来，时间短语前要加介词， 但下列几种情况均属不加之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、在组成的时间短语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24080"/>
            <a:ext cx="13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二、在前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三、当跟时间名词构成时间短语时，它们前面也不加介词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We are meeting next Tues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He stayed with us las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What are you going to do this eve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666880"/>
            <a:ext cx="50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. I didn’t feel very well tha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505320"/>
            <a:ext cx="66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. I’ll have to get up early tomorrow mo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520" y="388944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he arrived in London the day befor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960" y="472752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You can come an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6440" y="510840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Some day we’ll meet agai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440" y="5489640"/>
            <a:ext cx="78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. Let’s have a dancing party one evening nex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5791320"/>
            <a:ext cx="380880" cy="5094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09400"/>
              <a:gd name="textAreaBottom" fmla="*/ 484920 h 509400"/>
            </a:gdLst>
            <a:ahLst/>
            <a:rect l="textAreaLeft" t="textAreaTop" r="textAreaRight" b="textAreaBottom"/>
            <a:pathLst>
              <a:path w="21600" h="28882">
                <a:moveTo>
                  <a:pt x="0" y="0"/>
                </a:moveTo>
                <a:lnTo>
                  <a:pt x="21600" y="0"/>
                </a:lnTo>
                <a:lnTo>
                  <a:pt x="21600" y="28882"/>
                </a:lnTo>
                <a:lnTo>
                  <a:pt x="0" y="28882"/>
                </a:lnTo>
                <a:close/>
              </a:path>
              <a:path fill="lightenLess" w="21600" h="288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82">
                <a:moveTo>
                  <a:pt x="21600" y="0"/>
                </a:moveTo>
                <a:lnTo>
                  <a:pt x="21600" y="28882"/>
                </a:lnTo>
                <a:lnTo>
                  <a:pt x="20200" y="27482"/>
                </a:lnTo>
                <a:lnTo>
                  <a:pt x="20200" y="1400"/>
                </a:lnTo>
                <a:close/>
              </a:path>
              <a:path fill="darkenLess" w="21600" h="28882">
                <a:moveTo>
                  <a:pt x="21600" y="28882"/>
                </a:moveTo>
                <a:lnTo>
                  <a:pt x="0" y="28882"/>
                </a:lnTo>
                <a:lnTo>
                  <a:pt x="1400" y="27482"/>
                </a:lnTo>
                <a:lnTo>
                  <a:pt x="20200" y="27482"/>
                </a:lnTo>
                <a:close/>
              </a:path>
              <a:path fill="lighten" w="21600" h="28882">
                <a:moveTo>
                  <a:pt x="0" y="288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82"/>
                </a:lnTo>
                <a:close/>
              </a:path>
              <a:path fill="darken" w="21600" h="28882">
                <a:moveTo>
                  <a:pt x="10800" y="7478"/>
                </a:moveTo>
                <a:lnTo>
                  <a:pt x="13376" y="10089"/>
                </a:ln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lnTo>
                  <a:pt x="17763" y="14441"/>
                </a:lnTo>
                <a:lnTo>
                  <a:pt x="16109" y="14441"/>
                </a:lnTo>
                <a:lnTo>
                  <a:pt x="16109" y="21630"/>
                </a:lnTo>
                <a:lnTo>
                  <a:pt x="5491" y="21630"/>
                </a:lnTo>
                <a:lnTo>
                  <a:pt x="5491" y="14441"/>
                </a:lnTo>
                <a:lnTo>
                  <a:pt x="3837" y="14441"/>
                </a:lnTo>
                <a:close/>
              </a:path>
              <a:path fill="darkenLess" w="21600" h="28882">
                <a:moveTo>
                  <a:pt x="13376" y="10089"/>
                </a:moveTo>
                <a:lnTo>
                  <a:pt x="13376" y="8348"/>
                </a:lnTo>
                <a:lnTo>
                  <a:pt x="15152" y="8348"/>
                </a:lnTo>
                <a:lnTo>
                  <a:pt x="15152" y="11864"/>
                </a:lnTo>
                <a:close/>
              </a:path>
              <a:path fill="darkenLess" w="21600" h="28882">
                <a:moveTo>
                  <a:pt x="9877" y="17940"/>
                </a:moveTo>
                <a:lnTo>
                  <a:pt x="11723" y="17940"/>
                </a:lnTo>
                <a:lnTo>
                  <a:pt x="11723" y="21630"/>
                </a:lnTo>
                <a:lnTo>
                  <a:pt x="16109" y="21630"/>
                </a:lnTo>
                <a:lnTo>
                  <a:pt x="16109" y="14441"/>
                </a:lnTo>
                <a:lnTo>
                  <a:pt x="5491" y="14441"/>
                </a:lnTo>
                <a:lnTo>
                  <a:pt x="5491" y="21630"/>
                </a:lnTo>
                <a:lnTo>
                  <a:pt x="9877" y="2163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by bike to school. (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6280" y="1324080"/>
            <a:ext cx="78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ride a bike to school.=I go to school by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49560" y="200988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昨天他坐飞机去了北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809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今天上午我是坐轿车上班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590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 went to Beijing by plan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124080"/>
            <a:ext cx="63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ook a plane to Beijing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419720"/>
            <a:ext cx="61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went to work by car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95288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took a car to work this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55627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12352" y="3837"/>
                </a:moveTo>
                <a:lnTo>
                  <a:pt x="14929" y="6448"/>
                </a:ln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lnTo>
                  <a:pt x="19315" y="10800"/>
                </a:lnTo>
                <a:lnTo>
                  <a:pt x="17661" y="10800"/>
                </a:lnTo>
                <a:lnTo>
                  <a:pt x="17661" y="17989"/>
                </a:lnTo>
                <a:lnTo>
                  <a:pt x="7043" y="17989"/>
                </a:lnTo>
                <a:lnTo>
                  <a:pt x="7043" y="10800"/>
                </a:lnTo>
                <a:lnTo>
                  <a:pt x="5389" y="10800"/>
                </a:lnTo>
                <a:close/>
              </a:path>
              <a:path fill="darkenLess" w="24704" h="21600">
                <a:moveTo>
                  <a:pt x="14929" y="6448"/>
                </a:moveTo>
                <a:lnTo>
                  <a:pt x="14929" y="4707"/>
                </a:lnTo>
                <a:lnTo>
                  <a:pt x="16704" y="4707"/>
                </a:lnTo>
                <a:lnTo>
                  <a:pt x="16704" y="8224"/>
                </a:lnTo>
                <a:close/>
              </a:path>
              <a:path fill="darkenLess" w="24704" h="21600">
                <a:moveTo>
                  <a:pt x="11430" y="14299"/>
                </a:moveTo>
                <a:lnTo>
                  <a:pt x="13275" y="14299"/>
                </a:lnTo>
                <a:lnTo>
                  <a:pt x="13275" y="17989"/>
                </a:lnTo>
                <a:lnTo>
                  <a:pt x="17661" y="17989"/>
                </a:lnTo>
                <a:lnTo>
                  <a:pt x="17661" y="10800"/>
                </a:lnTo>
                <a:lnTo>
                  <a:pt x="7043" y="10800"/>
                </a:lnTo>
                <a:lnTo>
                  <a:pt x="7043" y="17989"/>
                </a:lnTo>
                <a:lnTo>
                  <a:pt x="11430" y="17989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969560" y="146160"/>
            <a:ext cx="42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ummary wri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91440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writer always gets up late on Sundays. He got up late l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unday. Then his aunt Lucy telephoned. She had arrived by train. She was coming to see him. ‘I’m still having breakfast,’he said. His aunt was very surprised. It was one o’clo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                                      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(45 wor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tyz</cp:lastModifiedBy>
  <dcterms:modified xsi:type="dcterms:W3CDTF">2003-03-01T08:28:10Z</dcterms:modified>
  <cp:revision>15</cp:revision>
  <dc:subject/>
  <dc:title/>
</cp:coreProperties>
</file>