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383-1054-44ED-8B0C-4E70BDF1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E55-7EC6-46B5-86CA-8B1D61AA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0D8-F726-4EE8-AE45-6EE9012C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C58-75F3-40B5-962A-CB3C648C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2D58-D13F-4DA4-88CE-98D2BCE4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25CC-6B5F-42C2-8255-6A0C434D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44C1-FD51-43CC-9174-B5F7FA09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4511-D470-44C7-847E-CDA1B03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BE03-1E48-4028-A063-906A68F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FDD-B0BF-431B-A0B1-C035955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BB23-F136-4329-8DA3-4892E12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769-03F5-4AAC-808E-EEA0CF06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BEC8-DB22-42D4-AB60-4CAB5768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76E5-6752-4BF9-B9AA-871DB469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4255-578A-4490-9A13-866E7618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417B-B75C-4496-9041-5221E6D4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74F9-D329-4CFE-AF06-92FFEF64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3E9-27A1-48FE-BE14-0AA9F0C3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EB1-5D66-4A7A-A555-B3970A30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783-E335-4B2F-92A6-A5668A3D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5B6-3A60-43D9-9325-4A2B494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82F-DCCD-496D-99A0-CF84389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2CE-00E4-4C80-AA80-E470BF9F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477-6233-4456-8E8F-A065E3B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A752-A6EA-4A53-A012-7567A4D06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DEF6-ECFC-4F28-BDBA-5762186D64D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Lesson 6</a:t>
            </a:r>
            <a:br>
              <a:rPr sz="5400"/>
            </a:b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 Percy Buttons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here have you just mov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at happened one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hat did he ask you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Did he pay you for the meal and be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What did he do in return fo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Who told you about him l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Is he well-known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What’s h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Has he called on you bef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How often does he call on the houses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ve just moved to a house in Bridge Street. Yesterday a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cked 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y door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ked me for a me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 glass of beer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return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is, the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od on his h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sang songs. I gave him a meal. He ate the food and drank the beer. Then he put a piece of cheese in his pocket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n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neighbou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ld me about hi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Everybody knows him. His name is Percy Buttons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s at every ho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the street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ce a mon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lways asks for a meal and a glass of be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ell the story according to the follow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just moved----Bridge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Yesterday---beggar knocked ---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asked ---meal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In return---stood---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ate food---drank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Then---piece of cheese---pocket---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Later---nighbour---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Everybody---him---name---Percy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 calls---house---street once a---and---asks---meal---glass of 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writer has just moved to a house in Bridge Street. A beggar knocked at her dor yesterday. He sang songs. The writer gave him a meal and a glass of beer in return for this. The beggar’s name is Percy Buttons. He calls at every house in the street once a mon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 sb for sth=ask sth of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向某人索要某物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问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询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asked the teacher for three days’sick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向老师请了三天病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Have I asked you for too much?=Have I asked too much of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向你要求得太多了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asked me for 5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fter the class, he asked me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In return (for)      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作为报答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回报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交换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often help him with his English and he gives me film tickets in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经常帮助他学英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给我电影票作为报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约翰送给老太太一束鲜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报答她的慈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gave the old lady a bunch of flowers in return for her kin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汤姆买你的自行车付了多少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id Tom give you in return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at someplace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on somebody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shall call at your house this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今晚要来登门拜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) Tom calls at Green’s office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Tom calls on Green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13:12Z</dcterms:created>
  <dc:creator/>
  <dc:description/>
  <dc:language>en-US</dc:language>
  <cp:lastModifiedBy>st</cp:lastModifiedBy>
  <dcterms:modified xsi:type="dcterms:W3CDTF">2002-07-10T07:00:15Z</dcterms:modified>
  <cp:revision>4</cp:revision>
  <dc:subject/>
  <dc:title>Lesson 6  Percy Buttons</dc:title>
</cp:coreProperties>
</file>