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528-48B8-436F-8EC9-2D5C5A04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0E8-E965-45F8-92F1-F49AB33F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F8F-53B9-45E5-A889-9924BE1A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C4F-4350-41E5-9954-8A2C17DA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4E87-3F1A-4552-82F1-CBBAD214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0372-BD1C-449E-8627-91A25724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0CB-8D71-432E-B432-BB146A3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AB8-4CC6-40CA-8C81-1BEBD4C1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7E8A-8A7B-4651-9592-F7BCC651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E039-2598-4315-A09A-D64B72A0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802E-2ABA-46E4-86FA-5B61832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83F-78C1-4222-8C96-F5DEFB3E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F3D-99A8-4E37-8AEC-7E74A669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BF41-A002-40F8-A586-3B7C8D87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E44F-6D0F-4060-99E3-4D3D605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F6E9-1AB9-4283-8BBF-11284390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C4BB-0A4C-4981-B0A6-EA58DBEB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6F7-F4AE-4406-AC07-BB888E9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ECB-E9F5-41E4-AFF8-5717531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050-436D-445D-895C-BD84FAC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65D-4EE3-4F91-BB8F-9511C68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B3E-6403-4348-AD0E-26712E3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3DC-4427-4A77-8A6A-411ED980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E75-C46C-46F9-906B-777AB5CB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DCA8-632C-4D61-90AD-DC61B724493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BDE6-AEF8-4D33-82D8-C9892F41A20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91440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Lesson Eigh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The best and the wors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9040" y="399960"/>
            <a:ext cx="8415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Does the writer live in the same town as Jo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 What does Joe has go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 What does nearly everyone enter f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 How big is Bill Frith’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 Does Joe work harder than Bil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 Whose garden has more flowers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vegetables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 What has Joe made in hi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8. What has he built over the po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9. Does the writer like garde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0. What does he lik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Tell the story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Joe Sanders---most---beautifu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2. nearly everyone---competition---each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year---Joe---every tim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3. Bill Frith’s---larger---Joe’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4. Bill---harder---more---flowers-vegetab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 neat path---wooden bridge---p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6. I---gardens---but not---work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7. every year---enter---competition---alway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prize---worst garden---tow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86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Key to summary writing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Joe Sanders has the b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in town.He wins “The Nic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Competition”each year. Bill Frith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so has a fine garden. Joe’s is bette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The writer’s garden is terrible. H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ways wins a prize for the wors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garden in the tow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93640" y="857160"/>
            <a:ext cx="7940880" cy="3506040"/>
          </a:xfrm>
          <a:prstGeom prst="rect">
            <a:avLst/>
          </a:prstGeom>
          <a:noFill/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报名参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每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种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修筑整洁的小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建一座木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辛勤的劳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获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48720" y="762120"/>
            <a:ext cx="41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nter f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very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grow flow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ke neat pa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uild a wooden bri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rd 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in a pri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7644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enter (one’s name , sb, oneself ) for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使）参加，报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参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约翰报名参加了考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我让学生报名参加口语测试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895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ohn entered himself for the examin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86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entered my students for the spoken English te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57192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make ,bui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The car was ________ in Jap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A new road is being ________outside our hou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After he had the plane _________, it was tes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o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During the war Frank used to _________spare par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or aeropl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3720" y="40291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7560" y="44863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6160" y="48672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0960" y="5705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1:16:27Z</dcterms:created>
  <dc:creator/>
  <dc:description/>
  <dc:language>en-US</dc:language>
  <cp:lastModifiedBy>tyz</cp:lastModifiedBy>
  <dcterms:modified xsi:type="dcterms:W3CDTF">2003-04-13T02:01:20Z</dcterms:modified>
  <cp:revision>9</cp:revision>
  <dc:subject/>
  <dc:title>PowerPoint 演示文稿</dc:title>
</cp:coreProperties>
</file>