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411-7844-4C95-B833-BE56E2A6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E23-F659-4EB0-9D7A-C7A2623A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FD2-AD9A-4C2E-A1CC-C158E6EE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EB0-1F77-4875-A00D-1EB74342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0BFE-87FC-49F9-AF57-5A98BC99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4ABD-689A-4E40-9D7E-AEB0CEA9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5D3B-8038-4F86-8B33-33B19159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E89-9C25-4DA9-8CFF-10613B8F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117A-E423-4554-A1AD-62C0C38C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18D2-BD5A-43D7-A8CE-CE386177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32E0-ECCA-4294-A89F-6A78ABE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336-8F5C-4624-8B99-6F1A6489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78F5-32BC-41AC-926B-E903AE29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FF0C-C404-438D-B547-18F3E7B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FC03-ECAD-495D-A8EC-A6F88D59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B308-9999-44BA-AB36-8A4EE249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658C-4B53-424E-836D-9D1087F1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34E-6ADE-47FF-898A-A910FC92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0B4-C33C-418B-8539-70F46369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CA7-1FCC-4F69-B13F-4A3ED8C6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1E0-6BE3-4C7F-AA5D-E9377106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74E-6667-4253-99B6-57106FC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70E-50F9-4236-844D-72E8437B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AC0-C793-41AF-8BE9-19C6348F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5C1C-F612-41BD-9134-1DCD514116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8847-354B-4A8B-93A3-5C9D6FEB55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4320" y="1600200"/>
            <a:ext cx="45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Lesson 10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76520" y="30481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Not for jazz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30492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sk and answer questions in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762120"/>
            <a:ext cx="755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kind of instrument do w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i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was it made?   When was it m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is our clavichord kep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long has it belonged to our fam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bought it?      When was it bo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s it damaged recently?    Who damag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d she try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id she strike the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many strings were brok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was shock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aren’t we allowed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 it being  repa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228600"/>
            <a:ext cx="34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685800"/>
            <a:ext cx="7489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---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ed --- clavich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de --- Germany --- 16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--- kept ---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longed --- family ---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ught --- grandfather ---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cently --- damaged --- vis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ried --- jazz ---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ruck --- keys --- two strings ---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ther --- s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--- not allowed --- 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ing repaired --- friend --- fath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628560"/>
            <a:ext cx="836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n old musical instrume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 a clavichord. It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was made 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1681. Our clavichord i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ke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 liv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ro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ha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belong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ed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to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family fo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ng time. The instrument was bought by my grandfather many years ago. Recently it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damag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by a visitor. She tried to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ay jaz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it! She struck the keys too hard and tw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f the strings were broken. My father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ocked. Now w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re not allowe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uc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being repaired by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 friend of my father’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77640" y="48096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Summ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600200"/>
            <a:ext cx="800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own an old clavichord. It was made in 1681. My grandfather bought the instrument many years ago. A visitor damaged it recently. She tri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y jazz on it. She broke two of the strings. A friend of my father’s is repairing it now.             (45 wor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30640" y="404640"/>
            <a:ext cx="307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name &amp;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009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表示给一个新产生的人或物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…取名”比较正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…叫做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前者正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50320" y="265752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父母给他取名为罗伯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男孩们管他叫鲍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114800"/>
            <a:ext cx="63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叫理查德，但我们都管他叫地迪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048120"/>
            <a:ext cx="698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is parents named him Robert, b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oys call him B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7320" y="4572000"/>
            <a:ext cx="80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e was named Richard but we call him D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029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6040" y="5048280"/>
            <a:ext cx="39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all I call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3040" y="5562720"/>
            <a:ext cx="60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do we call this i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5562720"/>
            <a:ext cx="1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79080" y="758880"/>
            <a:ext cx="72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keep = to have for more time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保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8840" y="15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替我保存一下这东西，等到我回来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63880"/>
            <a:ext cx="64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得留着这地址，以备将来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4560" y="41911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旧衣服不值得保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9160" y="220968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ease keep this for me until I com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600360"/>
            <a:ext cx="68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I’ll keep this address in case I nee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800600"/>
            <a:ext cx="72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se old clothes are not worth keep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41008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*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0" y="55054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keep healthy /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4872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be the property/member of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属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1640" y="982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本词典是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家具是我母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200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属于哪个党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54296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at dictionary belongs to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590920"/>
            <a:ext cx="66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furniture belongs to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733920"/>
            <a:ext cx="55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hat party do you belong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495680"/>
            <a:ext cx="89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648320"/>
            <a:ext cx="89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既不能用于进行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又不能用于被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55760" y="4572000"/>
            <a:ext cx="54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4674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08040" y="533520"/>
            <a:ext cx="302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&amp; 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85760"/>
            <a:ext cx="874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具体物品的价值或用处有所降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定是全部毁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尚可修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过程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50840" y="2354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133720"/>
            <a:ext cx="87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损毁或破坏到不可修补的程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程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8195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ar was only slightly _________ in the acci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ostcards always  _________ my holi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uilding  was severely ________ by the s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touch that drawing , you’ll _______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eat too much , you’ll ______ your appet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762280"/>
            <a:ext cx="19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6003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81120" y="40575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514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543800" y="5715000"/>
            <a:ext cx="838080" cy="662040"/>
          </a:xfrm>
          <a:custGeom>
            <a:avLst/>
            <a:gdLst>
              <a:gd name="textAreaLeft" fmla="*/ 42840 w 838080"/>
              <a:gd name="textAreaRight" fmla="*/ 795240 w 8380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7340" h="21600">
                <a:moveTo>
                  <a:pt x="0" y="0"/>
                </a:moveTo>
                <a:lnTo>
                  <a:pt x="27340" y="0"/>
                </a:lnTo>
                <a:lnTo>
                  <a:pt x="27340" y="21600"/>
                </a:lnTo>
                <a:lnTo>
                  <a:pt x="0" y="21600"/>
                </a:lnTo>
                <a:close/>
              </a:path>
              <a:path fill="lightenLess" w="27340" h="21600">
                <a:moveTo>
                  <a:pt x="0" y="0"/>
                </a:moveTo>
                <a:lnTo>
                  <a:pt x="27340" y="0"/>
                </a:lnTo>
                <a:lnTo>
                  <a:pt x="25940" y="1400"/>
                </a:lnTo>
                <a:lnTo>
                  <a:pt x="1400" y="1400"/>
                </a:lnTo>
                <a:close/>
              </a:path>
              <a:path fill="darken" w="27340" h="21600">
                <a:moveTo>
                  <a:pt x="27340" y="0"/>
                </a:moveTo>
                <a:lnTo>
                  <a:pt x="27340" y="21600"/>
                </a:lnTo>
                <a:lnTo>
                  <a:pt x="25940" y="20200"/>
                </a:lnTo>
                <a:lnTo>
                  <a:pt x="25940" y="1400"/>
                </a:lnTo>
                <a:close/>
              </a:path>
              <a:path fill="darkenLess" w="27340" h="21600">
                <a:moveTo>
                  <a:pt x="27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40" y="20200"/>
                </a:lnTo>
                <a:close/>
              </a:path>
              <a:path fill="lighten" w="27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40" h="21600">
                <a:moveTo>
                  <a:pt x="13670" y="3837"/>
                </a:moveTo>
                <a:lnTo>
                  <a:pt x="16247" y="6448"/>
                </a:ln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lnTo>
                  <a:pt x="20633" y="10800"/>
                </a:lnTo>
                <a:lnTo>
                  <a:pt x="18979" y="10800"/>
                </a:lnTo>
                <a:lnTo>
                  <a:pt x="18979" y="17989"/>
                </a:lnTo>
                <a:lnTo>
                  <a:pt x="8361" y="17989"/>
                </a:lnTo>
                <a:lnTo>
                  <a:pt x="8361" y="10800"/>
                </a:lnTo>
                <a:lnTo>
                  <a:pt x="6707" y="10800"/>
                </a:lnTo>
                <a:close/>
              </a:path>
              <a:path fill="darkenLess" w="27340" h="21600">
                <a:moveTo>
                  <a:pt x="16247" y="6448"/>
                </a:move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close/>
              </a:path>
              <a:path fill="darkenLess" w="27340" h="21600">
                <a:moveTo>
                  <a:pt x="12748" y="14299"/>
                </a:moveTo>
                <a:lnTo>
                  <a:pt x="14593" y="14299"/>
                </a:lnTo>
                <a:lnTo>
                  <a:pt x="14593" y="17989"/>
                </a:lnTo>
                <a:lnTo>
                  <a:pt x="18979" y="17989"/>
                </a:lnTo>
                <a:lnTo>
                  <a:pt x="18979" y="10800"/>
                </a:lnTo>
                <a:lnTo>
                  <a:pt x="8361" y="10800"/>
                </a:lnTo>
                <a:lnTo>
                  <a:pt x="8361" y="17989"/>
                </a:lnTo>
                <a:lnTo>
                  <a:pt x="12748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02:55:19Z</dcterms:created>
  <dc:creator/>
  <dc:description/>
  <dc:language>en-US</dc:language>
  <cp:lastModifiedBy>tyz</cp:lastModifiedBy>
  <dcterms:modified xsi:type="dcterms:W3CDTF">2003-04-30T07:49:00Z</dcterms:modified>
  <cp:revision>5</cp:revision>
  <dc:subject/>
  <dc:title>PowerPoint 演示文稿</dc:title>
</cp:coreProperties>
</file>