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577B-1BF4-4CD7-B9A4-251893B7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45EA-52B7-4979-8788-F610CAEA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1BEC-B447-4389-A3C2-6D93340B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9B68-98D0-4BEA-9A38-A64CDAD0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8B8C-A8F5-47DE-82BD-CF790B4A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706E-8E5A-4296-B2DA-E5B5880E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FC5C-6569-4DB9-8872-2E253D68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87EA-70BF-4691-AFC3-DE6F9CEB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30BA-D047-4A48-AA3E-B6508F72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3C84-E155-417C-90EE-3A3D19D4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FBA4-2758-4D30-8112-2D97D6FA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9A28-83B3-4E62-A9E0-4D67AF3E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4C4A-663B-4DF8-94DA-381E786A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CBBD-5F26-4FA4-B6F3-672E3B3C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033D-E9AC-433A-B603-D8BCF760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48EF-106E-41A8-9DA0-8DEA2FB4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312D-CC16-4AB5-92A0-F2EC7FE4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A29F-1B81-4365-BF66-67C7B6D5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43A6-EF85-4AFA-8838-483B3AE2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6341-9C79-46E5-A1C6-E1FA2D85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3A72-39A1-448E-BBBC-A39C9845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F225-594F-440F-A2D8-B15CDADD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7FC8-ACDE-4894-A7FA-503B886B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2055-DA7A-439A-91E3-F77560B6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913A-106E-4552-A4A9-2927BAC8259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358B-5902-49E0-A3DF-072FE554FCE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82160" y="1066680"/>
            <a:ext cx="549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Lesson Ninetee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2880" y="2743200"/>
            <a:ext cx="308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Sold Ou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62160" y="219240"/>
            <a:ext cx="8951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Ques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Were you at a theatre or a cinem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. Did you think the play was soon going to begi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.Who was with you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. She thought thr play might have begun already, didn’t sh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. What did you do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 How mane tickets did you ask for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. Did the girl at the ticket office have any left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 What did she sa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9. Was Susan disappoin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. Who hurried to the ticket office just then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1. What did he want to retur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2. Did the girl accept the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-14400" y="196920"/>
            <a:ext cx="9109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ell the s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play– begin—any moment’—sa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 ‘may have begun’—Sus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 Hurried—ticket office—’ticket?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. ‘sorry—sold out,’—gir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5. Just then–-hurried—ticket offi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6. ‘return—tickets’—asked. ‘certainly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7. Back—at once. ‘Could—those two?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8. “Certaily’—’next Wednesday’s—w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m?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9. ‘might as well’--sad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72600" y="73080"/>
            <a:ext cx="87274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Key to summary writ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he play was going to begin at an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moment.I Asked for two tickets. Ther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ere none left. Susan and I wer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disappointed. Just then, a man hurried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o the ticket office. He returned two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ickets. They were for nex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ednesday’s performance. I bough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he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77520" y="295200"/>
            <a:ext cx="5116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Word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ell out (=sell completely)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售空，卖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th be sold out,  sell out s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这本新书卖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二手唱片都已卖完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们卖完了所有的报纸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3640" y="1971720"/>
            <a:ext cx="39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his new book is sold 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320" y="2886120"/>
            <a:ext cx="56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he second- hand records are sold 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6640" y="3952800"/>
            <a:ext cx="465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We sold out all the news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5960" y="4334040"/>
            <a:ext cx="8439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y/might as well“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还是…的确好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不妨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还是跟我一起走的好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 No one will eat this food; 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还是把它扔掉的好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1760" y="5172120"/>
            <a:ext cx="46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ou may/might come with 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80560" y="5629320"/>
            <a:ext cx="463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t may/might be as well thr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01:08:28Z</dcterms:created>
  <dc:creator/>
  <dc:description/>
  <dc:language>en-US</dc:language>
  <cp:lastModifiedBy>st</cp:lastModifiedBy>
  <dcterms:modified xsi:type="dcterms:W3CDTF">2002-07-10T01:22:21Z</dcterms:modified>
  <cp:revision>2</cp:revision>
  <dc:subject/>
  <dc:title>PowerPoint 演示文稿</dc:title>
</cp:coreProperties>
</file>