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CA5-B671-4417-92BF-6579EEBB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BB5-3D17-4A5C-A876-C71CCFC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677-3014-4436-9240-3F05B04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390-2B2C-4CCD-A2F1-E62DA6D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5D2-3584-4FCE-A071-E4118B12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194-37FC-48CB-87F8-3A35412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5E7-BF67-4970-9B64-0D28F643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224-4DF6-4880-A6B0-94CEAEA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F27-B8F6-4EAF-9CFA-6592B12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61A-3A23-4BE9-A3BD-BEA1D192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4D1-9FEA-405C-8A19-7BF0AA9F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073-BBF3-4E67-AA0D-B6FDB567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280-0A15-4C0D-9336-53F566E0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Lesson 17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Always yo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0528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What’s your aun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What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How old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Does she often appear on the stage as a young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What will she have to do s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How old  will she pretend to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 What colour dres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What kind of stocking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Did she appear in a play last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She had to wear short socks, didn’t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 Do most women of thirty-five wear clothes like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Do peopole ever ask how old sh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9147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---ac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st---thiry-five---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spite of---appears---stage---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ennifer---take part---new play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 time---girl---seven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the play---appear---dress---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ast year---play---short socks---coloured 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---how old---always answers--- ‘Darling---terrible---grown up!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line the phrases in the stor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t least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至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spite of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尽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ppear on the stage as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登台扮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ave to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得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必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part in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girl of seventeen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岁的女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a bright red dress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穿着鲜红色的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e grown up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长大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85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 Jennifer is an actress. She must be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t lea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rty-five years old.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 spite o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, she often appears on the stage as a young girl. Jennifer will have to take part in a new play soon. This time, she will be a gilr of seventeen. In the play, she must appear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in a bright red d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nd long black stockings. Last year in another play, she had to wear short socks and a bright, orange-coloured dress. If anyone ever asks her how old she is, she always answers, ‘Darling, it must be terrible to be grown up!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+(the)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高级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表示“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Eg. At mo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多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lat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earli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儿最多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个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人已经走了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There is at most 50 peopl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200 hav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我最晚在星期五给你答复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I will give you an answer on Friday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543800" y="8380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2. In spite of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=although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从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nt out in spite of the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We went out although it was 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虽然生病了，可他还是来开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me to the meeting in spite of his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He came to the meeting  although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162920" y="548640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3. In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颜色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服装 “穿着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rid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穿白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rides are usually in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街上有很多便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laincloth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are a lot of policemen in plainclothes in the str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穿红衣服的女孩是我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girl in red is my si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543800" y="4952880"/>
            <a:ext cx="738360" cy="81468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680"/>
              <a:gd name="textAreaBottom" fmla="*/ 767160 h 8146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5756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ummary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aunt Jennifer is an actress. She is over thirty years old. She often appears on the stage as a young girl. Jennifer will act the part of a girl of seventeen in a new play soon. She never tells anyone how old she really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8:37:46Z</dcterms:created>
  <dc:creator/>
  <dc:description/>
  <dc:language>en-US</dc:language>
  <cp:lastModifiedBy>class</cp:lastModifiedBy>
  <dcterms:modified xsi:type="dcterms:W3CDTF">2002-10-08T03:04:16Z</dcterms:modified>
  <cp:revision>7</cp:revision>
  <dc:subject/>
  <dc:title>Lesson 17  Always young</dc:title>
</cp:coreProperties>
</file>