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E66-6FFF-4E69-BAD8-14EC3F0A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A60-F13A-45E4-B7D2-E0BA8765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359-3B51-490F-B7C9-7BA437B5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D50-5CFF-41BC-9F3E-2B4AE253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063-D4BA-4863-ABD0-5B94D70C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09E4-7C84-4C65-B556-247E890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083B-DBF7-43DB-8684-A8F3D20F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18B0-23A6-44A4-B3C7-5DEC5F0E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9C0B-07C7-4EA1-8DFB-3786ED1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4AEA-4758-42C7-AEF0-3A45B920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FB0A-CFBE-4AE4-86E8-2341B4B4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24B-2AEF-43B0-8B2B-F1D2C4AE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A58E-8253-4D36-9E7B-462EF39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B172-6FF4-4123-BC24-76B5596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D654-DDE2-4245-B2BB-0C9C0D98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1910-39EF-41F0-8923-1E6B4551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FD7B-E39C-48A1-A2DB-414E9BDD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E9F-1EAB-44D5-B812-02348FD5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82A-A79E-4F0B-A8B5-A2844F5B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55D-0D05-41FA-A11E-F37C96AD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E2B-DE10-4737-9A51-7C70B178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8EE-6735-459C-ABA3-7208CA6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024-0430-4675-A4FE-A11B5B62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35E-7B7D-4663-9114-D8F9ACB7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5422-624E-43A5-8341-21567EE7372F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B77E-3478-4688-9CDB-0962997D3C5B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39720" y="1447920"/>
            <a:ext cx="481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Lesson twent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840" y="2895480"/>
            <a:ext cx="61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One man in a boa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46960" y="905040"/>
            <a:ext cx="9044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What’s your favourite spor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2. Does it worry you if you don’t catch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3. Do you often fish without catching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4. Are all fishermen unluck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5. But some are, aren’t the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6. What do they catch instead of fis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7. Why do you think you are even less lucky than the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fisherme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8. Where have you spent whole morning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9. What do you always go home wit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0. What do you friends say you must do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1. What do they say about fis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2.What are you really interested 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25200" y="781200"/>
            <a:ext cx="805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Fishing—favourite s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2.often—hours—any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. some—luck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4. Instead—fish—boots—rubb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5. I—l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6. never—even—boo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7. whole mornings—river—home—emp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8. ‘give up’—frieds—’waste—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9. don’t realize—important 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0.not—interested—f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1. only—sitting--no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4120" y="835200"/>
            <a:ext cx="919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Key to summary writing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Fishing is the writer’s favourite spor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.Some unlucky fishermen catch old boot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and rubbish.Thewriter is not so luck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He never catches anything.He is no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sted in fishing. Sitting in a boat an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Doing nothing at all is the only thing that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ests him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2:03:38Z</dcterms:created>
  <dc:creator/>
  <dc:description/>
  <dc:language>en-US</dc:language>
  <cp:lastModifiedBy>钱良</cp:lastModifiedBy>
  <dcterms:modified xsi:type="dcterms:W3CDTF">2002-07-08T02:30:33Z</dcterms:modified>
  <cp:revision>1</cp:revision>
  <dc:subject/>
  <dc:title>PowerPoint 演示文稿</dc:title>
</cp:coreProperties>
</file>