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284-0B76-4CE3-86FB-FED56A81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333-9C9A-4167-B3FF-E08EB8F3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F45-918E-4CEB-8BFE-FEE4ECC0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D22-555F-46CE-ADEC-76BC6399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B0DC3-36E0-4623-AB62-375FD756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208EC-5909-4D67-96EE-E0E5C5B1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4F345-B0B3-45C9-A0C6-A31456A5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4FB20-FCB0-4827-AAE1-01440B35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C8B99-15C9-4EAC-B1AA-56ED1C98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B5AED-C5F3-403E-BAF9-AB416580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5AC01-59C5-4B25-B1CA-2B7C5791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2CE-F5AB-4985-86D4-D935151C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2E052-9FAC-4180-ACEF-19CA387B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2C2B2-1825-41B9-A368-CEED3A04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F2CD9-EB93-44C0-921C-6B4EA22A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F6CE2-F7A7-40F9-8083-0995CA11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85A16-4F6F-4F27-883F-BBB4CF9F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7855-5955-4C8D-B16F-5159F3BF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77F-4E94-4310-9999-45C5F30B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956-1044-42E8-9BEC-8FC8A23E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7FB-7893-46B2-816F-09DCF7E4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0CF-1520-4758-844B-C44A6F3A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C76-098A-4DC1-B11D-C27F9CC8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81C-3F19-4E88-961E-FDBFE46F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CE8A-5697-406F-95F5-1E599082997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C5EA-94AE-4876-9868-AE42CEF44C4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omplete the sent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I __________________________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已收到两封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 from my fri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There are_______________________ 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大量的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in the libr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发现这部电影很令人兴奋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fi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____________________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. I ____________________________       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以前从没出过国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But I want 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5. He ________________________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已为那家公司工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for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1773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received two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great number of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371628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film very exci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422100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never been  abroad befor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4941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 worked for that firm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1295280"/>
            <a:ext cx="708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Lesson 5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No wrong numb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4560" y="333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5720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ir work: Discuss  the following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066680"/>
            <a:ext cx="8820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here has Mr. James Scott just bought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garage?  How far is it from Silbue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 Can he get a telephone for his new gar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What did he buy and how many has he bou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What happened yester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 How long did the bird cover the dista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. What has he sent requests fo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. What kinds of messages do they car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1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60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Retell the story using  the key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914400"/>
            <a:ext cx="8280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Mr. James Scott→  garage→  Silbury and now→  just bought→  Pinhur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. Pinhurst →five miles→ Silbury→ can’t →telephone→ garage →bought →pige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 Yesterday→ pigeon→ message→ Pinhu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4. covered →distance→ minu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5. up to now →sent requests→ spare parts →messages→ garage→ the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6. this way→ begun→ private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2240" y="958680"/>
            <a:ext cx="786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381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r.James Scott has a garage in Silbury and now he 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has just bought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another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 garag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in Pinhurst. Pinhurst is only five mile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from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ibury, but Mr. Scott cannot get a telephone for his new garage, so he has just bought twelve pigeons. Yesterday, a pigeon carried the first message 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from Pinhurst to Silbury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 The bird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covered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 the distance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in three minutes. Up to now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Mr. Scott ha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sent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a great many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requests f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spare part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ot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urgent message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from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one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garage to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the ot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In this way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he has begun his own private “telephone”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er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1.another+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单数名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或直接作代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2.other+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复数或单数名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代词为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3.one…the other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特指两个事物的一个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另一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is apple is green. Can you show me another one/ an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Where are the other peop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ay no attention to what others 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e little girl slowly closed ____ eye and then 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Message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消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音信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口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have a message for you from Mr. John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an you leave a message for Mr. Smith asking him to phone me bac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能给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Mr. Smith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捎个口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叫他给我回电话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Service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服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The service here is very slow; sometimes you have to wait ten minutes for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fter-servic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售后服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 self-service restauran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助餐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Room servic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饭店把饭菜等送到房间的服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Up to / till /until now=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表示“到目前为止”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与现在完成时连用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目前为止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只读过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外国小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p to now, I have only read five foreign no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目前为止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她已得了三个奖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P till now, she has won three priz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Arial"/>
              </a:rPr>
              <a:t>Summary wri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r. Scott has opened his second garage in Pinhurst. His first garage is in Sibury. Silbury is five miles away. Mr. Scott cannot get a telephone for his new garage. He has bought twelve pigeons. They carry messages from one garage to the other in three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7:04:15Z</dcterms:created>
  <dc:creator/>
  <dc:description/>
  <dc:language>en-US</dc:language>
  <cp:lastModifiedBy>tyz</cp:lastModifiedBy>
  <dcterms:modified xsi:type="dcterms:W3CDTF">2003-03-23T00:38:43Z</dcterms:modified>
  <cp:revision>11</cp:revision>
  <dc:subject/>
  <dc:title>幻灯片 1</dc:title>
</cp:coreProperties>
</file>