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7A604-167B-4029-9AFB-92FEFB814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1BE32-D71B-404F-A7AC-83C8D573A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21E7E-317C-440B-8E9E-6561D482C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6D2E0-1753-4916-8094-5B5069827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D3F1F-2E1F-49A9-A5F5-B20139213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8AAA4-CE83-4FFB-BA9F-4379784A4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53936-1BAF-4BD6-8A77-E8833373E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BC79F-6540-43D2-9B37-11BDD3D01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96E9F-4C30-493A-9A6B-0FB70789F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69A7F-4B27-476C-B895-C840F7ADE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99D29-C460-4660-84A4-292B9E945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181AD-A5A3-4E66-8D19-1C09B8B63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00E73-D1A1-498C-86D9-38425E9C1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538D1-AEFA-44FB-8CF3-576FD000A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6F7EB-D653-49B1-B682-4B9F84C0A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D0B62-C43B-41FE-91EB-23DE15F46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02D72-BF98-4A8A-831A-DC8C69A89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232EE-4F85-4B7E-AF8E-6AB9BB29E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E7BAC-74F3-4F32-BAAB-CC51F51B9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03E52-01EA-4DB4-A393-58CA0F07E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92FE1-44B2-416F-9E5E-40C6E4367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56C87-5643-44A3-AA40-DD8B2C3FD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5BD72-B592-4FFE-96A3-3D2027611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5BA02-D781-4ED3-BDED-B3DD0A1E1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C2001-70BD-42D0-B341-E2B97F49676C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87D6D-0749-40EA-9DBD-60E3C0E83135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ffcc66"/>
                </a:solidFill>
                <a:latin typeface="Times New Roman"/>
              </a:rPr>
              <a:t>Lesson 16</a:t>
            </a:r>
            <a:endParaRPr b="0" lang="en-US" sz="7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42720" y="2819520"/>
            <a:ext cx="84582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0" spc="-1" strike="noStrike">
                <a:solidFill>
                  <a:srgbClr val="ffffff"/>
                </a:solidFill>
                <a:latin typeface="Times New Roman"/>
              </a:rPr>
              <a:t>A polite request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Compare: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 failed to pass the exam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 did not fail to pass the exa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273400" y="261144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他没有通过考试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289240" y="396252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他通过了考试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467480" y="5257800"/>
            <a:ext cx="662040" cy="762120"/>
          </a:xfrm>
          <a:custGeom>
            <a:avLst/>
            <a:gdLst>
              <a:gd name="textAreaLeft" fmla="*/ 42840 w 662040"/>
              <a:gd name="textAreaRight" fmla="*/ 619200 w 662040"/>
              <a:gd name="textAreaTop" fmla="*/ 42840 h 762120"/>
              <a:gd name="textAreaBottom" fmla="*/ 719280 h 762120"/>
            </a:gdLst>
            <a:ahLst/>
            <a:rect l="textAreaLeft" t="textAreaTop" r="textAreaRight" b="textAreaBottom"/>
            <a:pathLst>
              <a:path w="21600" h="24863">
                <a:moveTo>
                  <a:pt x="0" y="0"/>
                </a:moveTo>
                <a:lnTo>
                  <a:pt x="21600" y="0"/>
                </a:lnTo>
                <a:lnTo>
                  <a:pt x="21600" y="24863"/>
                </a:lnTo>
                <a:lnTo>
                  <a:pt x="0" y="24863"/>
                </a:lnTo>
                <a:close/>
              </a:path>
              <a:path fill="lightenLess" w="21600" h="2486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863">
                <a:moveTo>
                  <a:pt x="21600" y="0"/>
                </a:moveTo>
                <a:lnTo>
                  <a:pt x="21600" y="24863"/>
                </a:lnTo>
                <a:lnTo>
                  <a:pt x="20200" y="23463"/>
                </a:lnTo>
                <a:lnTo>
                  <a:pt x="20200" y="1400"/>
                </a:lnTo>
                <a:close/>
              </a:path>
              <a:path fill="darkenLess" w="21600" h="24863">
                <a:moveTo>
                  <a:pt x="21600" y="24863"/>
                </a:moveTo>
                <a:lnTo>
                  <a:pt x="0" y="24863"/>
                </a:lnTo>
                <a:lnTo>
                  <a:pt x="1400" y="23463"/>
                </a:lnTo>
                <a:lnTo>
                  <a:pt x="20200" y="23463"/>
                </a:lnTo>
                <a:close/>
              </a:path>
              <a:path fill="lighten" w="21600" h="24863">
                <a:moveTo>
                  <a:pt x="0" y="2486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463"/>
                </a:lnTo>
                <a:close/>
              </a:path>
              <a:path fill="darken" w="21600" h="24863">
                <a:moveTo>
                  <a:pt x="3794" y="12432"/>
                </a:moveTo>
                <a:lnTo>
                  <a:pt x="17806" y="5425"/>
                </a:lnTo>
                <a:lnTo>
                  <a:pt x="17806" y="19438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66"/>
                </a:solidFill>
                <a:latin typeface="Arial"/>
              </a:rPr>
              <a:t>Remind:</a:t>
            </a:r>
            <a:r>
              <a:rPr b="0" lang="zh-CN" sz="3200" spc="-1" strike="noStrike">
                <a:solidFill>
                  <a:srgbClr val="ffcc66"/>
                </a:solidFill>
                <a:latin typeface="Arial"/>
              </a:rPr>
              <a:t>表示使…想起，或“记起，提醒”</a:t>
            </a:r>
            <a:br>
              <a:rPr sz="3200"/>
            </a:br>
            <a:r>
              <a:rPr b="0" lang="zh-CN" sz="3200" spc="-1" strike="noStrike">
                <a:solidFill>
                  <a:srgbClr val="ffcc66"/>
                </a:solidFill>
                <a:latin typeface="Arial"/>
              </a:rPr>
              <a:t>remind sb. to do.   </a:t>
            </a:r>
            <a:br>
              <a:rPr sz="3200"/>
            </a:br>
            <a:r>
              <a:rPr b="0" lang="zh-CN" sz="3200" spc="-1" strike="noStrike">
                <a:solidFill>
                  <a:srgbClr val="ffcc66"/>
                </a:solidFill>
                <a:latin typeface="Arial"/>
              </a:rPr>
              <a:t>Remind sb. of sth. 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我提醒他寄信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这张照片使我想起了他的父亲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196280" y="2533680"/>
            <a:ext cx="561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 reminded him to post the letter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042560" y="3600360"/>
            <a:ext cx="620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s photo reminds me of his father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65360" y="4267080"/>
            <a:ext cx="186012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我没有忘记寄你的信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　　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.  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替我向你的母亲问好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758960" y="4876920"/>
            <a:ext cx="562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 remembered to post your letter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669320" y="5943600"/>
            <a:ext cx="527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member me to your mother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-360" y="4038480"/>
            <a:ext cx="178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Compar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67480" y="5815080"/>
            <a:ext cx="586080" cy="738000"/>
          </a:xfrm>
          <a:custGeom>
            <a:avLst/>
            <a:gdLst>
              <a:gd name="textAreaLeft" fmla="*/ 37800 w 586080"/>
              <a:gd name="textAreaRight" fmla="*/ 548280 w 586080"/>
              <a:gd name="textAreaTop" fmla="*/ 37800 h 738000"/>
              <a:gd name="textAreaBottom" fmla="*/ 700200 h 738000"/>
            </a:gdLst>
            <a:ahLst/>
            <a:rect l="textAreaLeft" t="textAreaTop" r="textAreaRight" b="textAreaBottom"/>
            <a:pathLst>
              <a:path w="21600" h="27196">
                <a:moveTo>
                  <a:pt x="0" y="0"/>
                </a:moveTo>
                <a:lnTo>
                  <a:pt x="21600" y="0"/>
                </a:lnTo>
                <a:lnTo>
                  <a:pt x="21600" y="27196"/>
                </a:lnTo>
                <a:lnTo>
                  <a:pt x="0" y="27196"/>
                </a:lnTo>
                <a:close/>
              </a:path>
              <a:path fill="lightenLess" w="21600" h="2719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196">
                <a:moveTo>
                  <a:pt x="21600" y="0"/>
                </a:moveTo>
                <a:lnTo>
                  <a:pt x="21600" y="27196"/>
                </a:lnTo>
                <a:lnTo>
                  <a:pt x="20200" y="25796"/>
                </a:lnTo>
                <a:lnTo>
                  <a:pt x="20200" y="1400"/>
                </a:lnTo>
                <a:close/>
              </a:path>
              <a:path fill="darkenLess" w="21600" h="27196">
                <a:moveTo>
                  <a:pt x="21600" y="27196"/>
                </a:moveTo>
                <a:lnTo>
                  <a:pt x="0" y="27196"/>
                </a:lnTo>
                <a:lnTo>
                  <a:pt x="1400" y="25796"/>
                </a:lnTo>
                <a:lnTo>
                  <a:pt x="20200" y="25796"/>
                </a:lnTo>
                <a:close/>
              </a:path>
              <a:path fill="lighten" w="21600" h="27196">
                <a:moveTo>
                  <a:pt x="0" y="2719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796"/>
                </a:lnTo>
                <a:close/>
              </a:path>
              <a:path fill="darken" w="21600" h="27196">
                <a:moveTo>
                  <a:pt x="3794" y="13598"/>
                </a:moveTo>
                <a:lnTo>
                  <a:pt x="17806" y="6591"/>
                </a:lnTo>
                <a:lnTo>
                  <a:pt x="17806" y="20604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0" y="349200"/>
            <a:ext cx="9637560" cy="55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条件句 （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Conditional Sentences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）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类型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1---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真实条件句（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Sentences of Real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Condition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条件句是表示在某种条件或要求下，预期会产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某种结果的表达方法。在“真实条件句 ”中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,IF-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从句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中假设的情况是有可能实现或发生的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1.IF-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从句中的动词用一般现在时态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主句中的动词用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一般将来时态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主句和从句的位置可以互换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If he is out , I’ll call tomorrow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If he has time,he will com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You’ll miss the train if you don’t hurr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He’ll get there in time if he ru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272880"/>
            <a:ext cx="9144000" cy="618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如果要用从句表达将来的意思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也只能用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一般现在时态的形式来表达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而绝不能用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将来时的形式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If it rains tomorrow,I will stay at home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We’ll go out for a picnic if it is fine next Sunday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If he has enough money next year,he’ll gotoEurop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主句的变化形式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a).IF-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从句中的动词是现在时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主句中的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shall/will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可以用其它情态动词代替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If it rains,we can/must/may stay at hom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If it stops raining we can/may go ou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If you want to lose weight,you must eat less brea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0" y="501480"/>
            <a:ext cx="96552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b).IF-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从句中的动词用现在时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主句还可以是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命令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恳求或劝告”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If you want to lose weight ,you had bett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eat less bread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If you want to lose weight,eat less bread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If you see Tom tomorrow,could you ask him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to ring me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4. IF-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从句的变化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a)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从句中可以用现在进行时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表示现在的行为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或将来的安排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If you are leaving tomorrow,I’ll send you a ca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444240" y="577800"/>
            <a:ext cx="85093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If you are looking for Peter,you’ll find him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in the library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b).IF-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从句中还可用情态动词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He will come tomorrow if he can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If they can help you,they will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Ask and answer the questions in pairs</a:t>
            </a: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What happens if you park your car in the wrong place?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He usually gives you a parking ticket, doesn’t he?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Are you lucky if he lets you go without one?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o the traffic police always give parking ticket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Traffic police are sometimes very polite, aren’t they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Where were you spending a holiday?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What did you find on your car?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id it welcome you to the city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Were you in a “No Parking” area?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What did the note ask you to pay attention to?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Retell the story: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8458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1. Park--- wrong --- policeman ---fi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2. Lucky --- lets you go--- ticke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3. However --- doesn’t alway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4. Holiday --- Sweden --- note --- my ca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5. “Sir --- welcome --- city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6. “No Parking”are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7. Enjoy --- pay attention --- sig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8. Note--- a remind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9. A request like this --- cannot fail --- obey i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A polite reques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560" y="1066680"/>
            <a:ext cx="88390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f you</a:t>
            </a:r>
            <a:r>
              <a:rPr b="0" lang="zh-CN" sz="3200" spc="-1" strike="noStrike">
                <a:solidFill>
                  <a:srgbClr val="ff33cc"/>
                </a:solidFill>
                <a:latin typeface="Times New Roman"/>
              </a:rPr>
              <a:t> park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your car in the wrong place, </a:t>
            </a:r>
            <a:r>
              <a:rPr b="0" lang="zh-CN" sz="3200" spc="-1" strike="noStrike">
                <a:solidFill>
                  <a:srgbClr val="ff33cc"/>
                </a:solidFill>
                <a:latin typeface="Times New Roman"/>
              </a:rPr>
              <a:t>a traffic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ff33cc"/>
                </a:solidFill>
                <a:latin typeface="Times New Roman"/>
              </a:rPr>
              <a:t>policeman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will soon find it. You will be very lucky if he </a:t>
            </a:r>
            <a:r>
              <a:rPr b="0" lang="zh-CN" sz="3200" spc="-1" strike="noStrike" u="sng">
                <a:solidFill>
                  <a:srgbClr val="ff0033"/>
                </a:solidFill>
                <a:uFillTx/>
                <a:latin typeface="Times New Roman"/>
              </a:rPr>
              <a:t>lets you go </a:t>
            </a:r>
            <a:r>
              <a:rPr b="0" lang="zh-CN" sz="3200" spc="-1" strike="noStrike">
                <a:solidFill>
                  <a:srgbClr val="ffcc66"/>
                </a:solidFill>
                <a:latin typeface="Times New Roman"/>
              </a:rPr>
              <a:t>without a ticket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0" lang="zh-CN" sz="3200" spc="-1" strike="noStrike" u="sng">
                <a:solidFill>
                  <a:srgbClr val="ff0033"/>
                </a:solidFill>
                <a:uFillTx/>
                <a:latin typeface="Times New Roman"/>
              </a:rPr>
              <a:t>However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, this does not always happen. Traffic police are sometimes very polite. </a:t>
            </a:r>
            <a:r>
              <a:rPr b="0" lang="zh-CN" sz="3200" spc="-1" strike="noStrike">
                <a:solidFill>
                  <a:srgbClr val="ff33cc"/>
                </a:solidFill>
                <a:latin typeface="Times New Roman"/>
              </a:rPr>
              <a:t>During a holiday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in Sweden, I found this note on my car: ‘sir, we </a:t>
            </a:r>
            <a:r>
              <a:rPr b="0" lang="zh-CN" sz="3200" spc="-1" strike="noStrike">
                <a:solidFill>
                  <a:srgbClr val="ffcc66"/>
                </a:solidFill>
                <a:latin typeface="Times New Roman"/>
              </a:rPr>
              <a:t>welcome you to out city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. This is a “</a:t>
            </a:r>
            <a:r>
              <a:rPr b="0" lang="zh-CN" sz="3200" spc="-1" strike="noStrike">
                <a:solidFill>
                  <a:srgbClr val="ffcc66"/>
                </a:solidFill>
                <a:latin typeface="Times New Roman"/>
              </a:rPr>
              <a:t>No Parking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” area. You will enjoy your stay here if you </a:t>
            </a:r>
            <a:r>
              <a:rPr b="0" lang="zh-CN" sz="3200" spc="-1" strike="noStrike">
                <a:solidFill>
                  <a:srgbClr val="ffcc66"/>
                </a:solidFill>
                <a:latin typeface="Times New Roman"/>
              </a:rPr>
              <a:t>pay attention to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our street signs. This note is only a </a:t>
            </a:r>
            <a:r>
              <a:rPr b="0" lang="zh-CN" sz="3200" spc="-1" strike="noStrike" u="sng">
                <a:solidFill>
                  <a:srgbClr val="ff0033"/>
                </a:solidFill>
                <a:uFillTx/>
                <a:latin typeface="Times New Roman"/>
              </a:rPr>
              <a:t>remind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er.’ If you </a:t>
            </a:r>
            <a:r>
              <a:rPr b="0" lang="zh-CN" sz="3200" spc="-1" strike="noStrike">
                <a:solidFill>
                  <a:srgbClr val="ff33cc"/>
                </a:solidFill>
                <a:latin typeface="Times New Roman"/>
              </a:rPr>
              <a:t>receive a request like this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, you cannot </a:t>
            </a:r>
            <a:r>
              <a:rPr b="0" lang="zh-CN" sz="3200" spc="-1" strike="noStrike" u="sng">
                <a:solidFill>
                  <a:srgbClr val="ff0033"/>
                </a:solidFill>
                <a:uFillTx/>
                <a:latin typeface="Times New Roman"/>
              </a:rPr>
              <a:t>fail to</a:t>
            </a:r>
            <a:r>
              <a:rPr b="0" lang="zh-CN" sz="3200" spc="-1" strike="noStrike" u="sng">
                <a:solidFill>
                  <a:srgbClr val="ff0033"/>
                </a:solidFill>
                <a:uFillTx/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obey it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ummary writing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raffic police usually give you a ticket if you  park you car in the wrong place. The writer found a police note on his car during a holiday in Sweden. The traffic police wanted him to pay attention to their street signs. No one can fail to obey a polite request.                                       (50 word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allow &amp; let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allow sb. to do sth. (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较为正式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　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sb. is allowed to do sth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let sb. do sth.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（通常不用于被动语态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1.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我们不允许大家在教室里吸烟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630440" y="3733920"/>
            <a:ext cx="246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9144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2.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我会让你用我的字典的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84440" y="3138480"/>
            <a:ext cx="837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don’t allow people to smoke in the classroo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1600" y="4419720"/>
            <a:ext cx="546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 will let you use my dictionary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667160" y="838080"/>
            <a:ext cx="6586200" cy="43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ompare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2001"/>
              </a:spcBef>
              <a:buClr>
                <a:srgbClr val="3366ff"/>
              </a:buClr>
              <a:buSzPct val="8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Please allow me to buy you a drink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请让我给你买一杯酒。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听起来显得客气，庄重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2001"/>
              </a:spcBef>
              <a:buClr>
                <a:srgbClr val="3366ff"/>
              </a:buClr>
              <a:buSzPct val="8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Let me buy you a drink.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　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让我来给你买一杯酒。（听起来更亲切，随便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001000" y="5715000"/>
            <a:ext cx="609480" cy="6094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However &amp; but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However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是副词，既可放在句子的开头，又可放在句中。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ut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是连词，用来连接一个句子，它只能位于句首，而且强调对比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895680" y="3038400"/>
            <a:ext cx="7278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ffffff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 had an invitation;________, he did not go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 had an invitation, _______ he did not go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572000" y="297180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owev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877640" y="3429000"/>
            <a:ext cx="63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u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035160" y="413532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票很贵，但我们还是决定去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969840" y="4791240"/>
            <a:ext cx="70250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ffffff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The tickets are expensive; however, we stil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decided to go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b)  The tickets are expensive; but we still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decided to go.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696080" y="5715000"/>
            <a:ext cx="838440" cy="685800"/>
          </a:xfrm>
          <a:custGeom>
            <a:avLst/>
            <a:gdLst>
              <a:gd name="textAreaLeft" fmla="*/ 44280 w 838440"/>
              <a:gd name="textAreaRight" fmla="*/ 794160 w 83844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6405" h="21600">
                <a:moveTo>
                  <a:pt x="0" y="0"/>
                </a:moveTo>
                <a:lnTo>
                  <a:pt x="26405" y="0"/>
                </a:lnTo>
                <a:lnTo>
                  <a:pt x="26405" y="21600"/>
                </a:lnTo>
                <a:lnTo>
                  <a:pt x="0" y="21600"/>
                </a:lnTo>
                <a:close/>
              </a:path>
              <a:path fill="lightenLess" w="26405" h="21600">
                <a:moveTo>
                  <a:pt x="0" y="0"/>
                </a:moveTo>
                <a:lnTo>
                  <a:pt x="26405" y="0"/>
                </a:lnTo>
                <a:lnTo>
                  <a:pt x="25005" y="1400"/>
                </a:lnTo>
                <a:lnTo>
                  <a:pt x="1400" y="1400"/>
                </a:lnTo>
                <a:close/>
              </a:path>
              <a:path fill="darken" w="26405" h="21600">
                <a:moveTo>
                  <a:pt x="26405" y="0"/>
                </a:moveTo>
                <a:lnTo>
                  <a:pt x="26405" y="21600"/>
                </a:lnTo>
                <a:lnTo>
                  <a:pt x="25005" y="20200"/>
                </a:lnTo>
                <a:lnTo>
                  <a:pt x="25005" y="1400"/>
                </a:lnTo>
                <a:close/>
              </a:path>
              <a:path fill="darkenLess" w="26405" h="21600">
                <a:moveTo>
                  <a:pt x="264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005" y="20200"/>
                </a:lnTo>
                <a:close/>
              </a:path>
              <a:path fill="lighten" w="264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405" h="21600">
                <a:moveTo>
                  <a:pt x="6196" y="10800"/>
                </a:moveTo>
                <a:lnTo>
                  <a:pt x="20209" y="3794"/>
                </a:lnTo>
                <a:lnTo>
                  <a:pt x="20209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66"/>
                </a:solidFill>
                <a:latin typeface="Arial"/>
              </a:rPr>
              <a:t>Fail to do sth.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Fail to do (= do not do, cannot do)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表示“不，不能，没有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1)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他始终每星期给母亲写信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2)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他没有还清债。　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981720" y="3657600"/>
            <a:ext cx="7860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 never fails to write (= always writes) to hi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ther every week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122480" y="5505480"/>
            <a:ext cx="451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 failed to pay his debts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22T11:29:29Z</dcterms:created>
  <dc:creator/>
  <dc:description/>
  <dc:language>en-US</dc:language>
  <cp:lastModifiedBy>史流</cp:lastModifiedBy>
  <dcterms:modified xsi:type="dcterms:W3CDTF">2002-08-09T00:43:58Z</dcterms:modified>
  <cp:revision>3</cp:revision>
  <dc:subject/>
  <dc:title>Lesson 16</dc:title>
</cp:coreProperties>
</file>