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CC6-186E-4FEC-9BA5-60D46381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3C7-24AB-44BC-AB7C-45B3655E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6B6-EA42-4370-BC3F-BDC27A6B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15B-5C3B-4EF8-A922-EFB129BE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EFAB0-4661-4326-816B-0530422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7660C-9595-40AD-B1CA-DFB2DB72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568E-D15E-4546-8261-DF231BD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FA45-ACC0-4187-885B-A01C02DB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2A490-BD0B-450A-BBFA-0903083D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3A2B8-41EA-4ECB-AB3A-35FB9CB2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884E-D06B-4703-94DB-3395904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DBD-CA0C-4F96-9475-D52526A1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658AC-12FF-41D6-A871-877F995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FFBDB-BC75-4F32-8840-E5DE0AA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7121-D8C5-4030-8C80-4BABD750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BFEA0-F2E4-4A4E-9A92-6E432A75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043B8-1FB4-4532-993D-9F31EE97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98F-6A23-4139-9A97-BEA66C9F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B36-B9DD-4620-BD21-9B44E612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6AC-E6D6-4ABE-BD65-056F93B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5AF-248F-4E92-92EF-6A097CA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324-0AB1-4222-93B5-BA97AB7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5BA-E3B2-427A-AA52-55FE110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EFA-CB21-4326-84A0-3143EAE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B10-AFAF-4D94-8022-804FFDBCC45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527-751D-4AD5-8FAE-A4AA782A0CB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11430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Lesson  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Breakfast or lunc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41120"/>
            <a:ext cx="755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ay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always get up late on Sun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ever get up before lunch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 did you  get up last Sun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was it like outs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think it was a nice 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happened just t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 was on the ph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had she arri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you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she surprised to hear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have to repea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ell the sto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838080"/>
            <a:ext cx="725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ver---early---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st Sunday---very 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oked---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ark outside---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just then---telephone---Aunt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rrived---train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ing---see---you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ut---still---breakfast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ery surpr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ar---’she said,’---one o’clock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hy was the writer’s aunt surpri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was Sunday. I never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get u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early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on Sunday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I sometimes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stay in b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until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unchtime. Last Sunday I got up very late. I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ut o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he window. It was dark outside.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What a da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!’ I thought. ‘It’s raining again.’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Just the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the telephone rang. It was my aunt Lucy. “I’ve just arrived by train,’ she said. ‘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’m com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o see you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ut I’m still having breakfast,’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at are you doing?’ she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’m having breakfast,’ I repe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Dear m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’ she said. ‘Do you always get up so late? It’s one o’clock!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720" y="69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80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天气、时间、距离、身份等，本身无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76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t’s September. It’s eight o’clock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It’s very cold today. (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65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t is only two miles from my home to New Y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t  was my aunt Lu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096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unti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= till, up to the time tha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89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用作介词或连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939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waited until 10 o’clock, but he still didn’t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Wait until I call. (conjun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640" y="3610080"/>
            <a:ext cx="69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He read/worked until midnight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41972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 was here until one o’clock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7440"/>
                </a:moveTo>
                <a:lnTo>
                  <a:pt x="13376" y="10051"/>
                </a:ln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lnTo>
                  <a:pt x="17763" y="14403"/>
                </a:lnTo>
                <a:lnTo>
                  <a:pt x="16109" y="14403"/>
                </a:lnTo>
                <a:lnTo>
                  <a:pt x="16109" y="21592"/>
                </a:lnTo>
                <a:lnTo>
                  <a:pt x="5491" y="21592"/>
                </a:lnTo>
                <a:lnTo>
                  <a:pt x="5491" y="14403"/>
                </a:lnTo>
                <a:lnTo>
                  <a:pt x="3837" y="14403"/>
                </a:lnTo>
                <a:close/>
              </a:path>
              <a:path fill="darkenLess" w="21600" h="28806">
                <a:moveTo>
                  <a:pt x="13376" y="10051"/>
                </a:move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close/>
              </a:path>
              <a:path fill="darkenLess" w="21600" h="28806">
                <a:moveTo>
                  <a:pt x="9877" y="17902"/>
                </a:moveTo>
                <a:lnTo>
                  <a:pt x="11723" y="17902"/>
                </a:lnTo>
                <a:lnTo>
                  <a:pt x="11723" y="21592"/>
                </a:lnTo>
                <a:lnTo>
                  <a:pt x="16109" y="21592"/>
                </a:lnTo>
                <a:lnTo>
                  <a:pt x="16109" y="14403"/>
                </a:lnTo>
                <a:lnTo>
                  <a:pt x="5491" y="14403"/>
                </a:lnTo>
                <a:lnTo>
                  <a:pt x="5491" y="21592"/>
                </a:lnTo>
                <a:lnTo>
                  <a:pt x="9877" y="2159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43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介词与时间短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说来，时间短语前要加介词， 但下列几种情况均属不加之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、在组成的时间短语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、在前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当跟时间名词构成时间短语时，它们前面也不加介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We are meeting next Tues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He stayed with us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What are you going to do this ev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666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 I didn’t feel very well tha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I’ll have to get up early tomorrow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388944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he arrived in London the day befor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" y="472752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You can come an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440" y="51084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ome day we’ll meet aga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440" y="548964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Let’s have a dancing party one evening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5791320"/>
            <a:ext cx="380880" cy="509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09400"/>
              <a:gd name="textAreaBottom" fmla="*/ 484920 h 509400"/>
            </a:gdLst>
            <a:ahLst/>
            <a:rect l="textAreaLeft" t="textAreaTop" r="textAreaRight" b="textAreaBottom"/>
            <a:pathLst>
              <a:path w="21600" h="28882">
                <a:moveTo>
                  <a:pt x="0" y="0"/>
                </a:moveTo>
                <a:lnTo>
                  <a:pt x="21600" y="0"/>
                </a:lnTo>
                <a:lnTo>
                  <a:pt x="21600" y="28882"/>
                </a:lnTo>
                <a:lnTo>
                  <a:pt x="0" y="28882"/>
                </a:lnTo>
                <a:close/>
              </a:path>
              <a:path fill="lightenLess" w="21600" h="28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82">
                <a:moveTo>
                  <a:pt x="21600" y="0"/>
                </a:moveTo>
                <a:lnTo>
                  <a:pt x="21600" y="28882"/>
                </a:lnTo>
                <a:lnTo>
                  <a:pt x="20200" y="27482"/>
                </a:lnTo>
                <a:lnTo>
                  <a:pt x="20200" y="1400"/>
                </a:lnTo>
                <a:close/>
              </a:path>
              <a:path fill="darkenLess" w="21600" h="28882">
                <a:moveTo>
                  <a:pt x="21600" y="28882"/>
                </a:moveTo>
                <a:lnTo>
                  <a:pt x="0" y="28882"/>
                </a:lnTo>
                <a:lnTo>
                  <a:pt x="1400" y="27482"/>
                </a:lnTo>
                <a:lnTo>
                  <a:pt x="20200" y="27482"/>
                </a:lnTo>
                <a:close/>
              </a:path>
              <a:path fill="lighten" w="21600" h="28882">
                <a:moveTo>
                  <a:pt x="0" y="28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82"/>
                </a:lnTo>
                <a:close/>
              </a:path>
              <a:path fill="darken" w="21600" h="28882">
                <a:moveTo>
                  <a:pt x="10800" y="7478"/>
                </a:moveTo>
                <a:lnTo>
                  <a:pt x="13376" y="10089"/>
                </a:ln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lnTo>
                  <a:pt x="17763" y="14441"/>
                </a:lnTo>
                <a:lnTo>
                  <a:pt x="16109" y="14441"/>
                </a:lnTo>
                <a:lnTo>
                  <a:pt x="16109" y="21630"/>
                </a:lnTo>
                <a:lnTo>
                  <a:pt x="5491" y="21630"/>
                </a:lnTo>
                <a:lnTo>
                  <a:pt x="5491" y="14441"/>
                </a:lnTo>
                <a:lnTo>
                  <a:pt x="3837" y="14441"/>
                </a:lnTo>
                <a:close/>
              </a:path>
              <a:path fill="darkenLess" w="21600" h="28882">
                <a:moveTo>
                  <a:pt x="13376" y="10089"/>
                </a:move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close/>
              </a:path>
              <a:path fill="darkenLess" w="21600" h="28882">
                <a:moveTo>
                  <a:pt x="9877" y="17940"/>
                </a:moveTo>
                <a:lnTo>
                  <a:pt x="11723" y="17940"/>
                </a:lnTo>
                <a:lnTo>
                  <a:pt x="11723" y="21630"/>
                </a:lnTo>
                <a:lnTo>
                  <a:pt x="16109" y="21630"/>
                </a:lnTo>
                <a:lnTo>
                  <a:pt x="16109" y="14441"/>
                </a:lnTo>
                <a:lnTo>
                  <a:pt x="5491" y="14441"/>
                </a:lnTo>
                <a:lnTo>
                  <a:pt x="5491" y="21630"/>
                </a:lnTo>
                <a:lnTo>
                  <a:pt x="9877" y="2163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y bike to school. 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280" y="132408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ride a bike to school.=I go to school by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49560" y="20098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他坐飞机去了北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上午我是坐轿车上班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90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ent to Beijing by pla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63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a plane to Beijing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ent to work by car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ook a car to work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3837"/>
                </a:moveTo>
                <a:lnTo>
                  <a:pt x="14929" y="6448"/>
                </a:ln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lnTo>
                  <a:pt x="19315" y="10800"/>
                </a:lnTo>
                <a:lnTo>
                  <a:pt x="17661" y="10800"/>
                </a:lnTo>
                <a:lnTo>
                  <a:pt x="17661" y="17989"/>
                </a:lnTo>
                <a:lnTo>
                  <a:pt x="7043" y="17989"/>
                </a:lnTo>
                <a:lnTo>
                  <a:pt x="7043" y="10800"/>
                </a:lnTo>
                <a:lnTo>
                  <a:pt x="5389" y="10800"/>
                </a:lnTo>
                <a:close/>
              </a:path>
              <a:path fill="darkenLess" w="24704" h="21600">
                <a:moveTo>
                  <a:pt x="14929" y="6448"/>
                </a:move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close/>
              </a:path>
              <a:path fill="darkenLess" w="24704" h="21600">
                <a:moveTo>
                  <a:pt x="11430" y="14299"/>
                </a:moveTo>
                <a:lnTo>
                  <a:pt x="13275" y="14299"/>
                </a:lnTo>
                <a:lnTo>
                  <a:pt x="13275" y="17989"/>
                </a:lnTo>
                <a:lnTo>
                  <a:pt x="17661" y="17989"/>
                </a:lnTo>
                <a:lnTo>
                  <a:pt x="17661" y="10800"/>
                </a:lnTo>
                <a:lnTo>
                  <a:pt x="7043" y="10800"/>
                </a:lnTo>
                <a:lnTo>
                  <a:pt x="7043" y="17989"/>
                </a:lnTo>
                <a:lnTo>
                  <a:pt x="11430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69560" y="146160"/>
            <a:ext cx="42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mmary wr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9144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writer always gets up late on Sundays. He got up late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nday. Then his aunt Lucy telephoned. She had arrived by train. She was coming to see him. ‘I’m still having breakfast,’he said. His aunt was very surprised. It was one o’cl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(45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tyz</cp:lastModifiedBy>
  <dcterms:modified xsi:type="dcterms:W3CDTF">2003-03-01T08:28:10Z</dcterms:modified>
  <cp:revision>15</cp:revision>
  <dc:subject/>
  <dc:title/>
</cp:coreProperties>
</file>