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0A4-8D75-42F6-995A-EDFC3A07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B61-ECF9-4136-8540-9AFEA63C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785-6BEB-4263-AA9F-3540242E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EEB-2503-4288-AAF4-CDF83828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F4DE-1FBD-4621-884E-10A65E63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1CF7-0F85-44F3-8BDA-218441F2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9260-04F8-4F12-BCF5-4B627438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5D55-FE2A-4832-AD1A-0C181668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3D35-7FB4-4F0E-94AD-BC9AC18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22FF-17D6-4C6A-8D7D-EA98FC41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4680-32AB-4A45-94D3-53B6E133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C3C-2A06-49A1-A407-885ACA02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5FF1-B43F-4C77-9C22-29ABB04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6F3F-DC47-4004-BEBA-E0326FA7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4A4C-45B1-4FC5-9933-8F8A98FF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4C01-D0B9-4B2D-B6E9-2DF312D7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B3F1-C111-4D2D-B138-8B2D5D8B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753-F11D-4BCB-B5ED-3E1FBF4D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69F-A369-4E0F-99D1-10EAEC57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94D-4B95-4082-9228-814CB5D7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EF7-85BF-4A14-A30A-9C923A96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F11-F7ED-4827-9ED9-476EDD79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BA7-A44A-484F-8B9F-82AB5E3A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0E3-5FCD-4FAA-9D7F-3C71916A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426E-461B-44DA-AC28-EEA8D47C29A2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5E80-EA1A-4A28-B3D2-14DA75DCC786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0666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Lesson One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A Private Conversation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NA00864_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25146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01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sk and answer in pair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ere did you go last week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have a good sea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as it an interesting pl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You enjoyed the play, didn’t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o was sitting behind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hear what the actors were say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couldn’t you hear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were they do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get angry with them or no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 then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y didn’t pay any attention, did the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bear i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the young man s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98560" y="609480"/>
            <a:ext cx="7178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Last week---went---thea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enjoy---pla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young man---woman---behind 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alking loud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ould not ---ac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 turned---and looked---angri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pay---atten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the end---couldn’t be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an’t hear---word’---sai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none---business’---man---’private’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id the writer complain to the people behind him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952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mplain (to sb.) about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24200"/>
            <a:ext cx="85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always _________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抱怨天气不好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19051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lains about the bad weat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672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complained that 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屋子里太热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22640" y="3048120"/>
            <a:ext cx="39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om was too ho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343400"/>
            <a:ext cx="844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学生们向老师抱怨作业太多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724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students sometimes complain to the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eachers about too much homework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9700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st week I went to the theatre. I had a very good seat. The play was very interesting. I did not </a:t>
            </a:r>
            <a:r>
              <a:rPr b="0" lang="en-US" sz="3200" spc="-1" strike="noStrike" u="sng">
                <a:solidFill>
                  <a:srgbClr val="bdd7e5"/>
                </a:solidFill>
                <a:uFillTx/>
                <a:latin typeface="Times New Roman"/>
                <a:hlinkClick r:id="rId2" action="ppaction://hlinksldjump"/>
              </a:rPr>
              <a:t>enjoy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it. A young man and a young woman were sitting behind me. They were talking loudly. I got very angry. I could not hear the actors. I turned round. I looked at the man and the woman angrily. They did not pay any attention. In the end, I could not bear it. I turned round again. ‘I can’t hear a word!’ I said angril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‘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t’s none of your business,’ the young man said rudely. “This is a private conversation!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50840" y="552600"/>
            <a:ext cx="504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esel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. enjo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doing)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8380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43200" y="15238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7160" y="2590920"/>
            <a:ext cx="57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he play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alking with him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him. (×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7772400" y="6019920"/>
            <a:ext cx="585720" cy="433440"/>
          </a:xfrm>
          <a:custGeom>
            <a:avLst/>
            <a:gdLst>
              <a:gd name="textAreaLeft" fmla="*/ 28080 w 585720"/>
              <a:gd name="textAreaRight" fmla="*/ 557640 w 585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182" h="21600">
                <a:moveTo>
                  <a:pt x="0" y="0"/>
                </a:moveTo>
                <a:lnTo>
                  <a:pt x="29182" y="0"/>
                </a:lnTo>
                <a:lnTo>
                  <a:pt x="29182" y="21600"/>
                </a:lnTo>
                <a:lnTo>
                  <a:pt x="0" y="21600"/>
                </a:lnTo>
                <a:close/>
              </a:path>
              <a:path fill="lightenLess" w="29182" h="21600">
                <a:moveTo>
                  <a:pt x="0" y="0"/>
                </a:moveTo>
                <a:lnTo>
                  <a:pt x="29182" y="0"/>
                </a:lnTo>
                <a:lnTo>
                  <a:pt x="27782" y="1400"/>
                </a:lnTo>
                <a:lnTo>
                  <a:pt x="1400" y="1400"/>
                </a:lnTo>
                <a:close/>
              </a:path>
              <a:path fill="darken" w="29182" h="21600">
                <a:moveTo>
                  <a:pt x="29182" y="0"/>
                </a:moveTo>
                <a:lnTo>
                  <a:pt x="29182" y="21600"/>
                </a:lnTo>
                <a:lnTo>
                  <a:pt x="27782" y="20200"/>
                </a:lnTo>
                <a:lnTo>
                  <a:pt x="27782" y="1400"/>
                </a:lnTo>
                <a:close/>
              </a:path>
              <a:path fill="darkenLess" w="29182" h="21600">
                <a:moveTo>
                  <a:pt x="29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82" y="20200"/>
                </a:lnTo>
                <a:close/>
              </a:path>
              <a:path fill="lighten" w="29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82" h="21600">
                <a:moveTo>
                  <a:pt x="14591" y="3837"/>
                </a:moveTo>
                <a:lnTo>
                  <a:pt x="17167" y="6448"/>
                </a:ln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lnTo>
                  <a:pt x="21554" y="10800"/>
                </a:lnTo>
                <a:lnTo>
                  <a:pt x="19900" y="10800"/>
                </a:lnTo>
                <a:lnTo>
                  <a:pt x="19900" y="17989"/>
                </a:lnTo>
                <a:lnTo>
                  <a:pt x="9282" y="17989"/>
                </a:lnTo>
                <a:lnTo>
                  <a:pt x="9282" y="10800"/>
                </a:lnTo>
                <a:lnTo>
                  <a:pt x="7628" y="10800"/>
                </a:lnTo>
                <a:close/>
              </a:path>
              <a:path fill="darkenLess" w="29182" h="21600">
                <a:moveTo>
                  <a:pt x="17167" y="6448"/>
                </a:move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close/>
              </a:path>
              <a:path fill="darkenLess" w="29182" h="21600">
                <a:moveTo>
                  <a:pt x="13669" y="14299"/>
                </a:moveTo>
                <a:lnTo>
                  <a:pt x="15514" y="14299"/>
                </a:lnTo>
                <a:lnTo>
                  <a:pt x="15514" y="17989"/>
                </a:lnTo>
                <a:lnTo>
                  <a:pt x="19900" y="17989"/>
                </a:lnTo>
                <a:lnTo>
                  <a:pt x="19900" y="10800"/>
                </a:lnTo>
                <a:lnTo>
                  <a:pt x="9282" y="10800"/>
                </a:lnTo>
                <a:lnTo>
                  <a:pt x="9282" y="17989"/>
                </a:lnTo>
                <a:lnTo>
                  <a:pt x="13669" y="17989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523880"/>
          <a:ext cx="8686800" cy="426744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1640"/>
                <a:gridCol w="1241280"/>
                <a:gridCol w="1241640"/>
                <a:gridCol w="1239840"/>
                <a:gridCol w="1241280"/>
              </a:tblGrid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How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re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ek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n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o the theatr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14600" y="533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 simple statem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79040" y="225360"/>
            <a:ext cx="403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ummary writing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1436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writer went to the theatre last week. He did not enjoy the play. A young man and a young woman were sitting behind him. They were talking loudly. The writer could not hear the actors. He turned round. ‘I can’t hear a word!’ he said. “This is a private conversation!’ the young man sai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55words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3:50:41Z</dcterms:created>
  <dc:creator/>
  <dc:description/>
  <dc:language>en-US</dc:language>
  <cp:lastModifiedBy>st</cp:lastModifiedBy>
  <dcterms:modified xsi:type="dcterms:W3CDTF">2002-07-10T01:35:47Z</dcterms:modified>
  <cp:revision>14</cp:revision>
  <dc:subject/>
  <dc:title>PowerPoint 演示文稿</dc:title>
</cp:coreProperties>
</file>